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dt" idx="1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ftr" idx="1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 type="sldNum" idx="1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C3B2-AEBD-447A-9BB3-8D327449E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E48F-8BC3-4B1C-857F-9B5855A704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4482-F381-49C1-BFCA-A59E76A4B1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BB91-1544-4DB8-AC34-DEB2A93C7E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BDE3-AA4D-4052-8E26-7426E2EF7F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C572-A557-4C77-BC79-6DD34194EA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0658-2D3B-4724-A1CE-BA1DAF091C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EA0D-DF50-4C42-9B89-4D4501AB81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789A-3A4C-4AD4-8C79-B1DF66FE0C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49EE-B013-4C8A-BAF8-658CE5FECF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743A-3734-4F39-9A40-3380D943E8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9BB2-10BB-42C9-885B-B7DB23D3D3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79F4-B2E8-482D-AD18-62A3CA7A40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3E13-84EC-4FB6-9B79-075C775CDA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700 learners used this opportunity in the period 2007 – 20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main obstacles identified were mainly in the time investment of the coordinators and costs of th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 present the preparation of a Flemish Decr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4566-0F2A-4738-B3E3-ADDF449280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st refunded on successful comple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D2B6-593C-4D9A-A2C1-844E635ABC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662D-6E6A-4DC6-85B8-E56DA4AEE3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C0FB-2126-4E56-AD4F-1A244B9FB9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A89F-FF47-4310-B1B9-8D66ABA486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AD57-88F4-45C9-BC7B-6830229E13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F92A-89B2-4D6D-8A18-3090BB1E80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6C29-8ACF-4F75-A745-0045B3FE8A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0B08-67FB-4254-AAF5-28E2281CE4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4E27-42AF-47F4-AC2A-AA44EF3331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CF63-5E63-4C3E-9EB3-BE36E3FA58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484-F6E8-46E0-8C35-D89531E07C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nisterial communiqué : an action line on the institutional level to “encourage knowledge-based alliances in the EHEA, focusing on research and techn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ducation &gt; HAPHE initiative on the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mission and profile of professionally-oriented H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novation &gt; link with UAS – entrepreneurship as a generic skill, student involv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mployability in the LLL context and explore avenues of applying the Commission’s communication on’ Rethinking Education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58EC-3904-40E8-AB6B-0E339ECDDB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8BB3-B804-4971-B5A9-22A63E1AB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504D-EFB4-43B2-A66E-BD954734AC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B9918-806D-460B-9AED-44F6EF6423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E7CAE-145B-4766-89C8-0BD8CD6AAD9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C3AA3-31D9-402B-937A-25A00323CC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6BC43-FFA1-4781-B64C-4762BF3125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2622D0-0D74-40EA-AF10-9329C684322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3593E-89CA-4B03-9BD5-85398E03A8F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E6FA9-9846-4229-906A-23D4C6630C0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335C2-4941-42D2-BD49-C1C3D1962D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3AD35B-CFD1-4DC4-B87A-510C5D0EB09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7E322-DEAE-42CA-B458-0FF1C1116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E392-5461-40E3-B955-8CEAC7E7E5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8F853-F320-4E2A-995A-4E6EF66AE88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173B2-B03E-485A-8E4A-E852901749E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36946-23D0-409B-93CA-E98AE39900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499B9-ADC4-4E5A-881D-55C20C1B10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9134D-E68E-4032-8719-7777F66FF91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6BBBC-96B8-4730-9BBC-5A0894E04A0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1D4AE-929D-4B7A-A326-26BBDE5C5A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1F652-CAFE-4315-A209-65FC06B5A9B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211E8-DACD-47F2-8654-978D01A53B8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43DB8-F609-416A-AC09-F0F67B103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36A6-7DC5-4E89-8CA4-1B95B7731F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892A7-63B0-4C1C-96C3-F4C94043E46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919C-55CF-48B2-B803-798742B9DFD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C366-43B4-40D3-89C0-A5238CC713D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2909-D987-47D0-8F27-B7725226454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20D4-4863-4219-8471-0DF5E98CAC2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BC05-4CD1-42D0-91D1-BE0A9F5CA4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AE42-B8EE-4EED-A834-A7F5C7CF332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BB06-1235-462B-990F-8CD7A57DC99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17EA-8944-4C4F-A5B7-C02EE1B62E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5320-1FCF-450F-82A1-62E4D81EA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DEF1-3966-471E-B20D-4E11920B28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A481-E168-4703-B273-B0ED51B2826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7D62-7106-40A8-84A0-7078E22968C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1A1F0-1FEC-4861-9D94-D3E19C05B20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407BB-DD05-4C43-A7B6-5F7A5057191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5FAC4-71A4-4F8E-9081-31588CB4690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72AC9-1B11-4F1B-AD0A-678E372AF89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654B0-10FA-47D6-AF5C-EE783275D2D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B3AE2-B31A-46B7-A333-6602E7E64D7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5A0BD-43FE-4E5C-818D-8175F98FFD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45495-B5C0-461A-8FCE-5CD1FD399B3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ED109-A32F-4426-B15C-76AAC62A538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90398-9485-441F-8A19-8AEFB359BC0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D0B4A-680F-43C4-AB51-123161B00C8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EED8D-BE45-498A-AAB3-3963FF46B4A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F27ED-CBC3-47AF-9ACF-244F6073DB1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95ED4-E9C5-49CB-A7E5-CCDCBF0F90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A2646-1BB8-48EF-A1E3-F5F3B88CE79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D60DD-086F-411F-BD5E-80D4B24B7F2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366F6-8B4A-4BB5-A7CC-479BBE3207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93A66-09A4-435A-9508-4A3B2863EB4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669D4-2D15-423F-A1D9-EE0A611EC5E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82A62-C646-4AAC-A7B2-1C91A6C4210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DE6F1-FCA0-416E-AD64-770326F5B3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FF083-EDB6-4E34-A3F5-AEEB8E028BD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7D3CA-AA09-46E4-AC6B-B7F2E75B0CC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3E3FB-DC3E-456A-9B1C-275AF618C13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1188-5AA6-4BAD-9AF6-0A76C6A3B1D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2C1E-D702-4253-A5A9-706F39504EE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723B-EF6D-4C85-9B05-07F5BF34DE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13EE-5508-4D4B-B696-A8459CB2743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6FBA-EFDC-407F-8150-064087AA4E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110B-9C39-48ED-BDA7-FB826E6E9AB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04B4B-18ED-421C-9921-52769E38BE6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B9DB-5FC3-49C6-982D-6B228262786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D600-68E1-4736-9172-05BB92B081D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6239-2CAB-46EF-A84F-86E4FBB96F3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9088-D046-49D5-8CA2-EC38D041720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73605-285F-4697-A9AF-3FD7DCAD796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57C583-0668-40A9-89BD-F41CA2928E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48257F-4252-4162-9501-590961B45FB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E3537D-CE00-41F1-B7E9-AA7EF3794BB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D96AA-D834-4EE7-8B3F-472532E243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076E2-41FF-49F6-9B7A-6B43A710F6C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CA97C0-EDB0-4352-8C79-51075D97929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A09E4B-DCDE-4F4B-B32F-6B1D315E96B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0A10DE-F19B-46F6-AC08-0EBD3082F51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14B30E-B131-4589-A1E6-BC2DC09453D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51502-B5D5-4E81-A8F0-D5670A6B1D0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204D92-741E-4599-BB92-603F26F59C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E6F5E5-1827-4670-B2A7-52C03D0CB26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D1CC6-EB38-4913-8524-DE583752275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88957-0DD7-4353-A649-C0C48ED1E2A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D18AB-6A97-445B-92C0-A9CB20EC846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89C52-FCD7-4CCA-BD78-1006E38CF1F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570FA-B3A2-4083-AB24-03D2435B038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16467-33A8-48BB-A80F-665702A6B9C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F4921-8731-425E-89D9-CD3428175B7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59DEF-1CB4-43D6-9197-D7F18BCB709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A5A4C-4953-4918-8971-83D6A71572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BEE08-B7FA-4F70-8331-0F469DF7C14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76F5C-A791-4588-BCAF-525CC114D0B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2FA19-E8C2-4BB1-A7E5-47EC355CA38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715C-AE2E-4BE9-95C6-4414342989F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6D804-E1F5-4BBC-9E3F-C8A78879BE1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44CD6-9E11-4BCB-98E2-4C0966A1C4A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F04EE-55C2-43AC-8D5B-AC2C8211E3F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A9962-D296-4D81-A827-3C22F7E36CC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230EF-FBB4-4D22-A278-01494E7C2AD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AF82C-DD08-4DD6-9F7A-81E350F85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14D3-E3E1-4BB7-9242-1414DEE1A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DE5D9-5840-4728-A144-D7857F9D49D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5B000-1128-4C77-8B9B-9DE35C9E710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4D4F0-F710-49C2-8C30-F4967BD98FF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CEFFB-EA4B-4B7A-A186-9FDCB0B65DD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0797-B0E8-43C1-944B-A210E14DDE2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B452E-1294-4A12-AE5C-54ADF316C0B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E39758-E0F7-4380-BB87-D6FD06B6E08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ED567A-A215-419D-A2C4-87429D96FA7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81FBA2-1684-454B-B5CC-69EEC11109B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12143A-83BD-4DFA-BE7E-D912F70562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13876B-6FE9-4AB5-8E2F-B899A7997DC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435561-4EAD-4FA2-80D8-8C83FAE3D24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C67DFC-735D-4917-AA40-78E66A89151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B951FC-625C-4103-977C-0EAAE328178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8D81CB-E0C7-4EDC-9A46-F72A19228DF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CB6D5-068C-408B-9762-323895F697D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BEE216-177A-4A75-9028-647A76112F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2B5EE-6CDD-43CA-A786-19B3C38061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303C-6D04-4D7D-9FBF-FDE23AB546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DFBA-5880-47ED-B79D-4F629D118C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272F-2D22-433E-83E3-F7FFD5B3A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301E-3912-4F11-B304-F62BDBE752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D2F0-D200-430B-853C-7EEA026191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19FD-83F9-4FCF-8926-AC7C55AF75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AB11D-2CAF-42A2-8202-672C09B423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C945-1EC7-4404-8C71-3941281461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7E95-1F94-49B8-9316-86E77726C4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9215-ADAD-467F-AAF5-1E780DDA24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0993-DD7B-4CF9-958A-4E0A29F266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4DBC-C3E1-4D18-8326-AF7D77C81C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29DF-FA87-4F74-B226-33CCDED3CE0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B66-2B75-4B4A-BBC7-720C2E34C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6314-32B7-48BB-BEFE-C9AF699A7A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4E5-3B6B-40D9-A876-E5700EB583A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B03-D4F9-4B1B-A625-C1C14D5038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AFF-55C1-4FE8-AAD3-F8B5432607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A3D-D561-43C2-8741-05B3E32475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4E0-911E-4860-B079-E837DC8EC06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423-85D9-49E7-BF1D-CD599F76956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C87-42AA-4B91-97D9-4BE455693D0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063-29E1-4761-9870-01F9B34A21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B02-0E32-4C0A-9FFE-F5340E676F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83F-B3CB-44EB-9AFE-E0DD04AF8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2A83-7B69-4C73-A922-FBACA2428C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F44-8F24-46C7-9227-1B7A877C74C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67873-6F11-473A-9780-8BA8ABD3D7E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375DC-1D86-4A12-924A-4406C22A11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3A8F5-9EBC-419E-83D0-59DC3570B3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B0FD2-B693-4A4D-94DA-AED2F0B412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6E1A4-03C4-4FC2-A7FD-2B68BB6D15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7FA4F-440D-4146-810D-739EDE3B55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DB26B-1FFD-44EB-BABC-ACCA9664EA1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91E45-D24C-43FB-B5B9-7F97B4A59E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6509E-37B3-4E54-B558-19D6C6776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2CB7-A7D1-4AAD-A4EB-327E502EA4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20439-F643-416A-A288-42B510E89F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2ECB1-EEA3-485F-A36D-C7ACBA5047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999F0-DC76-455E-8CCF-6261D97733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52AD7-A9DF-4EF2-9320-88C00CD419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10A9E-4EA7-4197-869B-34FF0C961F5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8501F-0FC1-4D59-B8F5-C947F5E347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65AAC-110C-429B-B1F1-12A483C92D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19CE5-C09A-48D6-8522-1246242CFA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D8C6C-336A-4ECB-B28E-A4B4F915E90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47EBC-5F59-4AF9-8E8E-3F977DA06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4AC9-6B8A-4946-8525-8A35BF5B4E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7CFF5-D7C4-43C0-A602-B71D16E46A5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4F0D9-6045-4C82-976A-29CF4839C81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ECC20-CB6E-4390-9DBF-37207DFBFA0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08334-BB99-4E93-BFFA-CA36F8C005C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2651C-D501-4FB7-B61C-5A8BB90B436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E879-5797-496A-BAFC-8A7A5C1579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EEF4-0F3B-42B1-B1CF-F665EF648C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2809-698E-4682-A5CC-4492157F555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2385-6D77-498C-876E-C5525FC5082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5260-5B2C-4EF8-8BE7-B143E3D09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9BA6-326D-441E-B1F2-5EEEEAEA080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68515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EA77-4E56-40B9-8417-D1673FF223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94FE-BB14-4085-86DC-A390276743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47EA-F93D-4D4C-AC34-F83A2AF4F3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53E1-4E46-4B94-81CE-DE642E1B27C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0764-A9F3-40C1-8C32-9DB67C80AA3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5C98-86BF-4862-AEDF-1E5E5AFC29C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B32B-D186-4364-8EDC-B8C8989009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F05BD-4D9F-4CFB-A249-320BC98A41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4EC97-C328-419D-8AF2-C0837A4126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3FB65-AD7E-4D3D-8A1E-68ADE722C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twitter.com/eurashe" TargetMode="External"/><Relationship Id="rId6" Type="http://schemas.openxmlformats.org/officeDocument/2006/relationships/hyperlink" Target="http://www.facebook.com/eurashe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5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605A-10D7-4028-AD5A-E4910D6AE15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8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4704-D754-4226-98CD-7BDB3C90F38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467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9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10B0-F643-4094-9AD6-B5D53438F77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10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A948-6B0E-4105-B0CC-10C441208FF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559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11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AF11-A1EE-43B6-B409-BF8BE18A36C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605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2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8AC4-C468-42EE-AA4B-575984F604F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651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13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C778-2E2E-4FA1-A829-B12BDC08B36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697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14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783-8BC0-402F-8E0B-6D4209B54AB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743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15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32B-58E2-4116-BBF5-B33DD8E5EFE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7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789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sldNum" idx="16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6820-AE83-4FEE-8632-3CD76FE61AE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alexandre\Desktop\PPT DESIGN\background_PPT.png"/>
          <p:cNvPicPr/>
          <p:nvPr/>
        </p:nvPicPr>
        <p:blipFill>
          <a:blip r:embed="rId5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2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3FA-9B0E-415A-A6C7-E0FD7BB3F87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3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E098-AF27-4C7F-BF42-B57EE267019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4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3382-D201-449E-BCEA-DBE886A599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0"/>
          <p:cNvSpPr/>
          <p:nvPr/>
        </p:nvSpPr>
        <p:spPr>
          <a:xfrm>
            <a:off x="611280" y="1547640"/>
            <a:ext cx="396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Calibri"/>
              </a:rPr>
              <a:t>More Information on the European Association of Institutions in Highe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04068"/>
                </a:solidFill>
                <a:latin typeface="Calibri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4068"/>
                </a:solidFill>
                <a:latin typeface="Calibri"/>
              </a:rPr>
              <a:t>www.eurashe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04068"/>
                </a:solidFill>
                <a:latin typeface="Calibri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4068"/>
                </a:solidFill>
                <a:latin typeface="Calibri"/>
              </a:rPr>
              <a:t>eurashe@eurashe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04068"/>
                </a:solidFill>
                <a:latin typeface="Calibri"/>
              </a:rPr>
              <a:t>Brussels 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4068"/>
                </a:solidFill>
                <a:latin typeface="Calibri"/>
              </a:rPr>
              <a:t>Tel:  0032 (0)2 211 41 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4068"/>
                </a:solidFill>
                <a:latin typeface="Calibri"/>
              </a:rPr>
              <a:t>Fax: 0032 (0)2 211 41 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4859280" y="1546200"/>
            <a:ext cx="3960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04068"/>
                </a:solidFill>
                <a:latin typeface="Calibri"/>
              </a:rPr>
              <a:t>More ways to stay in touch with Professional Highe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2060"/>
                </a:solidFill>
                <a:uFillTx/>
                <a:latin typeface="Calibri"/>
                <a:hlinkClick r:id="rId5"/>
              </a:rPr>
              <a:t>www.twitter.com/eurashe</a:t>
            </a:r>
            <a:r>
              <a:rPr b="0" lang="en-GB" sz="2000" spc="-1" strike="noStrike">
                <a:solidFill>
                  <a:srgbClr val="104068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2060"/>
                </a:solidFill>
                <a:uFillTx/>
                <a:latin typeface="Calibri"/>
                <a:hlinkClick r:id="rId6"/>
              </a:rPr>
              <a:t>www.facebook.com/eurashe</a:t>
            </a:r>
            <a:r>
              <a:rPr b="0" lang="en-GB" sz="2000" spc="-1" strike="noStrike">
                <a:solidFill>
                  <a:srgbClr val="104068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Users\alexandre\Desktop\PPT DESIGN\twitter_logo.png"/>
          <p:cNvPicPr/>
          <p:nvPr/>
        </p:nvPicPr>
        <p:blipFill>
          <a:blip r:embed="rId7"/>
          <a:stretch/>
        </p:blipFill>
        <p:spPr>
          <a:xfrm>
            <a:off x="4392720" y="4005360"/>
            <a:ext cx="358560" cy="360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alexandre\Desktop\PPT DESIGN\facebook_logo.jpg"/>
          <p:cNvPicPr/>
          <p:nvPr/>
        </p:nvPicPr>
        <p:blipFill>
          <a:blip r:embed="rId8"/>
          <a:stretch/>
        </p:blipFill>
        <p:spPr>
          <a:xfrm>
            <a:off x="4392720" y="4581360"/>
            <a:ext cx="358560" cy="3603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5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3D1A-603F-4C23-AF09-26A97450474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Users\alexandre\Desktop\PPT DESIGN\final_background_PPT.png"/>
          <p:cNvPicPr/>
          <p:nvPr/>
        </p:nvPicPr>
        <p:blipFill>
          <a:blip r:embed="rId5"/>
          <a:srcRect l="588" t="0" r="588" b="0"/>
          <a:stretch/>
        </p:blipFill>
        <p:spPr>
          <a:xfrm>
            <a:off x="0" y="189000"/>
            <a:ext cx="9144000" cy="66816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6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53D2-2A0D-453C-8629-26E1B10C752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6" descr="Presentation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0" y="620640"/>
            <a:ext cx="9144000" cy="86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"/>
          <p:cNvPicPr/>
          <p:nvPr/>
        </p:nvPicPr>
        <p:blipFill>
          <a:blip r:embed="rId3"/>
          <a:stretch/>
        </p:blipFill>
        <p:spPr>
          <a:xfrm>
            <a:off x="7524720" y="620640"/>
            <a:ext cx="1387440" cy="8668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8"/>
          <p:cNvSpPr/>
          <p:nvPr/>
        </p:nvSpPr>
        <p:spPr>
          <a:xfrm>
            <a:off x="453960" y="6520320"/>
            <a:ext cx="14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ww.eurashe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108000" y="115920"/>
            <a:ext cx="590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4068"/>
                </a:solidFill>
                <a:latin typeface="Calibri"/>
              </a:rPr>
              <a:t>Supporting Professional Higher Education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oneTexte 3"/>
          <p:cNvSpPr/>
          <p:nvPr/>
        </p:nvSpPr>
        <p:spPr>
          <a:xfrm>
            <a:off x="2700360" y="65358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FUG – WG on LLL &amp; SD – Dublin – 17 April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0" descr="BP_mic.jpg"/>
          <p:cNvPicPr/>
          <p:nvPr/>
        </p:nvPicPr>
        <p:blipFill>
          <a:blip r:embed="rId4"/>
          <a:stretch/>
        </p:blipFill>
        <p:spPr>
          <a:xfrm>
            <a:off x="0" y="5538960"/>
            <a:ext cx="669960" cy="914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6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040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7"/>
          </p:nvPr>
        </p:nvSpPr>
        <p:spPr>
          <a:xfrm>
            <a:off x="683064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0826-C249-4051-858B-E0A93B4E978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4068"/>
                </a:solidFill>
                <a:latin typeface="Arial"/>
              </a:rPr>
              <a:t>BFUG - WG on LLL &amp; SD</a:t>
            </a:r>
            <a:br>
              <a:rPr sz="2800"/>
            </a:br>
            <a:r>
              <a:rPr b="0" lang="en-GB" sz="2800" spc="-1" strike="noStrike">
                <a:solidFill>
                  <a:srgbClr val="104068"/>
                </a:solidFill>
                <a:latin typeface="Arial"/>
              </a:rPr>
              <a:t>Information on EURASHE’s</a:t>
            </a:r>
            <a:br>
              <a:rPr sz="2800"/>
            </a:br>
            <a:r>
              <a:rPr b="0" lang="en-GB" sz="2800" spc="-1" strike="noStrike">
                <a:solidFill>
                  <a:srgbClr val="104068"/>
                </a:solidFill>
                <a:latin typeface="Arial"/>
              </a:rPr>
              <a:t>Seminar on Recognition of Prior Learning </a:t>
            </a:r>
            <a:br>
              <a:rPr sz="2800"/>
            </a:br>
            <a:r>
              <a:rPr b="0" lang="en-GB" sz="2000" spc="-1" strike="noStrike">
                <a:solidFill>
                  <a:srgbClr val="104068"/>
                </a:solidFill>
                <a:latin typeface="Arial"/>
              </a:rPr>
              <a:t>Prague, December 2012</a:t>
            </a:r>
            <a:br>
              <a:rPr sz="2800"/>
            </a:br>
            <a:endParaRPr b="0" lang="en-US" sz="20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0" y="465300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f497d"/>
                </a:solidFill>
                <a:latin typeface="Arial"/>
              </a:rPr>
              <a:t>Stéphane Lauwick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1f497d"/>
                </a:solidFill>
                <a:latin typeface="Arial"/>
              </a:rPr>
              <a:t>Eurashe Board Mem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1f497d"/>
                </a:solidFill>
                <a:latin typeface="Arial"/>
              </a:rPr>
              <a:t>Director, The Institute of Technology, University of Le Hav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1f497d"/>
                </a:solidFill>
                <a:latin typeface="Arial"/>
              </a:rPr>
              <a:t>Sour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1f497d"/>
                </a:solidFill>
                <a:latin typeface="Arial"/>
              </a:rPr>
              <a:t>Stefan Delpl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1f497d"/>
                </a:solidFill>
                <a:latin typeface="Arial"/>
              </a:rPr>
              <a:t>Michal Karpíš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1f497d"/>
                </a:solidFill>
                <a:latin typeface="Arial"/>
              </a:rPr>
              <a:t>Iva Volda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Espace réservé du numéro de diapositive 4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5A4C-595B-4742-A6FD-C5B3D6F79D5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610920" y="2349360"/>
            <a:ext cx="806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Annual conference </a:t>
            </a:r>
            <a:r>
              <a:rPr b="0" i="1" lang="fr-FR" sz="3200" spc="-1" strike="noStrike">
                <a:solidFill>
                  <a:srgbClr val="104068"/>
                </a:solidFill>
                <a:latin typeface="Calibri"/>
              </a:rPr>
              <a:t>Making the Knowledge Triangle Work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, Split (HR), 8 May 2013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Seminar on QA and ESG (CY)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Seminar on RPL (CZ)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EURASHE’s Seminar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69" name="Espace réservé du numéro de diapositive 6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6290-D4BC-4BFA-AF89-7529C3313B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610920" y="2492280"/>
            <a:ext cx="7427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Challenges on RPL: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A mindshift needed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Embed RPL into QA system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Context 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72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Espace réservé du pied de page 4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C47E-6727-47DF-8F62-C360D50766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611280" y="2492280"/>
            <a:ext cx="84247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Challenges on RPL: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A mindshift needed &gt; plenary session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Embed RPL into QA systems &gt; parallel workshop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Context 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77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Espace réservé du pied de page 4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B2F-BBF1-4958-80FB-57A25F4026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610920" y="1989000"/>
            <a:ext cx="7427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Overview of general developments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to discuss the current challenges 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best practices for RPL implementation at institutional level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Aims 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82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34A1-EBC5-491F-AA21-10EA20BBF2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611280" y="1989000"/>
            <a:ext cx="7921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Developing tools of RP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Discusing acceptance within EHEA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Learning about institutional approache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Bridge them for compatibility and transparency 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Promoting RPL procedures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trustable / effective / payable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Aims 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86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496C-968E-482B-BB88-B08DFEA647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611280" y="1989000"/>
            <a:ext cx="7921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Two groups of states: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building their RPL system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No lifelong learning concept,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04068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uneven accessibility of RPL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4 states have a full system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7 states have an advanced system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Aims 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90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BEDB-F045-47E4-828C-DB00D86660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611280" y="1989000"/>
            <a:ext cx="7921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Tools: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qualification frameworks based on learning outcome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Diploma Supplement and Europas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ECT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RPL accepted where procedures exis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Who bears the cost?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Mindshift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94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44A5-19BE-4EF3-A263-4A5E31B6CB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611280" y="1989000"/>
            <a:ext cx="7921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IE: Letterkenny I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RPL to enter formal training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RPL to awards credit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Tool: Portfolio of evidenc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400+ candidates/year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Institution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98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6533-5B92-4897-9E78-DEA53D25BA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611280" y="198900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FR: RPL in universitie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a right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“</a:t>
            </a:r>
            <a:r>
              <a:rPr b="0" i="1" lang="fr-FR" sz="2800" spc="-1" strike="noStrike">
                <a:solidFill>
                  <a:srgbClr val="104068"/>
                </a:solidFill>
                <a:latin typeface="Calibri"/>
              </a:rPr>
              <a:t>third way</a:t>
            </a: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” 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new paradigm links QA / quality assurance, competence-based definition / individual assessment. 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From institution-centred process to candidate-centred assessmen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Institution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02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80C8-14FF-409C-A4EA-626088B2BE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611280" y="198900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Conditions: stakeholders and society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Trust assessment methods 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Accept the results of procedures. 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Wide range of types of evidenc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Match formal qualifications requirements;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Guidance and counselling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Reports: substantiated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QA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06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D02E-876D-4952-8BEB-B86FF96DA5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684000" y="1989000"/>
            <a:ext cx="7427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4068"/>
                </a:solidFill>
                <a:latin typeface="Calibri"/>
              </a:rPr>
              <a:t>EURASHE’s mission is to promote the interests of professional higher education in the EHEA and to contribute to the progressive development of the Area of Higher Education and Research (EHERA)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4068"/>
                </a:solidFill>
                <a:latin typeface="Calibri"/>
              </a:rPr>
              <a:t>1400 institutions / system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Policy formulation as regards P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EURASHE’s Mission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44" name="Espace réservé du numéro de diapositive 6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CAE8-0F04-4078-9B8A-D53DB3D4EC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611280" y="198900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QA systems: accountability of awarding agency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HEI: flexible learning arrangement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Assistance: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104068"/>
                </a:solidFill>
                <a:latin typeface="Wingdings"/>
                <a:ea typeface="Wingdings"/>
              </a:rPr>
              <a:t></a:t>
            </a:r>
            <a:r>
              <a:rPr b="0" i="1" lang="fr-FR" sz="3200" spc="-1" strike="noStrike">
                <a:solidFill>
                  <a:srgbClr val="104068"/>
                </a:solidFill>
                <a:latin typeface="Calibri"/>
              </a:rPr>
              <a:t> </a:t>
            </a:r>
            <a:r>
              <a:rPr b="0" i="1" lang="fr-FR" sz="3200" spc="-1" strike="noStrike">
                <a:solidFill>
                  <a:srgbClr val="104068"/>
                </a:solidFill>
                <a:latin typeface="Calibri"/>
              </a:rPr>
              <a:t>UNESCO GUIDELINES for the Recognition, Validation and Accreditation of the Outcomes of Non-formal and Informal Learning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QA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10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BD64-ABCC-4F24-949A-FDA438993C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611280" y="198900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Leuven University College (KHLeuven)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&gt; RPL Provisions driven by shortage of teacher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Competence profile for teacher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E-portofolio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exemption and award of credits: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040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04068"/>
                </a:solidFill>
                <a:latin typeface="Calibri"/>
              </a:rPr>
              <a:t>recognition often combined with practice </a:t>
            </a:r>
            <a:endParaRPr b="0" lang="en-US" sz="24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040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04068"/>
                </a:solidFill>
                <a:latin typeface="Calibri"/>
              </a:rPr>
              <a:t>work placement</a:t>
            </a:r>
            <a:endParaRPr b="0" lang="en-US" sz="2400" spc="-1" strike="noStrike">
              <a:solidFill>
                <a:srgbClr val="1040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040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04068"/>
                </a:solidFill>
                <a:latin typeface="Calibri"/>
              </a:rPr>
              <a:t>study</a:t>
            </a:r>
            <a:endParaRPr b="0" lang="en-US" sz="24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</a:t>
            </a:r>
            <a:r>
              <a:rPr b="0" lang="en-GB" sz="4000" spc="-1" strike="noStrike">
                <a:solidFill>
                  <a:srgbClr val="104068"/>
                </a:solidFill>
                <a:latin typeface="Calibri"/>
              </a:rPr>
              <a:t>QA best practice</a:t>
            </a:r>
            <a:endParaRPr b="0" lang="en-US" sz="40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14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3DBC-FB01-461C-BD22-22AF19DB39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611280" y="198900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Dublin I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Condition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nationally: NQF with established QA procedure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institutional level: a firm decision to implement quality assured RPL + an RPL policy officer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104068"/>
                </a:solidFill>
                <a:latin typeface="Calibri"/>
              </a:rPr>
              <a:t>mutual agreement,</a:t>
            </a: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 </a:t>
            </a:r>
            <a:r>
              <a:rPr b="0" i="1" lang="fr-FR" sz="2800" spc="-1" strike="noStrike">
                <a:solidFill>
                  <a:srgbClr val="104068"/>
                </a:solidFill>
                <a:latin typeface="Calibri"/>
              </a:rPr>
              <a:t>transparency, accuracy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</a:t>
            </a:r>
            <a:r>
              <a:rPr b="0" lang="en-GB" sz="4000" spc="-1" strike="noStrike">
                <a:solidFill>
                  <a:srgbClr val="104068"/>
                </a:solidFill>
                <a:latin typeface="Calibri"/>
              </a:rPr>
              <a:t>QA best practice</a:t>
            </a:r>
            <a:endParaRPr b="0" lang="en-US" sz="40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18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C9A9-A241-4F46-951A-34D4007C74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611280" y="198900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QAA Scotland + Glasgow Caledonian University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 </a:t>
            </a:r>
            <a:r>
              <a:rPr b="0" i="1" lang="fr-FR" sz="3200" spc="-1" strike="noStrike">
                <a:solidFill>
                  <a:srgbClr val="104068"/>
                </a:solidFill>
                <a:latin typeface="Calibri"/>
              </a:rPr>
              <a:t>Scottish Higher Education Institutions RPL Network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Funded by Scottish gov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flexible and learner-centred programme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widening access to higher education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</a:t>
            </a:r>
            <a:r>
              <a:rPr b="0" lang="en-GB" sz="4000" spc="-1" strike="noStrike">
                <a:solidFill>
                  <a:srgbClr val="104068"/>
                </a:solidFill>
                <a:latin typeface="Calibri"/>
              </a:rPr>
              <a:t>QA best practice</a:t>
            </a:r>
            <a:endParaRPr b="0" lang="en-US" sz="40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22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3F21-8C9B-45BA-BF97-36C412315C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611280" y="198900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a change in perception? Yes!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RPL addresses: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shortage of expertise 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promote better employability of </a:t>
            </a:r>
            <a:r>
              <a:rPr b="0" i="1" lang="fr-FR" sz="2800" spc="-1" strike="noStrike">
                <a:solidFill>
                  <a:srgbClr val="104068"/>
                </a:solidFill>
                <a:latin typeface="Calibri"/>
              </a:rPr>
              <a:t>ALL</a:t>
            </a: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 citizen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BUT Reality is modest: cultural, political and technical issue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</a:t>
            </a:r>
            <a:r>
              <a:rPr b="0" lang="en-GB" sz="3600" spc="-1" strike="noStrike">
                <a:solidFill>
                  <a:srgbClr val="104068"/>
                </a:solidFill>
                <a:latin typeface="Calibri"/>
              </a:rPr>
              <a:t>Recommendations</a:t>
            </a:r>
            <a:endParaRPr b="0" lang="en-US" sz="36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26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280-1AED-4DAB-A564-8C09F75989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611280" y="198900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RPL and QA linked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reliability of process / trust / training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NQF not defined everywher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</a:t>
            </a:r>
            <a:r>
              <a:rPr b="0" lang="en-GB" sz="3600" spc="-1" strike="noStrike">
                <a:solidFill>
                  <a:srgbClr val="104068"/>
                </a:solidFill>
                <a:latin typeface="Calibri"/>
              </a:rPr>
              <a:t>Recommendations</a:t>
            </a:r>
            <a:endParaRPr b="0" lang="en-US" sz="36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30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2D68-3F91-4B90-A54E-78DDC47AAA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611280" y="1989000"/>
            <a:ext cx="853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Is RPL equally relevant for all institutions and degree programmes?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Uncertain result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Objectivenes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RPL fit for purpose or on whole qualifications?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Literature insufficiently adapted to Nal context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685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RPL Seminar: </a:t>
            </a:r>
            <a:r>
              <a:rPr b="0" lang="en-GB" sz="3600" spc="-1" strike="noStrike">
                <a:solidFill>
                  <a:srgbClr val="104068"/>
                </a:solidFill>
                <a:latin typeface="Calibri"/>
              </a:rPr>
              <a:t>Recommendations</a:t>
            </a:r>
            <a:endParaRPr b="0" lang="en-US" sz="36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934" name="ZoneTexte 3"/>
          <p:cNvSpPr/>
          <p:nvPr/>
        </p:nvSpPr>
        <p:spPr>
          <a:xfrm>
            <a:off x="8724960" y="669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Espace réservé du numéro de diapositive 5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0932-CD3A-43B2-A565-28D61BDFD6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Espace réservé du numéro de diapositive 3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8D2-34C5-4FD6-A00A-359FE1E7143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Image 4" descr="Globe Eurashe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684000" y="1628640"/>
            <a:ext cx="806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62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Flexible diversified HE systems 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05280" indent="-305280">
              <a:spcBef>
                <a:spcPts val="162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Quality, transparency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05280" indent="-305280">
              <a:spcBef>
                <a:spcPts val="162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LLL – aspect of PHE mission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05280" indent="-305280">
              <a:spcBef>
                <a:spcPts val="162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QF &amp; LO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05280" indent="-305280">
              <a:spcBef>
                <a:spcPts val="162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RPL, (coordination &amp; transparency)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05280" indent="-305280">
              <a:spcBef>
                <a:spcPts val="162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Promoting employability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05280" indent="-305280">
              <a:spcBef>
                <a:spcPts val="162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Role of applied research, (innovation)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05280" indent="-305280">
              <a:spcBef>
                <a:spcPts val="162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Regional development &amp; communication with employers &amp; other stakeholders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EURASHE’s Key Policy Issue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47" name="Espace réservé du numéro de diapositive 6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8675-569A-4323-A1CD-0BD936C9F8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610920" y="2349360"/>
            <a:ext cx="806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L5: Missing Link &gt; Mapping Short Cycle 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FLLLEX &gt; LLL strategies and P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HAPHE &gt; Harmonizing approaches to P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EURASHE’s Activitie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50" name="Espace réservé du numéro de diapositive 6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8A9D-1251-4A7F-9AEC-79F13C5CCB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610920" y="2349360"/>
            <a:ext cx="806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L5: Missing Link &gt; Mapping Short Cycle 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FLLLEX &gt; LLL strategies and P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HAPHE &gt; Harmonizing approaches to P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EHEA has harmonised HE vs. PHE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4068"/>
                </a:solidFill>
                <a:latin typeface="Calibri"/>
              </a:rPr>
              <a:t>Wide variety of systems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4068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104068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04068"/>
                </a:solidFill>
                <a:latin typeface="Calibri"/>
              </a:rPr>
              <a:t>Recognition of Q ?/ Policy tools ?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EURASHE’s Activitie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53" name="Espace réservé du numéro de diapositive 6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EBDA-6B08-4359-B355-D3EDB2FE34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610920" y="2349360"/>
            <a:ext cx="806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L5: Missing Link &gt; Mapping Short Cycle 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FLLLEX &gt; LLL strategies and P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HAPHE &gt; Harmonizing approaches to PHE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4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04068"/>
                </a:solidFill>
                <a:latin typeface="Calibri"/>
              </a:rPr>
              <a:t>Survey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4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4068"/>
                </a:solidFill>
                <a:latin typeface="Calibri"/>
              </a:rPr>
              <a:t>Define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4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4068"/>
                </a:solidFill>
                <a:latin typeface="Calibri"/>
              </a:rPr>
              <a:t>Propose quality criteria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4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4068"/>
                </a:solidFill>
                <a:latin typeface="Calibri"/>
              </a:rPr>
              <a:t>Collect best practice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4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4068"/>
                </a:solidFill>
                <a:latin typeface="Calibri"/>
              </a:rPr>
              <a:t>Suggest methodology to strengthen</a:t>
            </a: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EURASHE’s Activitie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56" name="Espace réservé du numéro de diapositive 6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6CB-D8FA-4D19-B835-3EBD7E2E96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610920" y="2349360"/>
            <a:ext cx="806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Annual conference </a:t>
            </a:r>
            <a:r>
              <a:rPr b="0" i="1" lang="fr-FR" sz="3200" spc="-1" strike="noStrike">
                <a:solidFill>
                  <a:srgbClr val="104068"/>
                </a:solidFill>
                <a:latin typeface="Calibri"/>
              </a:rPr>
              <a:t>Making the Knowledge Triangle Work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, Split (HR), 8 May 2013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Quality Assurance &amp; ESG, Nicosia (CY), 9/2012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RPL Seminar, Prague (CZ), 12/2012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EURASHE’s Activitie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59" name="Espace réservé du numéro de diapositive 6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DD2-8112-47F1-B6CD-F5B2C92D37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610920" y="2349360"/>
            <a:ext cx="806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Annual conference </a:t>
            </a:r>
            <a:r>
              <a:rPr b="0" i="1" lang="fr-FR" sz="3200" spc="-1" strike="noStrike">
                <a:solidFill>
                  <a:srgbClr val="104068"/>
                </a:solidFill>
                <a:latin typeface="Calibri"/>
              </a:rPr>
              <a:t>Making the Knowledge Triangle Work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, Split (HR), 8 May 2013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EURASHE’s Activitie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62" name="Espace réservé du numéro de diapositive 6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4850-FD9D-40B2-8529-9F2C607DB9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610920" y="2349360"/>
            <a:ext cx="806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40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Annual conference </a:t>
            </a:r>
            <a:r>
              <a:rPr b="0" i="1" lang="fr-FR" sz="3200" spc="-1" strike="noStrike">
                <a:solidFill>
                  <a:srgbClr val="104068"/>
                </a:solidFill>
                <a:latin typeface="Calibri"/>
              </a:rPr>
              <a:t>Making the Knowledge Triangle Work</a:t>
            </a:r>
            <a:r>
              <a:rPr b="0" lang="fr-FR" sz="3200" spc="-1" strike="noStrike">
                <a:solidFill>
                  <a:srgbClr val="104068"/>
                </a:solidFill>
                <a:latin typeface="Calibri"/>
              </a:rPr>
              <a:t>, Split (HR), 8 May 2013</a:t>
            </a:r>
            <a:endParaRPr b="0" lang="en-US" sz="3200" spc="-1" strike="noStrike">
              <a:solidFill>
                <a:srgbClr val="1040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040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04068"/>
                </a:solidFill>
                <a:latin typeface="Calibri"/>
              </a:rPr>
              <a:t>EURASHE’s Activities</a:t>
            </a:r>
            <a:endParaRPr b="0" lang="en-US" sz="4400" spc="-1" strike="noStrike">
              <a:solidFill>
                <a:srgbClr val="104068"/>
              </a:solidFill>
              <a:latin typeface="Calibri"/>
            </a:endParaRPr>
          </a:p>
        </p:txBody>
      </p:sp>
      <p:sp>
        <p:nvSpPr>
          <p:cNvPr id="865" name="Espace réservé du numéro de diapositive 6"/>
          <p:cNvSpPr/>
          <p:nvPr/>
        </p:nvSpPr>
        <p:spPr>
          <a:xfrm>
            <a:off x="683100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D74F-DA63-445B-9482-CE76709F46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Image 1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30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8:32:36Z</dcterms:created>
  <dc:creator>Stéphane Lauwick</dc:creator>
  <dc:description/>
  <dc:language>en-US</dc:language>
  <cp:lastModifiedBy>BFUG Secretariat Sargsyan</cp:lastModifiedBy>
  <cp:lastPrinted>2012-12-12T12:35:18Z</cp:lastPrinted>
  <dcterms:modified xsi:type="dcterms:W3CDTF">2013-05-03T07:11:57Z</dcterms:modified>
  <cp:revision>167</cp:revision>
  <dc:subject/>
  <dc:title>Rapprochement FC - CFA</dc:title>
</cp:coreProperties>
</file>