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13003213" cy="9752013"/>
  <p:notesSz cx="6670675" cy="9896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6670800" cy="989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Img"/>
          </p:nvPr>
        </p:nvSpPr>
        <p:spPr>
          <a:xfrm>
            <a:off x="861480" y="742680"/>
            <a:ext cx="4945320" cy="370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8"/>
          </p:nvPr>
        </p:nvSpPr>
        <p:spPr>
          <a:xfrm>
            <a:off x="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 type="sldNum" idx="9"/>
          </p:nvPr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3CEE-7B62-4A86-B92D-DA4A48F06B84}" type="slidenum">
              <a:rPr b="0" lang="en-GB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5320" cy="37098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54EB-6042-4A05-BEDB-AE92E4008288}" type="slidenum">
              <a:rPr b="0" lang="en-GB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5320" cy="37098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605C-CF00-4976-A38E-08D0BD4AB404}" type="slidenum">
              <a:rPr b="0" lang="en-GB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5320" cy="37098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5958-F451-4CA9-A0E8-5FBBB5DAC6ED}" type="slidenum">
              <a:rPr b="0" lang="en-GB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5320" cy="37098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AACD-96F9-4EC2-A706-BE976079AF37}" type="slidenum">
              <a:rPr b="0" lang="en-GB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5320" cy="37098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7FDB-6655-44DA-9D98-442B9DC7652D}" type="slidenum">
              <a:rPr b="0" lang="en-GB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5320" cy="37098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C438-23A1-4D03-8AC8-95F166A0DE89}" type="slidenum">
              <a:rPr b="0" lang="en-GB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1626-736F-416B-B43A-C488754F4EBB}" type="slidenum">
              <a:rPr b="0" lang="en-GB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858960" y="743040"/>
            <a:ext cx="4946400" cy="37098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66360" y="4698720"/>
            <a:ext cx="533556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5320" cy="37098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BF9B-2FA5-4C88-9301-C8A375CE2C0E}" type="slidenum">
              <a:rPr b="0" lang="en-GB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5320" cy="37098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A12C-EE31-4C50-AD43-60F51ABAE135}" type="slidenum">
              <a:rPr b="0" lang="en-GB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5320" cy="37098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9BA0-C996-4B89-8D72-4AECB880328B}" type="slidenum">
              <a:rPr b="0" lang="en-GB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992C-CDF6-4DED-ACE8-7D762E6C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404-1B1B-4FEB-A5C6-CAF853BB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BFEB-654E-48F6-87F9-EFF4CF82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72AA-F679-4F67-A97F-34C8A83F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F4D4-F44E-4E04-841C-A2BBEE66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6978-8952-458D-8500-9F0B5E3C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4665-FB72-42DA-B972-2231B52F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82BA-E28B-4885-8244-98CADAED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5BA8-F76F-4BE4-A396-06330A34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5F4D-744F-44AE-A89A-34876358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7185-982F-4F11-A59F-84954E62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9EAE-4EBC-4726-BD32-AA8C230B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E9A0-D879-405C-AB2B-87D56197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FC81-B4FA-4862-9773-C7F95900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90BA-2389-4BAA-9685-2A0BD05D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7DAE-2A13-45BA-BB19-7806C6C2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3F28-3D90-422E-B666-434D72C3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C70B-7D4F-4FC0-A5B0-6912427E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BC4-7C5F-49AD-BCCB-140ED84A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FCB6-60E6-4771-B320-77CFF03C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2D9-593C-454A-BE04-022A9867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91E6-4969-4C3A-87FE-B16191CC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86F-0958-463F-89E9-E553B6D8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8B7-71C6-4163-ABBF-E746FC2C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8A2A-AEC0-4C61-AF1F-22E214AF6EF0}" type="slidenum">
              <a:rPr b="0" lang="en-GB" sz="12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1E18-2193-4E31-97EF-1B9A480B771A}" type="slidenum">
              <a:rPr b="0" lang="en-GB" sz="1200" spc="-1" strike="noStrike">
                <a:solidFill>
                  <a:srgbClr val="898989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a.ie/files/files/file/New_pdf/National_Access_Plan_2008-2013_(English).pdf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555480"/>
            <a:ext cx="633744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  <a:ea typeface="Hypatia Sans Pro"/>
              </a:rPr>
              <a:t>Advancing equality of access to higher education in Ireland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AutoShape 2"/>
          <p:cNvSpPr/>
          <p:nvPr/>
        </p:nvSpPr>
        <p:spPr>
          <a:xfrm>
            <a:off x="7950240" y="5367240"/>
            <a:ext cx="1206360" cy="37620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00" h="15614">
                <a:moveTo>
                  <a:pt x="19937" y="14689"/>
                </a:moveTo>
                <a:cubicBezTo>
                  <a:pt x="13797" y="464"/>
                  <a:pt x="6092" y="4536"/>
                  <a:pt x="1671" y="15614"/>
                </a:cubicBezTo>
                <a:lnTo>
                  <a:pt x="0" y="11742"/>
                </a:lnTo>
                <a:cubicBezTo>
                  <a:pt x="5256" y="-1271"/>
                  <a:pt x="14352" y="-5986"/>
                  <a:pt x="21600" y="10818"/>
                </a:cubicBezTo>
                <a:cubicBezTo>
                  <a:pt x="21600" y="10818"/>
                  <a:pt x="19937" y="14689"/>
                  <a:pt x="19937" y="14689"/>
                </a:cubicBezTo>
                <a:close/>
                <a:moveTo>
                  <a:pt x="19937" y="14689"/>
                </a:moveTo>
              </a:path>
            </a:pathLst>
          </a:custGeom>
          <a:solidFill>
            <a:srgbClr val="c6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AutoShape 3"/>
          <p:cNvSpPr/>
          <p:nvPr/>
        </p:nvSpPr>
        <p:spPr>
          <a:xfrm>
            <a:off x="7391520" y="4557600"/>
            <a:ext cx="2320920" cy="62100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621000"/>
              <a:gd name="textAreaBottom" fmla="*/ 621360 h 621000"/>
            </a:gdLst>
            <a:ahLst/>
            <a:rect l="textAreaLeft" t="textAreaTop" r="textAreaRight" b="textAreaBottom"/>
            <a:pathLst>
              <a:path w="21600" h="15042">
                <a:moveTo>
                  <a:pt x="20735" y="14478"/>
                </a:moveTo>
                <a:cubicBezTo>
                  <a:pt x="14083" y="-2801"/>
                  <a:pt x="5757" y="1830"/>
                  <a:pt x="867" y="15042"/>
                </a:cubicBezTo>
                <a:lnTo>
                  <a:pt x="0" y="12791"/>
                </a:lnTo>
                <a:cubicBezTo>
                  <a:pt x="5323" y="-1549"/>
                  <a:pt x="14370" y="-6558"/>
                  <a:pt x="21600" y="12222"/>
                </a:cubicBezTo>
                <a:cubicBezTo>
                  <a:pt x="21600" y="12222"/>
                  <a:pt x="20735" y="14478"/>
                  <a:pt x="20735" y="14478"/>
                </a:cubicBezTo>
                <a:close/>
                <a:moveTo>
                  <a:pt x="20735" y="14478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AutoShape 4"/>
          <p:cNvSpPr/>
          <p:nvPr/>
        </p:nvSpPr>
        <p:spPr>
          <a:xfrm>
            <a:off x="7567560" y="4822920"/>
            <a:ext cx="1952640" cy="539640"/>
          </a:xfrm>
          <a:custGeom>
            <a:avLst/>
            <a:gdLst>
              <a:gd name="textAreaLeft" fmla="*/ 0 w 1952640"/>
              <a:gd name="textAreaRight" fmla="*/ 1952640 w 1952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15179">
                <a:moveTo>
                  <a:pt x="20572" y="14536"/>
                </a:moveTo>
                <a:cubicBezTo>
                  <a:pt x="14028" y="-2047"/>
                  <a:pt x="5833" y="2455"/>
                  <a:pt x="1042" y="15179"/>
                </a:cubicBezTo>
                <a:lnTo>
                  <a:pt x="0" y="12539"/>
                </a:lnTo>
                <a:cubicBezTo>
                  <a:pt x="5316" y="-1496"/>
                  <a:pt x="14377" y="-6421"/>
                  <a:pt x="21600" y="11919"/>
                </a:cubicBezTo>
                <a:cubicBezTo>
                  <a:pt x="21600" y="11919"/>
                  <a:pt x="20572" y="14536"/>
                  <a:pt x="20572" y="14536"/>
                </a:cubicBezTo>
                <a:close/>
                <a:moveTo>
                  <a:pt x="20572" y="14536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AutoShape 5"/>
          <p:cNvSpPr/>
          <p:nvPr/>
        </p:nvSpPr>
        <p:spPr>
          <a:xfrm>
            <a:off x="7670880" y="4956120"/>
            <a:ext cx="1765080" cy="498600"/>
          </a:xfrm>
          <a:custGeom>
            <a:avLst/>
            <a:gdLst>
              <a:gd name="textAreaLeft" fmla="*/ 0 w 1765080"/>
              <a:gd name="textAreaRight" fmla="*/ 1765440 w 176508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21600" h="15255">
                <a:moveTo>
                  <a:pt x="20463" y="14560"/>
                </a:moveTo>
                <a:cubicBezTo>
                  <a:pt x="13987" y="-1596"/>
                  <a:pt x="5874" y="2829"/>
                  <a:pt x="1144" y="15255"/>
                </a:cubicBezTo>
                <a:lnTo>
                  <a:pt x="0" y="12401"/>
                </a:lnTo>
                <a:cubicBezTo>
                  <a:pt x="5302" y="-1450"/>
                  <a:pt x="14367" y="-6345"/>
                  <a:pt x="21600" y="11711"/>
                </a:cubicBezTo>
                <a:cubicBezTo>
                  <a:pt x="21600" y="11711"/>
                  <a:pt x="20463" y="14560"/>
                  <a:pt x="20463" y="14560"/>
                </a:cubicBezTo>
                <a:close/>
                <a:moveTo>
                  <a:pt x="20463" y="14560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AutoShape 6"/>
          <p:cNvSpPr/>
          <p:nvPr/>
        </p:nvSpPr>
        <p:spPr>
          <a:xfrm>
            <a:off x="7478640" y="4691160"/>
            <a:ext cx="2138400" cy="579240"/>
          </a:xfrm>
          <a:custGeom>
            <a:avLst/>
            <a:gdLst>
              <a:gd name="textAreaLeft" fmla="*/ 0 w 2138400"/>
              <a:gd name="textAreaRight" fmla="*/ 2138760 w 213840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21600" h="15101">
                <a:moveTo>
                  <a:pt x="20661" y="14501"/>
                </a:moveTo>
                <a:cubicBezTo>
                  <a:pt x="14056" y="-2464"/>
                  <a:pt x="5788" y="2109"/>
                  <a:pt x="941" y="15101"/>
                </a:cubicBezTo>
                <a:lnTo>
                  <a:pt x="0" y="12683"/>
                </a:lnTo>
                <a:cubicBezTo>
                  <a:pt x="5317" y="-1520"/>
                  <a:pt x="14368" y="-6499"/>
                  <a:pt x="21600" y="12078"/>
                </a:cubicBezTo>
                <a:cubicBezTo>
                  <a:pt x="21600" y="12078"/>
                  <a:pt x="20661" y="14501"/>
                  <a:pt x="20661" y="14501"/>
                </a:cubicBezTo>
                <a:close/>
                <a:moveTo>
                  <a:pt x="20661" y="14501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AutoShape 7"/>
          <p:cNvSpPr/>
          <p:nvPr/>
        </p:nvSpPr>
        <p:spPr>
          <a:xfrm>
            <a:off x="7759800" y="5087880"/>
            <a:ext cx="1579320" cy="457200"/>
          </a:xfrm>
          <a:custGeom>
            <a:avLst/>
            <a:gdLst>
              <a:gd name="textAreaLeft" fmla="*/ 0 w 1579320"/>
              <a:gd name="textAreaRight" fmla="*/ 1579680 w 1579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15354">
                <a:moveTo>
                  <a:pt x="20329" y="14598"/>
                </a:moveTo>
                <a:cubicBezTo>
                  <a:pt x="13941" y="-1033"/>
                  <a:pt x="5933" y="3295"/>
                  <a:pt x="1283" y="15354"/>
                </a:cubicBezTo>
                <a:lnTo>
                  <a:pt x="0" y="12216"/>
                </a:lnTo>
                <a:cubicBezTo>
                  <a:pt x="5294" y="-1406"/>
                  <a:pt x="14368" y="-6246"/>
                  <a:pt x="21600" y="11475"/>
                </a:cubicBezTo>
                <a:cubicBezTo>
                  <a:pt x="21600" y="11475"/>
                  <a:pt x="20329" y="14598"/>
                  <a:pt x="20329" y="14598"/>
                </a:cubicBezTo>
                <a:close/>
                <a:moveTo>
                  <a:pt x="20329" y="14598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AutoShape 8"/>
          <p:cNvSpPr/>
          <p:nvPr/>
        </p:nvSpPr>
        <p:spPr>
          <a:xfrm>
            <a:off x="7846920" y="5235480"/>
            <a:ext cx="1393920" cy="41616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21600" h="15466">
                <a:moveTo>
                  <a:pt x="20159" y="14633"/>
                </a:moveTo>
                <a:cubicBezTo>
                  <a:pt x="13876" y="-376"/>
                  <a:pt x="5998" y="3840"/>
                  <a:pt x="1445" y="15466"/>
                </a:cubicBezTo>
                <a:lnTo>
                  <a:pt x="0" y="12014"/>
                </a:lnTo>
                <a:cubicBezTo>
                  <a:pt x="5274" y="-1340"/>
                  <a:pt x="14355" y="-6134"/>
                  <a:pt x="21600" y="11176"/>
                </a:cubicBezTo>
                <a:cubicBezTo>
                  <a:pt x="21600" y="11176"/>
                  <a:pt x="20159" y="14633"/>
                  <a:pt x="20159" y="14633"/>
                </a:cubicBezTo>
                <a:close/>
                <a:moveTo>
                  <a:pt x="20159" y="14633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AutoShape 9"/>
          <p:cNvSpPr/>
          <p:nvPr/>
        </p:nvSpPr>
        <p:spPr>
          <a:xfrm>
            <a:off x="4270320" y="5176800"/>
            <a:ext cx="3314880" cy="3225960"/>
          </a:xfrm>
          <a:custGeom>
            <a:avLst/>
            <a:gdLst>
              <a:gd name="textAreaLeft" fmla="*/ 0 w 3314880"/>
              <a:gd name="textAreaRight" fmla="*/ 3315240 w 331488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1224" y="21600"/>
                </a:moveTo>
                <a:lnTo>
                  <a:pt x="21600" y="629"/>
                </a:lnTo>
                <a:lnTo>
                  <a:pt x="20986" y="0"/>
                </a:lnTo>
                <a:lnTo>
                  <a:pt x="0" y="21600"/>
                </a:lnTo>
                <a:cubicBezTo>
                  <a:pt x="0" y="21600"/>
                  <a:pt x="1224" y="21600"/>
                  <a:pt x="1224" y="21600"/>
                </a:cubicBezTo>
                <a:close/>
                <a:moveTo>
                  <a:pt x="1224" y="21600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AutoShape 10"/>
          <p:cNvSpPr/>
          <p:nvPr/>
        </p:nvSpPr>
        <p:spPr>
          <a:xfrm>
            <a:off x="4152960" y="5087880"/>
            <a:ext cx="3332160" cy="3319560"/>
          </a:xfrm>
          <a:custGeom>
            <a:avLst/>
            <a:gdLst>
              <a:gd name="textAreaLeft" fmla="*/ 0 w 3332160"/>
              <a:gd name="textAreaRight" fmla="*/ 3332520 w 3332160"/>
              <a:gd name="textAreaTop" fmla="*/ 0 h 3319560"/>
              <a:gd name="textAreaBottom" fmla="*/ 3319920 h 3319560"/>
            </a:gdLst>
            <a:ahLst/>
            <a:rect l="textAreaLeft" t="textAreaTop" r="textAreaRight" b="textAreaBottom"/>
            <a:pathLst>
              <a:path w="21600" h="21600">
                <a:moveTo>
                  <a:pt x="734" y="21600"/>
                </a:moveTo>
                <a:lnTo>
                  <a:pt x="21600" y="605"/>
                </a:lnTo>
                <a:lnTo>
                  <a:pt x="20996" y="0"/>
                </a:lnTo>
                <a:lnTo>
                  <a:pt x="0" y="21126"/>
                </a:lnTo>
                <a:lnTo>
                  <a:pt x="0" y="21600"/>
                </a:lnTo>
                <a:cubicBezTo>
                  <a:pt x="0" y="21600"/>
                  <a:pt x="734" y="21600"/>
                  <a:pt x="734" y="21600"/>
                </a:cubicBezTo>
                <a:close/>
                <a:moveTo>
                  <a:pt x="734" y="21600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AutoShape 11"/>
          <p:cNvSpPr/>
          <p:nvPr/>
        </p:nvSpPr>
        <p:spPr>
          <a:xfrm>
            <a:off x="4446720" y="5264280"/>
            <a:ext cx="3219480" cy="3133440"/>
          </a:xfrm>
          <a:custGeom>
            <a:avLst/>
            <a:gdLst>
              <a:gd name="textAreaLeft" fmla="*/ 0 w 3219480"/>
              <a:gd name="textAreaRight" fmla="*/ 3219840 w 3219480"/>
              <a:gd name="textAreaTop" fmla="*/ 0 h 3133440"/>
              <a:gd name="textAreaBottom" fmla="*/ 3133800 h 3133440"/>
            </a:gdLst>
            <a:ahLst/>
            <a:rect l="textAreaLeft" t="textAreaTop" r="textAreaRight" b="textAreaBottom"/>
            <a:pathLst>
              <a:path w="21600" h="21600">
                <a:moveTo>
                  <a:pt x="1245" y="21600"/>
                </a:moveTo>
                <a:lnTo>
                  <a:pt x="21600" y="640"/>
                </a:lnTo>
                <a:lnTo>
                  <a:pt x="20976" y="0"/>
                </a:lnTo>
                <a:lnTo>
                  <a:pt x="0" y="21600"/>
                </a:lnTo>
                <a:cubicBezTo>
                  <a:pt x="0" y="21600"/>
                  <a:pt x="1245" y="21600"/>
                  <a:pt x="1245" y="21600"/>
                </a:cubicBezTo>
                <a:close/>
                <a:moveTo>
                  <a:pt x="1245" y="21600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AutoShape 12"/>
          <p:cNvSpPr/>
          <p:nvPr/>
        </p:nvSpPr>
        <p:spPr>
          <a:xfrm>
            <a:off x="4638600" y="5353200"/>
            <a:ext cx="3129120" cy="3041640"/>
          </a:xfrm>
          <a:custGeom>
            <a:avLst/>
            <a:gdLst>
              <a:gd name="textAreaLeft" fmla="*/ 0 w 3129120"/>
              <a:gd name="textAreaRight" fmla="*/ 3129480 w 3129120"/>
              <a:gd name="textAreaTop" fmla="*/ 0 h 3041640"/>
              <a:gd name="textAreaBottom" fmla="*/ 3042000 h 3041640"/>
            </a:gdLst>
            <a:ahLst/>
            <a:rect l="textAreaLeft" t="textAreaTop" r="textAreaRight" b="textAreaBottom"/>
            <a:pathLst>
              <a:path w="21600" h="21600">
                <a:moveTo>
                  <a:pt x="1297" y="21600"/>
                </a:moveTo>
                <a:lnTo>
                  <a:pt x="21600" y="667"/>
                </a:lnTo>
                <a:lnTo>
                  <a:pt x="20950" y="0"/>
                </a:lnTo>
                <a:lnTo>
                  <a:pt x="0" y="21600"/>
                </a:lnTo>
                <a:cubicBezTo>
                  <a:pt x="0" y="21600"/>
                  <a:pt x="1297" y="21600"/>
                  <a:pt x="1297" y="21600"/>
                </a:cubicBezTo>
                <a:close/>
                <a:moveTo>
                  <a:pt x="1297" y="21600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AutoShape 13"/>
          <p:cNvSpPr/>
          <p:nvPr/>
        </p:nvSpPr>
        <p:spPr>
          <a:xfrm>
            <a:off x="4815000" y="5456160"/>
            <a:ext cx="3036600" cy="2948040"/>
          </a:xfrm>
          <a:custGeom>
            <a:avLst/>
            <a:gdLst>
              <a:gd name="textAreaLeft" fmla="*/ 0 w 3036600"/>
              <a:gd name="textAreaRight" fmla="*/ 3036960 w 3036600"/>
              <a:gd name="textAreaTop" fmla="*/ 0 h 2948040"/>
              <a:gd name="textAreaBottom" fmla="*/ 2948400 h 2948040"/>
            </a:gdLst>
            <a:ahLst/>
            <a:rect l="textAreaLeft" t="textAreaTop" r="textAreaRight" b="textAreaBottom"/>
            <a:pathLst>
              <a:path w="21600" h="21600">
                <a:moveTo>
                  <a:pt x="1336" y="21600"/>
                </a:moveTo>
                <a:lnTo>
                  <a:pt x="21600" y="688"/>
                </a:lnTo>
                <a:lnTo>
                  <a:pt x="20930" y="0"/>
                </a:lnTo>
                <a:lnTo>
                  <a:pt x="0" y="21600"/>
                </a:lnTo>
                <a:cubicBezTo>
                  <a:pt x="0" y="21600"/>
                  <a:pt x="1336" y="21600"/>
                  <a:pt x="1336" y="21600"/>
                </a:cubicBezTo>
                <a:close/>
                <a:moveTo>
                  <a:pt x="1336" y="21600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5005440" y="5543640"/>
            <a:ext cx="2943000" cy="2855880"/>
          </a:xfrm>
          <a:custGeom>
            <a:avLst/>
            <a:gdLst>
              <a:gd name="textAreaLeft" fmla="*/ 0 w 2943000"/>
              <a:gd name="textAreaRight" fmla="*/ 2943360 w 294300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21600" h="21600">
                <a:moveTo>
                  <a:pt x="1379" y="21600"/>
                </a:moveTo>
                <a:lnTo>
                  <a:pt x="21600" y="711"/>
                </a:lnTo>
                <a:lnTo>
                  <a:pt x="20909" y="0"/>
                </a:lnTo>
                <a:lnTo>
                  <a:pt x="0" y="21600"/>
                </a:lnTo>
                <a:cubicBezTo>
                  <a:pt x="0" y="21600"/>
                  <a:pt x="1379" y="21600"/>
                  <a:pt x="1379" y="21600"/>
                </a:cubicBezTo>
                <a:close/>
                <a:moveTo>
                  <a:pt x="1379" y="21600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AutoShape 15"/>
          <p:cNvSpPr/>
          <p:nvPr/>
        </p:nvSpPr>
        <p:spPr>
          <a:xfrm>
            <a:off x="5197320" y="5632560"/>
            <a:ext cx="2849760" cy="2762280"/>
          </a:xfrm>
          <a:custGeom>
            <a:avLst/>
            <a:gdLst>
              <a:gd name="textAreaLeft" fmla="*/ 0 w 2849760"/>
              <a:gd name="textAreaRight" fmla="*/ 2850120 w 2849760"/>
              <a:gd name="textAreaTop" fmla="*/ 0 h 2762280"/>
              <a:gd name="textAreaBottom" fmla="*/ 2762640 h 2762280"/>
            </a:gdLst>
            <a:ahLst/>
            <a:rect l="textAreaLeft" t="textAreaTop" r="textAreaRight" b="textAreaBottom"/>
            <a:pathLst>
              <a:path w="21600" h="21600">
                <a:moveTo>
                  <a:pt x="1407" y="21600"/>
                </a:moveTo>
                <a:lnTo>
                  <a:pt x="21600" y="726"/>
                </a:lnTo>
                <a:lnTo>
                  <a:pt x="20895" y="0"/>
                </a:lnTo>
                <a:lnTo>
                  <a:pt x="0" y="21600"/>
                </a:lnTo>
                <a:cubicBezTo>
                  <a:pt x="0" y="21600"/>
                  <a:pt x="1407" y="21600"/>
                  <a:pt x="1407" y="21600"/>
                </a:cubicBezTo>
                <a:close/>
                <a:moveTo>
                  <a:pt x="1407" y="21600"/>
                </a:moveTo>
              </a:path>
            </a:pathLst>
          </a:custGeom>
          <a:solidFill>
            <a:srgbClr val="c6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AutoShape 16"/>
          <p:cNvSpPr/>
          <p:nvPr/>
        </p:nvSpPr>
        <p:spPr>
          <a:xfrm>
            <a:off x="9510840" y="5146560"/>
            <a:ext cx="3351240" cy="3249720"/>
          </a:xfrm>
          <a:custGeom>
            <a:avLst/>
            <a:gdLst>
              <a:gd name="textAreaLeft" fmla="*/ 0 w 3351240"/>
              <a:gd name="textAreaRight" fmla="*/ 3351600 w 3351240"/>
              <a:gd name="textAreaTop" fmla="*/ 0 h 3249720"/>
              <a:gd name="textAreaBottom" fmla="*/ 3250080 h 324972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17" y="0"/>
                </a:lnTo>
                <a:lnTo>
                  <a:pt x="0" y="637"/>
                </a:lnTo>
                <a:lnTo>
                  <a:pt x="20364" y="21600"/>
                </a:lnTo>
                <a:cubicBezTo>
                  <a:pt x="20364" y="21600"/>
                  <a:pt x="21600" y="21600"/>
                  <a:pt x="21600" y="21600"/>
                </a:cubicBezTo>
                <a:close/>
                <a:moveTo>
                  <a:pt x="21600" y="21600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AutoShape 17"/>
          <p:cNvSpPr/>
          <p:nvPr/>
        </p:nvSpPr>
        <p:spPr>
          <a:xfrm>
            <a:off x="9613800" y="5057640"/>
            <a:ext cx="3060720" cy="306072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3060720"/>
              <a:gd name="textAreaBottom" fmla="*/ 3061080 h 3060720"/>
            </a:gdLst>
            <a:ahLst/>
            <a:rect l="textAreaLeft" t="textAreaTop" r="textAreaRight" b="textAreaBottom"/>
            <a:pathLst>
              <a:path w="21600" h="21600">
                <a:moveTo>
                  <a:pt x="21596" y="20912"/>
                </a:moveTo>
                <a:cubicBezTo>
                  <a:pt x="21598" y="20911"/>
                  <a:pt x="21599" y="20909"/>
                  <a:pt x="21600" y="20908"/>
                </a:cubicBezTo>
                <a:lnTo>
                  <a:pt x="647" y="0"/>
                </a:lnTo>
                <a:lnTo>
                  <a:pt x="0" y="648"/>
                </a:lnTo>
                <a:lnTo>
                  <a:pt x="20998" y="21600"/>
                </a:lnTo>
                <a:cubicBezTo>
                  <a:pt x="21180" y="21357"/>
                  <a:pt x="21380" y="21126"/>
                  <a:pt x="21596" y="20912"/>
                </a:cubicBezTo>
                <a:close/>
                <a:moveTo>
                  <a:pt x="21596" y="20912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AutoShape 18"/>
          <p:cNvSpPr/>
          <p:nvPr/>
        </p:nvSpPr>
        <p:spPr>
          <a:xfrm>
            <a:off x="9421920" y="5249880"/>
            <a:ext cx="3254400" cy="3152880"/>
          </a:xfrm>
          <a:custGeom>
            <a:avLst/>
            <a:gdLst>
              <a:gd name="textAreaLeft" fmla="*/ 0 w 3254400"/>
              <a:gd name="textAreaRight" fmla="*/ 3254760 w 3254400"/>
              <a:gd name="textAreaTop" fmla="*/ 0 h 3152880"/>
              <a:gd name="textAreaBottom" fmla="*/ 3153240 h 315288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16" y="0"/>
                </a:lnTo>
                <a:lnTo>
                  <a:pt x="0" y="637"/>
                </a:lnTo>
                <a:lnTo>
                  <a:pt x="20365" y="21600"/>
                </a:lnTo>
                <a:cubicBezTo>
                  <a:pt x="20365" y="21600"/>
                  <a:pt x="21600" y="21600"/>
                  <a:pt x="21600" y="21600"/>
                </a:cubicBezTo>
                <a:close/>
                <a:moveTo>
                  <a:pt x="21600" y="21600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AutoShape 19"/>
          <p:cNvSpPr/>
          <p:nvPr/>
        </p:nvSpPr>
        <p:spPr>
          <a:xfrm>
            <a:off x="9334440" y="5338800"/>
            <a:ext cx="2844720" cy="2838240"/>
          </a:xfrm>
          <a:custGeom>
            <a:avLst/>
            <a:gdLst>
              <a:gd name="textAreaLeft" fmla="*/ 0 w 2844720"/>
              <a:gd name="textAreaRight" fmla="*/ 2845080 w 2844720"/>
              <a:gd name="textAreaTop" fmla="*/ 0 h 2838240"/>
              <a:gd name="textAreaBottom" fmla="*/ 2838600 h 2838240"/>
            </a:gdLst>
            <a:ahLst/>
            <a:rect l="textAreaLeft" t="textAreaTop" r="textAreaRight" b="textAreaBottom"/>
            <a:pathLst>
              <a:path w="21600" h="21600">
                <a:moveTo>
                  <a:pt x="0" y="716"/>
                </a:moveTo>
                <a:lnTo>
                  <a:pt x="20887" y="21600"/>
                </a:lnTo>
                <a:lnTo>
                  <a:pt x="21600" y="20884"/>
                </a:lnTo>
                <a:lnTo>
                  <a:pt x="713" y="0"/>
                </a:lnTo>
                <a:cubicBezTo>
                  <a:pt x="713" y="0"/>
                  <a:pt x="0" y="716"/>
                  <a:pt x="0" y="716"/>
                </a:cubicBezTo>
                <a:close/>
                <a:moveTo>
                  <a:pt x="0" y="716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AutoShape 20"/>
          <p:cNvSpPr/>
          <p:nvPr/>
        </p:nvSpPr>
        <p:spPr>
          <a:xfrm>
            <a:off x="9245520" y="5425920"/>
            <a:ext cx="3068640" cy="2968920"/>
          </a:xfrm>
          <a:custGeom>
            <a:avLst/>
            <a:gdLst>
              <a:gd name="textAreaLeft" fmla="*/ 0 w 3068640"/>
              <a:gd name="textAreaRight" fmla="*/ 3069000 w 3068640"/>
              <a:gd name="textAreaTop" fmla="*/ 0 h 2968920"/>
              <a:gd name="textAreaBottom" fmla="*/ 2969280 h 296892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61" y="0"/>
                </a:lnTo>
                <a:lnTo>
                  <a:pt x="0" y="685"/>
                </a:lnTo>
                <a:lnTo>
                  <a:pt x="20274" y="21600"/>
                </a:lnTo>
                <a:cubicBezTo>
                  <a:pt x="20274" y="21600"/>
                  <a:pt x="21600" y="21600"/>
                  <a:pt x="21600" y="21600"/>
                </a:cubicBezTo>
                <a:close/>
                <a:moveTo>
                  <a:pt x="21600" y="21600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AutoShape 21"/>
          <p:cNvSpPr/>
          <p:nvPr/>
        </p:nvSpPr>
        <p:spPr>
          <a:xfrm>
            <a:off x="9142560" y="5529240"/>
            <a:ext cx="900000" cy="898560"/>
          </a:xfrm>
          <a:custGeom>
            <a:avLst/>
            <a:gdLst>
              <a:gd name="textAreaLeft" fmla="*/ 0 w 900000"/>
              <a:gd name="textAreaRight" fmla="*/ 900360 w 90000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1600" h="21600">
                <a:moveTo>
                  <a:pt x="0" y="2265"/>
                </a:moveTo>
                <a:lnTo>
                  <a:pt x="19344" y="21600"/>
                </a:lnTo>
                <a:lnTo>
                  <a:pt x="21600" y="19335"/>
                </a:lnTo>
                <a:lnTo>
                  <a:pt x="2256" y="0"/>
                </a:lnTo>
                <a:cubicBezTo>
                  <a:pt x="2256" y="0"/>
                  <a:pt x="0" y="2265"/>
                  <a:pt x="0" y="2265"/>
                </a:cubicBezTo>
                <a:close/>
                <a:moveTo>
                  <a:pt x="0" y="2265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AutoShape 22"/>
          <p:cNvSpPr/>
          <p:nvPr/>
        </p:nvSpPr>
        <p:spPr>
          <a:xfrm>
            <a:off x="9923400" y="3395520"/>
            <a:ext cx="374760" cy="1206720"/>
          </a:xfrm>
          <a:custGeom>
            <a:avLst/>
            <a:gdLst>
              <a:gd name="textAreaLeft" fmla="*/ 0 w 374760"/>
              <a:gd name="textAreaRight" fmla="*/ 375120 w 374760"/>
              <a:gd name="textAreaTop" fmla="*/ 0 h 1206720"/>
              <a:gd name="textAreaBottom" fmla="*/ 1206720 h 1206720"/>
            </a:gdLst>
            <a:ahLst/>
            <a:rect l="textAreaLeft" t="textAreaTop" r="textAreaRight" b="textAreaBottom"/>
            <a:pathLst>
              <a:path w="15613" h="21600">
                <a:moveTo>
                  <a:pt x="14776" y="19934"/>
                </a:moveTo>
                <a:cubicBezTo>
                  <a:pt x="479" y="13808"/>
                  <a:pt x="4525" y="6098"/>
                  <a:pt x="15613" y="1667"/>
                </a:cubicBezTo>
                <a:lnTo>
                  <a:pt x="11722" y="0"/>
                </a:lnTo>
                <a:cubicBezTo>
                  <a:pt x="-1304" y="5269"/>
                  <a:pt x="-5987" y="14368"/>
                  <a:pt x="10902" y="21600"/>
                </a:cubicBezTo>
                <a:cubicBezTo>
                  <a:pt x="10902" y="21600"/>
                  <a:pt x="14776" y="19934"/>
                  <a:pt x="14776" y="19934"/>
                </a:cubicBezTo>
                <a:close/>
                <a:moveTo>
                  <a:pt x="14776" y="19934"/>
                </a:moveTo>
              </a:path>
            </a:pathLst>
          </a:custGeom>
          <a:solidFill>
            <a:srgbClr val="c6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AutoShape 23"/>
          <p:cNvSpPr/>
          <p:nvPr/>
        </p:nvSpPr>
        <p:spPr>
          <a:xfrm>
            <a:off x="9128160" y="2835360"/>
            <a:ext cx="619200" cy="2320920"/>
          </a:xfrm>
          <a:custGeom>
            <a:avLst/>
            <a:gdLst>
              <a:gd name="textAreaLeft" fmla="*/ 0 w 619200"/>
              <a:gd name="textAreaRight" fmla="*/ 619560 w 619200"/>
              <a:gd name="textAreaTop" fmla="*/ 0 h 2320920"/>
              <a:gd name="textAreaBottom" fmla="*/ 2321280 h 2320920"/>
            </a:gdLst>
            <a:ahLst/>
            <a:rect l="textAreaLeft" t="textAreaTop" r="textAreaRight" b="textAreaBottom"/>
            <a:pathLst>
              <a:path w="15038" h="21600">
                <a:moveTo>
                  <a:pt x="14583" y="20733"/>
                </a:moveTo>
                <a:cubicBezTo>
                  <a:pt x="-2794" y="14095"/>
                  <a:pt x="1808" y="5766"/>
                  <a:pt x="15038" y="865"/>
                </a:cubicBezTo>
                <a:lnTo>
                  <a:pt x="12775" y="0"/>
                </a:lnTo>
                <a:cubicBezTo>
                  <a:pt x="-1586" y="5335"/>
                  <a:pt x="-6562" y="14386"/>
                  <a:pt x="12324" y="21600"/>
                </a:cubicBezTo>
                <a:cubicBezTo>
                  <a:pt x="12324" y="21600"/>
                  <a:pt x="14583" y="20733"/>
                  <a:pt x="14583" y="20733"/>
                </a:cubicBezTo>
                <a:close/>
                <a:moveTo>
                  <a:pt x="14583" y="20733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AutoShape 24"/>
          <p:cNvSpPr/>
          <p:nvPr/>
        </p:nvSpPr>
        <p:spPr>
          <a:xfrm>
            <a:off x="9393120" y="3027240"/>
            <a:ext cx="538200" cy="1951200"/>
          </a:xfrm>
          <a:custGeom>
            <a:avLst/>
            <a:gdLst>
              <a:gd name="textAreaLeft" fmla="*/ 0 w 538200"/>
              <a:gd name="textAreaRight" fmla="*/ 538560 w 538200"/>
              <a:gd name="textAreaTop" fmla="*/ 0 h 1951200"/>
              <a:gd name="textAreaBottom" fmla="*/ 1951560 h 1951200"/>
            </a:gdLst>
            <a:ahLst/>
            <a:rect l="textAreaLeft" t="textAreaTop" r="textAreaRight" b="textAreaBottom"/>
            <a:pathLst>
              <a:path w="15175" h="21600">
                <a:moveTo>
                  <a:pt x="14636" y="20570"/>
                </a:moveTo>
                <a:cubicBezTo>
                  <a:pt x="-2037" y="14040"/>
                  <a:pt x="2435" y="5842"/>
                  <a:pt x="15175" y="1039"/>
                </a:cubicBezTo>
                <a:lnTo>
                  <a:pt x="12521" y="0"/>
                </a:lnTo>
                <a:cubicBezTo>
                  <a:pt x="-1532" y="5327"/>
                  <a:pt x="-6425" y="14393"/>
                  <a:pt x="12016" y="21600"/>
                </a:cubicBezTo>
                <a:cubicBezTo>
                  <a:pt x="12016" y="21600"/>
                  <a:pt x="14636" y="20570"/>
                  <a:pt x="14636" y="20570"/>
                </a:cubicBezTo>
                <a:close/>
                <a:moveTo>
                  <a:pt x="14636" y="20570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AutoShape 25"/>
          <p:cNvSpPr/>
          <p:nvPr/>
        </p:nvSpPr>
        <p:spPr>
          <a:xfrm>
            <a:off x="9524880" y="3114720"/>
            <a:ext cx="497160" cy="1765080"/>
          </a:xfrm>
          <a:custGeom>
            <a:avLst/>
            <a:gdLst>
              <a:gd name="textAreaLeft" fmla="*/ 0 w 497160"/>
              <a:gd name="textAreaRight" fmla="*/ 497520 w 497160"/>
              <a:gd name="textAreaTop" fmla="*/ 0 h 1765080"/>
              <a:gd name="textAreaBottom" fmla="*/ 1765440 h 1765080"/>
            </a:gdLst>
            <a:ahLst/>
            <a:rect l="textAreaLeft" t="textAreaTop" r="textAreaRight" b="textAreaBottom"/>
            <a:pathLst>
              <a:path w="15252" h="21600">
                <a:moveTo>
                  <a:pt x="14657" y="20461"/>
                </a:moveTo>
                <a:cubicBezTo>
                  <a:pt x="-1586" y="13998"/>
                  <a:pt x="2810" y="5882"/>
                  <a:pt x="15251" y="1142"/>
                </a:cubicBezTo>
                <a:lnTo>
                  <a:pt x="12382" y="0"/>
                </a:lnTo>
                <a:cubicBezTo>
                  <a:pt x="-1486" y="5314"/>
                  <a:pt x="-6349" y="14383"/>
                  <a:pt x="11805" y="21600"/>
                </a:cubicBezTo>
                <a:cubicBezTo>
                  <a:pt x="11805" y="21600"/>
                  <a:pt x="14657" y="20461"/>
                  <a:pt x="14657" y="20461"/>
                </a:cubicBezTo>
                <a:close/>
                <a:moveTo>
                  <a:pt x="14657" y="20461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" name="AutoShape 26"/>
          <p:cNvSpPr/>
          <p:nvPr/>
        </p:nvSpPr>
        <p:spPr>
          <a:xfrm>
            <a:off x="9259920" y="2938320"/>
            <a:ext cx="579240" cy="2136960"/>
          </a:xfrm>
          <a:custGeom>
            <a:avLst/>
            <a:gdLst>
              <a:gd name="textAreaLeft" fmla="*/ 0 w 579240"/>
              <a:gd name="textAreaRight" fmla="*/ 579600 w 579240"/>
              <a:gd name="textAreaTop" fmla="*/ 0 h 2136960"/>
              <a:gd name="textAreaBottom" fmla="*/ 2137320 h 2136960"/>
            </a:gdLst>
            <a:ahLst/>
            <a:rect l="textAreaLeft" t="textAreaTop" r="textAreaRight" b="textAreaBottom"/>
            <a:pathLst>
              <a:path w="15097" h="21600">
                <a:moveTo>
                  <a:pt x="14603" y="20659"/>
                </a:moveTo>
                <a:cubicBezTo>
                  <a:pt x="-2456" y="14069"/>
                  <a:pt x="2087" y="5797"/>
                  <a:pt x="15097" y="939"/>
                </a:cubicBezTo>
                <a:lnTo>
                  <a:pt x="12666" y="0"/>
                </a:lnTo>
                <a:cubicBezTo>
                  <a:pt x="-1556" y="5328"/>
                  <a:pt x="-6503" y="14384"/>
                  <a:pt x="12177" y="21600"/>
                </a:cubicBezTo>
                <a:cubicBezTo>
                  <a:pt x="12177" y="21600"/>
                  <a:pt x="14603" y="20659"/>
                  <a:pt x="14603" y="20659"/>
                </a:cubicBezTo>
                <a:close/>
                <a:moveTo>
                  <a:pt x="14603" y="20659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" name="AutoShape 27"/>
          <p:cNvSpPr/>
          <p:nvPr/>
        </p:nvSpPr>
        <p:spPr>
          <a:xfrm>
            <a:off x="9658440" y="3203640"/>
            <a:ext cx="455400" cy="1579320"/>
          </a:xfrm>
          <a:custGeom>
            <a:avLst/>
            <a:gdLst>
              <a:gd name="textAreaLeft" fmla="*/ 0 w 455400"/>
              <a:gd name="textAreaRight" fmla="*/ 455760 w 455400"/>
              <a:gd name="textAreaTop" fmla="*/ 0 h 1579320"/>
              <a:gd name="textAreaBottom" fmla="*/ 1579680 h 1579320"/>
            </a:gdLst>
            <a:ahLst/>
            <a:rect l="textAreaLeft" t="textAreaTop" r="textAreaRight" b="textAreaBottom"/>
            <a:pathLst>
              <a:path w="15352" h="21600">
                <a:moveTo>
                  <a:pt x="14693" y="20326"/>
                </a:moveTo>
                <a:cubicBezTo>
                  <a:pt x="-1022" y="13952"/>
                  <a:pt x="3279" y="5941"/>
                  <a:pt x="15352" y="1280"/>
                </a:cubicBezTo>
                <a:lnTo>
                  <a:pt x="12198" y="0"/>
                </a:lnTo>
                <a:cubicBezTo>
                  <a:pt x="-1441" y="5305"/>
                  <a:pt x="-6248" y="14383"/>
                  <a:pt x="11567" y="21600"/>
                </a:cubicBezTo>
                <a:cubicBezTo>
                  <a:pt x="11567" y="21600"/>
                  <a:pt x="14693" y="20326"/>
                  <a:pt x="14693" y="20326"/>
                </a:cubicBezTo>
                <a:close/>
                <a:moveTo>
                  <a:pt x="14693" y="20326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" name="AutoShape 28"/>
          <p:cNvSpPr/>
          <p:nvPr/>
        </p:nvSpPr>
        <p:spPr>
          <a:xfrm>
            <a:off x="9790200" y="3306600"/>
            <a:ext cx="415800" cy="1392480"/>
          </a:xfrm>
          <a:custGeom>
            <a:avLst/>
            <a:gdLst>
              <a:gd name="textAreaLeft" fmla="*/ 0 w 415800"/>
              <a:gd name="textAreaRight" fmla="*/ 416160 w 41580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15464" h="21600">
                <a:moveTo>
                  <a:pt x="14724" y="20156"/>
                </a:moveTo>
                <a:cubicBezTo>
                  <a:pt x="-363" y="13887"/>
                  <a:pt x="3826" y="6005"/>
                  <a:pt x="15464" y="1442"/>
                </a:cubicBezTo>
                <a:lnTo>
                  <a:pt x="11993" y="0"/>
                </a:lnTo>
                <a:cubicBezTo>
                  <a:pt x="-1374" y="5286"/>
                  <a:pt x="-6136" y="14371"/>
                  <a:pt x="11264" y="21600"/>
                </a:cubicBezTo>
                <a:cubicBezTo>
                  <a:pt x="11264" y="21600"/>
                  <a:pt x="14724" y="20156"/>
                  <a:pt x="14724" y="20156"/>
                </a:cubicBezTo>
                <a:close/>
                <a:moveTo>
                  <a:pt x="14724" y="20156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" name="AutoShape 29"/>
          <p:cNvSpPr/>
          <p:nvPr/>
        </p:nvSpPr>
        <p:spPr>
          <a:xfrm>
            <a:off x="9731520" y="-312840"/>
            <a:ext cx="3251160" cy="3348000"/>
          </a:xfrm>
          <a:custGeom>
            <a:avLst/>
            <a:gdLst>
              <a:gd name="textAreaLeft" fmla="*/ 0 w 3251160"/>
              <a:gd name="textAreaRight" fmla="*/ 3251520 w 3251160"/>
              <a:gd name="textAreaTop" fmla="*/ 0 h 3348000"/>
              <a:gd name="textAreaBottom" fmla="*/ 3348360 h 33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0" y="20994"/>
                </a:lnTo>
                <a:lnTo>
                  <a:pt x="626" y="21600"/>
                </a:lnTo>
                <a:lnTo>
                  <a:pt x="21600" y="1214"/>
                </a:lnTo>
                <a:cubicBezTo>
                  <a:pt x="21600" y="1214"/>
                  <a:pt x="21600" y="0"/>
                  <a:pt x="21600" y="0"/>
                </a:cubicBezTo>
                <a:close/>
                <a:moveTo>
                  <a:pt x="21600" y="0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" name="AutoShape 30"/>
          <p:cNvSpPr/>
          <p:nvPr/>
        </p:nvSpPr>
        <p:spPr>
          <a:xfrm>
            <a:off x="9644040" y="-431640"/>
            <a:ext cx="3341880" cy="3368520"/>
          </a:xfrm>
          <a:custGeom>
            <a:avLst/>
            <a:gdLst>
              <a:gd name="textAreaLeft" fmla="*/ 0 w 3341880"/>
              <a:gd name="textAreaRight" fmla="*/ 3342240 w 3341880"/>
              <a:gd name="textAreaTop" fmla="*/ 0 h 3368520"/>
              <a:gd name="textAreaBottom" fmla="*/ 3368880 h 33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144" y="0"/>
                </a:lnTo>
                <a:lnTo>
                  <a:pt x="0" y="21013"/>
                </a:lnTo>
                <a:lnTo>
                  <a:pt x="594" y="21600"/>
                </a:lnTo>
                <a:lnTo>
                  <a:pt x="21600" y="724"/>
                </a:lnTo>
                <a:cubicBezTo>
                  <a:pt x="21600" y="724"/>
                  <a:pt x="21600" y="0"/>
                  <a:pt x="21600" y="0"/>
                </a:cubicBezTo>
                <a:close/>
                <a:moveTo>
                  <a:pt x="21600" y="0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AutoShape 31"/>
          <p:cNvSpPr/>
          <p:nvPr/>
        </p:nvSpPr>
        <p:spPr>
          <a:xfrm>
            <a:off x="9834480" y="-136440"/>
            <a:ext cx="3157560" cy="3254400"/>
          </a:xfrm>
          <a:custGeom>
            <a:avLst/>
            <a:gdLst>
              <a:gd name="textAreaLeft" fmla="*/ 0 w 3157560"/>
              <a:gd name="textAreaRight" fmla="*/ 3157920 w 3157560"/>
              <a:gd name="textAreaTop" fmla="*/ 0 h 3254400"/>
              <a:gd name="textAreaBottom" fmla="*/ 3254760 h 325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0" y="20984"/>
                </a:lnTo>
                <a:lnTo>
                  <a:pt x="636" y="21600"/>
                </a:lnTo>
                <a:lnTo>
                  <a:pt x="21600" y="1234"/>
                </a:lnTo>
                <a:cubicBezTo>
                  <a:pt x="21600" y="1234"/>
                  <a:pt x="21600" y="0"/>
                  <a:pt x="21600" y="0"/>
                </a:cubicBezTo>
                <a:close/>
                <a:moveTo>
                  <a:pt x="21600" y="0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AutoShape 32"/>
          <p:cNvSpPr/>
          <p:nvPr/>
        </p:nvSpPr>
        <p:spPr>
          <a:xfrm>
            <a:off x="9923400" y="54000"/>
            <a:ext cx="3063960" cy="3164040"/>
          </a:xfrm>
          <a:custGeom>
            <a:avLst/>
            <a:gdLst>
              <a:gd name="textAreaLeft" fmla="*/ 0 w 3063960"/>
              <a:gd name="textAreaRight" fmla="*/ 3064320 w 3063960"/>
              <a:gd name="textAreaTop" fmla="*/ 0 h 3164040"/>
              <a:gd name="textAreaBottom" fmla="*/ 3164400 h 316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0" y="20959"/>
                </a:lnTo>
                <a:lnTo>
                  <a:pt x="664" y="21600"/>
                </a:lnTo>
                <a:lnTo>
                  <a:pt x="21600" y="1285"/>
                </a:lnTo>
                <a:cubicBezTo>
                  <a:pt x="21600" y="1285"/>
                  <a:pt x="21600" y="0"/>
                  <a:pt x="21600" y="0"/>
                </a:cubicBezTo>
                <a:close/>
                <a:moveTo>
                  <a:pt x="21600" y="0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AutoShape 33"/>
          <p:cNvSpPr/>
          <p:nvPr/>
        </p:nvSpPr>
        <p:spPr>
          <a:xfrm>
            <a:off x="10010880" y="420840"/>
            <a:ext cx="2886120" cy="2892240"/>
          </a:xfrm>
          <a:custGeom>
            <a:avLst/>
            <a:gdLst>
              <a:gd name="textAreaLeft" fmla="*/ 0 w 2886120"/>
              <a:gd name="textAreaRight" fmla="*/ 2886480 w 2886120"/>
              <a:gd name="textAreaTop" fmla="*/ 0 h 2892240"/>
              <a:gd name="textAreaBottom" fmla="*/ 2892600 h 2892240"/>
            </a:gdLst>
            <a:ahLst/>
            <a:rect l="textAreaLeft" t="textAreaTop" r="textAreaRight" b="textAreaBottom"/>
            <a:pathLst>
              <a:path w="21600" h="21600">
                <a:moveTo>
                  <a:pt x="20895" y="0"/>
                </a:moveTo>
                <a:lnTo>
                  <a:pt x="21600" y="702"/>
                </a:lnTo>
                <a:lnTo>
                  <a:pt x="705" y="21600"/>
                </a:lnTo>
                <a:lnTo>
                  <a:pt x="0" y="20898"/>
                </a:lnTo>
                <a:cubicBezTo>
                  <a:pt x="0" y="20898"/>
                  <a:pt x="20895" y="0"/>
                  <a:pt x="20895" y="0"/>
                </a:cubicBezTo>
                <a:close/>
                <a:moveTo>
                  <a:pt x="20895" y="0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AutoShape 34"/>
          <p:cNvSpPr/>
          <p:nvPr/>
        </p:nvSpPr>
        <p:spPr>
          <a:xfrm>
            <a:off x="10113840" y="1274760"/>
            <a:ext cx="2132280" cy="2136600"/>
          </a:xfrm>
          <a:custGeom>
            <a:avLst/>
            <a:gdLst>
              <a:gd name="textAreaLeft" fmla="*/ 0 w 2132280"/>
              <a:gd name="textAreaRight" fmla="*/ 2132640 w 2132280"/>
              <a:gd name="textAreaTop" fmla="*/ 0 h 2136600"/>
              <a:gd name="textAreaBottom" fmla="*/ 2136600 h 2136600"/>
            </a:gdLst>
            <a:ahLst/>
            <a:rect l="textAreaLeft" t="textAreaTop" r="textAreaRight" b="textAreaBottom"/>
            <a:pathLst>
              <a:path w="21600" h="21600">
                <a:moveTo>
                  <a:pt x="20646" y="0"/>
                </a:moveTo>
                <a:lnTo>
                  <a:pt x="21600" y="950"/>
                </a:lnTo>
                <a:lnTo>
                  <a:pt x="954" y="21600"/>
                </a:lnTo>
                <a:lnTo>
                  <a:pt x="0" y="20650"/>
                </a:lnTo>
                <a:cubicBezTo>
                  <a:pt x="0" y="20650"/>
                  <a:pt x="20646" y="0"/>
                  <a:pt x="20646" y="0"/>
                </a:cubicBezTo>
                <a:close/>
                <a:moveTo>
                  <a:pt x="20646" y="0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" name="AutoShape 35"/>
          <p:cNvSpPr/>
          <p:nvPr/>
        </p:nvSpPr>
        <p:spPr>
          <a:xfrm>
            <a:off x="9702720" y="4956120"/>
            <a:ext cx="3276720" cy="336564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3365640"/>
              <a:gd name="textAreaBottom" fmla="*/ 3366000 h 3365640"/>
            </a:gdLst>
            <a:ahLst/>
            <a:rect l="textAreaLeft" t="textAreaTop" r="textAreaRight" b="textAreaBottom"/>
            <a:pathLst>
              <a:path w="21600" h="21600">
                <a:moveTo>
                  <a:pt x="21600" y="20372"/>
                </a:moveTo>
                <a:lnTo>
                  <a:pt x="631" y="0"/>
                </a:lnTo>
                <a:lnTo>
                  <a:pt x="0" y="615"/>
                </a:lnTo>
                <a:lnTo>
                  <a:pt x="21600" y="21600"/>
                </a:lnTo>
                <a:cubicBezTo>
                  <a:pt x="21600" y="21600"/>
                  <a:pt x="21600" y="20372"/>
                  <a:pt x="21600" y="20372"/>
                </a:cubicBezTo>
                <a:close/>
                <a:moveTo>
                  <a:pt x="21600" y="20372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3" name="AutoShape 36"/>
          <p:cNvSpPr/>
          <p:nvPr/>
        </p:nvSpPr>
        <p:spPr>
          <a:xfrm>
            <a:off x="9613800" y="5057640"/>
            <a:ext cx="3084480" cy="3079800"/>
          </a:xfrm>
          <a:custGeom>
            <a:avLst/>
            <a:gdLst>
              <a:gd name="textAreaLeft" fmla="*/ 0 w 3084480"/>
              <a:gd name="textAreaRight" fmla="*/ 3084840 w 3084480"/>
              <a:gd name="textAreaTop" fmla="*/ 0 h 3079800"/>
              <a:gd name="textAreaBottom" fmla="*/ 3080160 h 3079800"/>
            </a:gdLst>
            <a:ahLst/>
            <a:rect l="textAreaLeft" t="textAreaTop" r="textAreaRight" b="textAreaBottom"/>
            <a:pathLst>
              <a:path w="21600" h="21600">
                <a:moveTo>
                  <a:pt x="0" y="644"/>
                </a:moveTo>
                <a:lnTo>
                  <a:pt x="20958" y="21600"/>
                </a:lnTo>
                <a:lnTo>
                  <a:pt x="21600" y="20956"/>
                </a:lnTo>
                <a:lnTo>
                  <a:pt x="642" y="0"/>
                </a:lnTo>
                <a:cubicBezTo>
                  <a:pt x="642" y="0"/>
                  <a:pt x="0" y="644"/>
                  <a:pt x="0" y="644"/>
                </a:cubicBezTo>
                <a:close/>
                <a:moveTo>
                  <a:pt x="0" y="644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AutoShape 37"/>
          <p:cNvSpPr/>
          <p:nvPr/>
        </p:nvSpPr>
        <p:spPr>
          <a:xfrm>
            <a:off x="9806040" y="4867200"/>
            <a:ext cx="3181320" cy="3268800"/>
          </a:xfrm>
          <a:custGeom>
            <a:avLst/>
            <a:gdLst>
              <a:gd name="textAreaLeft" fmla="*/ 0 w 3181320"/>
              <a:gd name="textAreaRight" fmla="*/ 3181680 w 3181320"/>
              <a:gd name="textAreaTop" fmla="*/ 0 h 3268800"/>
              <a:gd name="textAreaBottom" fmla="*/ 3269160 h 3268800"/>
            </a:gdLst>
            <a:ahLst/>
            <a:rect l="textAreaLeft" t="textAreaTop" r="textAreaRight" b="textAreaBottom"/>
            <a:pathLst>
              <a:path w="21600" h="21600">
                <a:moveTo>
                  <a:pt x="21600" y="20374"/>
                </a:moveTo>
                <a:lnTo>
                  <a:pt x="630" y="0"/>
                </a:lnTo>
                <a:lnTo>
                  <a:pt x="0" y="614"/>
                </a:lnTo>
                <a:lnTo>
                  <a:pt x="21600" y="21600"/>
                </a:lnTo>
                <a:cubicBezTo>
                  <a:pt x="21600" y="21600"/>
                  <a:pt x="21600" y="20374"/>
                  <a:pt x="21600" y="20374"/>
                </a:cubicBezTo>
                <a:close/>
                <a:moveTo>
                  <a:pt x="21600" y="20374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AutoShape 38"/>
          <p:cNvSpPr/>
          <p:nvPr/>
        </p:nvSpPr>
        <p:spPr>
          <a:xfrm>
            <a:off x="9982080" y="4675320"/>
            <a:ext cx="2997360" cy="3085920"/>
          </a:xfrm>
          <a:custGeom>
            <a:avLst/>
            <a:gdLst>
              <a:gd name="textAreaLeft" fmla="*/ 0 w 2997360"/>
              <a:gd name="textAreaRight" fmla="*/ 2997720 w 2997360"/>
              <a:gd name="textAreaTop" fmla="*/ 0 h 3085920"/>
              <a:gd name="textAreaBottom" fmla="*/ 3086280 h 3085920"/>
            </a:gdLst>
            <a:ahLst/>
            <a:rect l="textAreaLeft" t="textAreaTop" r="textAreaRight" b="textAreaBottom"/>
            <a:pathLst>
              <a:path w="21600" h="21600">
                <a:moveTo>
                  <a:pt x="21600" y="20285"/>
                </a:moveTo>
                <a:lnTo>
                  <a:pt x="677" y="0"/>
                </a:lnTo>
                <a:lnTo>
                  <a:pt x="0" y="659"/>
                </a:lnTo>
                <a:lnTo>
                  <a:pt x="21600" y="21600"/>
                </a:lnTo>
                <a:cubicBezTo>
                  <a:pt x="21600" y="21600"/>
                  <a:pt x="21600" y="20285"/>
                  <a:pt x="21600" y="20285"/>
                </a:cubicBezTo>
                <a:close/>
                <a:moveTo>
                  <a:pt x="21600" y="20285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AutoShape 39"/>
          <p:cNvSpPr/>
          <p:nvPr/>
        </p:nvSpPr>
        <p:spPr>
          <a:xfrm>
            <a:off x="10085400" y="4587840"/>
            <a:ext cx="2903400" cy="2990880"/>
          </a:xfrm>
          <a:custGeom>
            <a:avLst/>
            <a:gdLst>
              <a:gd name="textAreaLeft" fmla="*/ 0 w 2903400"/>
              <a:gd name="textAreaRight" fmla="*/ 2903760 w 2903400"/>
              <a:gd name="textAreaTop" fmla="*/ 0 h 2990880"/>
              <a:gd name="textAreaBottom" fmla="*/ 2991240 h 2990880"/>
            </a:gdLst>
            <a:ahLst/>
            <a:rect l="textAreaLeft" t="textAreaTop" r="textAreaRight" b="textAreaBottom"/>
            <a:pathLst>
              <a:path w="21600" h="21600">
                <a:moveTo>
                  <a:pt x="21600" y="20244"/>
                </a:moveTo>
                <a:lnTo>
                  <a:pt x="699" y="0"/>
                </a:lnTo>
                <a:lnTo>
                  <a:pt x="0" y="680"/>
                </a:lnTo>
                <a:lnTo>
                  <a:pt x="21600" y="21600"/>
                </a:lnTo>
                <a:cubicBezTo>
                  <a:pt x="21600" y="21600"/>
                  <a:pt x="21600" y="20244"/>
                  <a:pt x="21600" y="20244"/>
                </a:cubicBezTo>
                <a:close/>
                <a:moveTo>
                  <a:pt x="21600" y="20244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AutoShape 40"/>
          <p:cNvSpPr/>
          <p:nvPr/>
        </p:nvSpPr>
        <p:spPr>
          <a:xfrm>
            <a:off x="10172880" y="4498920"/>
            <a:ext cx="2811240" cy="2898720"/>
          </a:xfrm>
          <a:custGeom>
            <a:avLst/>
            <a:gdLst>
              <a:gd name="textAreaLeft" fmla="*/ 0 w 2811240"/>
              <a:gd name="textAreaRight" fmla="*/ 2811240 w 2811240"/>
              <a:gd name="textAreaTop" fmla="*/ 0 h 2898720"/>
              <a:gd name="textAreaBottom" fmla="*/ 2899080 h 2898720"/>
            </a:gdLst>
            <a:ahLst/>
            <a:rect l="textAreaLeft" t="textAreaTop" r="textAreaRight" b="textAreaBottom"/>
            <a:pathLst>
              <a:path w="21600" h="21600">
                <a:moveTo>
                  <a:pt x="21600" y="20217"/>
                </a:moveTo>
                <a:lnTo>
                  <a:pt x="713" y="0"/>
                </a:lnTo>
                <a:lnTo>
                  <a:pt x="0" y="693"/>
                </a:lnTo>
                <a:lnTo>
                  <a:pt x="21600" y="21600"/>
                </a:lnTo>
                <a:cubicBezTo>
                  <a:pt x="21600" y="21600"/>
                  <a:pt x="21600" y="20217"/>
                  <a:pt x="21600" y="20217"/>
                </a:cubicBezTo>
                <a:close/>
                <a:moveTo>
                  <a:pt x="21600" y="20217"/>
                </a:moveTo>
              </a:path>
            </a:pathLst>
          </a:custGeom>
          <a:solidFill>
            <a:srgbClr val="c6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AutoShape 41"/>
          <p:cNvSpPr/>
          <p:nvPr/>
        </p:nvSpPr>
        <p:spPr>
          <a:xfrm>
            <a:off x="7419960" y="2849400"/>
            <a:ext cx="2320920" cy="62244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21600" h="15042">
                <a:moveTo>
                  <a:pt x="865" y="564"/>
                </a:moveTo>
                <a:cubicBezTo>
                  <a:pt x="7517" y="17843"/>
                  <a:pt x="15843" y="13212"/>
                  <a:pt x="20733" y="0"/>
                </a:cubicBezTo>
                <a:lnTo>
                  <a:pt x="21600" y="2251"/>
                </a:lnTo>
                <a:cubicBezTo>
                  <a:pt x="16277" y="16591"/>
                  <a:pt x="7230" y="21600"/>
                  <a:pt x="0" y="2820"/>
                </a:cubicBezTo>
                <a:cubicBezTo>
                  <a:pt x="0" y="2820"/>
                  <a:pt x="865" y="564"/>
                  <a:pt x="865" y="564"/>
                </a:cubicBezTo>
                <a:close/>
                <a:moveTo>
                  <a:pt x="865" y="564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AutoShape 42"/>
          <p:cNvSpPr/>
          <p:nvPr/>
        </p:nvSpPr>
        <p:spPr>
          <a:xfrm>
            <a:off x="7612200" y="2658960"/>
            <a:ext cx="1950840" cy="540000"/>
          </a:xfrm>
          <a:custGeom>
            <a:avLst/>
            <a:gdLst>
              <a:gd name="textAreaLeft" fmla="*/ 0 w 1950840"/>
              <a:gd name="textAreaRight" fmla="*/ 1951200 w 195084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21600" h="15179">
                <a:moveTo>
                  <a:pt x="1028" y="643"/>
                </a:moveTo>
                <a:cubicBezTo>
                  <a:pt x="7572" y="17225"/>
                  <a:pt x="15766" y="12723"/>
                  <a:pt x="20558" y="0"/>
                </a:cubicBezTo>
                <a:lnTo>
                  <a:pt x="21600" y="2640"/>
                </a:lnTo>
                <a:cubicBezTo>
                  <a:pt x="16284" y="16675"/>
                  <a:pt x="7223" y="21600"/>
                  <a:pt x="0" y="3260"/>
                </a:cubicBezTo>
                <a:cubicBezTo>
                  <a:pt x="0" y="3260"/>
                  <a:pt x="1028" y="643"/>
                  <a:pt x="1028" y="643"/>
                </a:cubicBezTo>
                <a:close/>
                <a:moveTo>
                  <a:pt x="1028" y="643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AutoShape 43"/>
          <p:cNvSpPr/>
          <p:nvPr/>
        </p:nvSpPr>
        <p:spPr>
          <a:xfrm>
            <a:off x="7699320" y="2570040"/>
            <a:ext cx="1766880" cy="498600"/>
          </a:xfrm>
          <a:custGeom>
            <a:avLst/>
            <a:gdLst>
              <a:gd name="textAreaLeft" fmla="*/ 0 w 1766880"/>
              <a:gd name="textAreaRight" fmla="*/ 1767240 w 176688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21600" h="15255">
                <a:moveTo>
                  <a:pt x="1137" y="695"/>
                </a:moveTo>
                <a:cubicBezTo>
                  <a:pt x="7613" y="16851"/>
                  <a:pt x="15726" y="12425"/>
                  <a:pt x="20456" y="0"/>
                </a:cubicBezTo>
                <a:lnTo>
                  <a:pt x="21600" y="2854"/>
                </a:lnTo>
                <a:cubicBezTo>
                  <a:pt x="16298" y="16705"/>
                  <a:pt x="7233" y="21600"/>
                  <a:pt x="0" y="3544"/>
                </a:cubicBezTo>
                <a:cubicBezTo>
                  <a:pt x="0" y="3544"/>
                  <a:pt x="1137" y="695"/>
                  <a:pt x="1137" y="695"/>
                </a:cubicBezTo>
                <a:close/>
                <a:moveTo>
                  <a:pt x="1137" y="695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" name="AutoShape 44"/>
          <p:cNvSpPr/>
          <p:nvPr/>
        </p:nvSpPr>
        <p:spPr>
          <a:xfrm>
            <a:off x="7523280" y="2747880"/>
            <a:ext cx="2136600" cy="579600"/>
          </a:xfrm>
          <a:custGeom>
            <a:avLst/>
            <a:gdLst>
              <a:gd name="textAreaLeft" fmla="*/ 0 w 2136600"/>
              <a:gd name="textAreaRight" fmla="*/ 2136600 w 213660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15101">
                <a:moveTo>
                  <a:pt x="939" y="600"/>
                </a:moveTo>
                <a:cubicBezTo>
                  <a:pt x="7544" y="17565"/>
                  <a:pt x="15812" y="12992"/>
                  <a:pt x="20659" y="0"/>
                </a:cubicBezTo>
                <a:lnTo>
                  <a:pt x="21600" y="2417"/>
                </a:lnTo>
                <a:cubicBezTo>
                  <a:pt x="16283" y="16621"/>
                  <a:pt x="7232" y="21600"/>
                  <a:pt x="0" y="3023"/>
                </a:cubicBezTo>
                <a:cubicBezTo>
                  <a:pt x="0" y="3023"/>
                  <a:pt x="939" y="600"/>
                  <a:pt x="939" y="600"/>
                </a:cubicBezTo>
                <a:close/>
                <a:moveTo>
                  <a:pt x="939" y="600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" name="AutoShape 45"/>
          <p:cNvSpPr/>
          <p:nvPr/>
        </p:nvSpPr>
        <p:spPr>
          <a:xfrm>
            <a:off x="7802640" y="2467080"/>
            <a:ext cx="1579320" cy="458640"/>
          </a:xfrm>
          <a:custGeom>
            <a:avLst/>
            <a:gdLst>
              <a:gd name="textAreaLeft" fmla="*/ 0 w 1579320"/>
              <a:gd name="textAreaRight" fmla="*/ 1579680 w 157932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21600" h="15354">
                <a:moveTo>
                  <a:pt x="1271" y="757"/>
                </a:moveTo>
                <a:cubicBezTo>
                  <a:pt x="7660" y="16388"/>
                  <a:pt x="15667" y="12059"/>
                  <a:pt x="20317" y="0"/>
                </a:cubicBezTo>
                <a:lnTo>
                  <a:pt x="21600" y="3138"/>
                </a:lnTo>
                <a:cubicBezTo>
                  <a:pt x="16306" y="16761"/>
                  <a:pt x="7232" y="21600"/>
                  <a:pt x="0" y="3879"/>
                </a:cubicBezTo>
                <a:cubicBezTo>
                  <a:pt x="0" y="3879"/>
                  <a:pt x="1271" y="757"/>
                  <a:pt x="1271" y="757"/>
                </a:cubicBezTo>
                <a:close/>
                <a:moveTo>
                  <a:pt x="1271" y="757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AutoShape 46"/>
          <p:cNvSpPr/>
          <p:nvPr/>
        </p:nvSpPr>
        <p:spPr>
          <a:xfrm>
            <a:off x="7891560" y="2379600"/>
            <a:ext cx="1392120" cy="4161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21600" h="15466">
                <a:moveTo>
                  <a:pt x="1441" y="832"/>
                </a:moveTo>
                <a:cubicBezTo>
                  <a:pt x="7724" y="15842"/>
                  <a:pt x="15602" y="11626"/>
                  <a:pt x="20155" y="0"/>
                </a:cubicBezTo>
                <a:lnTo>
                  <a:pt x="21600" y="3453"/>
                </a:lnTo>
                <a:cubicBezTo>
                  <a:pt x="16326" y="16806"/>
                  <a:pt x="7245" y="21600"/>
                  <a:pt x="0" y="4290"/>
                </a:cubicBezTo>
                <a:cubicBezTo>
                  <a:pt x="0" y="4290"/>
                  <a:pt x="1441" y="832"/>
                  <a:pt x="1441" y="832"/>
                </a:cubicBezTo>
                <a:close/>
                <a:moveTo>
                  <a:pt x="1441" y="832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AutoShape 47"/>
          <p:cNvSpPr/>
          <p:nvPr/>
        </p:nvSpPr>
        <p:spPr>
          <a:xfrm>
            <a:off x="9555120" y="-254160"/>
            <a:ext cx="3102120" cy="3106800"/>
          </a:xfrm>
          <a:custGeom>
            <a:avLst/>
            <a:gdLst>
              <a:gd name="textAreaLeft" fmla="*/ 0 w 3102120"/>
              <a:gd name="textAreaRight" fmla="*/ 3102480 w 3102120"/>
              <a:gd name="textAreaTop" fmla="*/ 0 h 3106800"/>
              <a:gd name="textAreaBottom" fmla="*/ 3107160 h 3106800"/>
            </a:gdLst>
            <a:ahLst/>
            <a:rect l="textAreaLeft" t="textAreaTop" r="textAreaRight" b="textAreaBottom"/>
            <a:pathLst>
              <a:path w="21600" h="21600">
                <a:moveTo>
                  <a:pt x="21600" y="653"/>
                </a:moveTo>
                <a:lnTo>
                  <a:pt x="20945" y="0"/>
                </a:lnTo>
                <a:lnTo>
                  <a:pt x="0" y="20947"/>
                </a:lnTo>
                <a:lnTo>
                  <a:pt x="655" y="21600"/>
                </a:lnTo>
                <a:cubicBezTo>
                  <a:pt x="655" y="21600"/>
                  <a:pt x="21600" y="653"/>
                  <a:pt x="21600" y="653"/>
                </a:cubicBezTo>
                <a:close/>
                <a:moveTo>
                  <a:pt x="21600" y="653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AutoShape 48"/>
          <p:cNvSpPr/>
          <p:nvPr/>
        </p:nvSpPr>
        <p:spPr>
          <a:xfrm>
            <a:off x="9644040" y="-431640"/>
            <a:ext cx="3336840" cy="3373200"/>
          </a:xfrm>
          <a:custGeom>
            <a:avLst/>
            <a:gdLst>
              <a:gd name="textAreaLeft" fmla="*/ 0 w 3336840"/>
              <a:gd name="textAreaRight" fmla="*/ 3337200 w 3336840"/>
              <a:gd name="textAreaTop" fmla="*/ 0 h 3373200"/>
              <a:gd name="textAreaBottom" fmla="*/ 3373560 h 337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197" y="0"/>
                </a:lnTo>
                <a:lnTo>
                  <a:pt x="0" y="21013"/>
                </a:lnTo>
                <a:lnTo>
                  <a:pt x="594" y="21600"/>
                </a:lnTo>
                <a:lnTo>
                  <a:pt x="21600" y="777"/>
                </a:lnTo>
                <a:cubicBezTo>
                  <a:pt x="21600" y="777"/>
                  <a:pt x="21600" y="0"/>
                  <a:pt x="21600" y="0"/>
                </a:cubicBezTo>
                <a:close/>
                <a:moveTo>
                  <a:pt x="21600" y="0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AutoShape 49"/>
          <p:cNvSpPr/>
          <p:nvPr/>
        </p:nvSpPr>
        <p:spPr>
          <a:xfrm>
            <a:off x="9466200" y="598320"/>
            <a:ext cx="2154240" cy="2157480"/>
          </a:xfrm>
          <a:custGeom>
            <a:avLst/>
            <a:gdLst>
              <a:gd name="textAreaLeft" fmla="*/ 0 w 2154240"/>
              <a:gd name="textAreaRight" fmla="*/ 2154600 w 2154240"/>
              <a:gd name="textAreaTop" fmla="*/ 0 h 2157480"/>
              <a:gd name="textAreaBottom" fmla="*/ 2157840 h 2157480"/>
            </a:gdLst>
            <a:ahLst/>
            <a:rect l="textAreaLeft" t="textAreaTop" r="textAreaRight" b="textAreaBottom"/>
            <a:pathLst>
              <a:path w="21600" h="21600">
                <a:moveTo>
                  <a:pt x="21600" y="929"/>
                </a:moveTo>
                <a:lnTo>
                  <a:pt x="20667" y="0"/>
                </a:lnTo>
                <a:lnTo>
                  <a:pt x="0" y="20671"/>
                </a:lnTo>
                <a:lnTo>
                  <a:pt x="933" y="21600"/>
                </a:lnTo>
                <a:cubicBezTo>
                  <a:pt x="933" y="21600"/>
                  <a:pt x="21600" y="929"/>
                  <a:pt x="21600" y="929"/>
                </a:cubicBezTo>
                <a:close/>
                <a:moveTo>
                  <a:pt x="21600" y="929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AutoShape 50"/>
          <p:cNvSpPr/>
          <p:nvPr/>
        </p:nvSpPr>
        <p:spPr>
          <a:xfrm>
            <a:off x="9363240" y="-431640"/>
            <a:ext cx="3184200" cy="3095640"/>
          </a:xfrm>
          <a:custGeom>
            <a:avLst/>
            <a:gdLst>
              <a:gd name="textAreaLeft" fmla="*/ 0 w 3184200"/>
              <a:gd name="textAreaRight" fmla="*/ 3184560 w 318420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20326" y="0"/>
                </a:moveTo>
                <a:lnTo>
                  <a:pt x="0" y="20945"/>
                </a:lnTo>
                <a:lnTo>
                  <a:pt x="639" y="21600"/>
                </a:lnTo>
                <a:lnTo>
                  <a:pt x="21600" y="0"/>
                </a:lnTo>
                <a:cubicBezTo>
                  <a:pt x="21600" y="0"/>
                  <a:pt x="20326" y="0"/>
                  <a:pt x="20326" y="0"/>
                </a:cubicBezTo>
                <a:close/>
                <a:moveTo>
                  <a:pt x="20326" y="0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AutoShape 51"/>
          <p:cNvSpPr/>
          <p:nvPr/>
        </p:nvSpPr>
        <p:spPr>
          <a:xfrm>
            <a:off x="9275760" y="-431640"/>
            <a:ext cx="3090960" cy="3003480"/>
          </a:xfrm>
          <a:custGeom>
            <a:avLst/>
            <a:gdLst>
              <a:gd name="textAreaLeft" fmla="*/ 0 w 3090960"/>
              <a:gd name="textAreaRight" fmla="*/ 3091320 w 3090960"/>
              <a:gd name="textAreaTop" fmla="*/ 0 h 3003480"/>
              <a:gd name="textAreaBottom" fmla="*/ 3003840 h 3003480"/>
            </a:gdLst>
            <a:ahLst/>
            <a:rect l="textAreaLeft" t="textAreaTop" r="textAreaRight" b="textAreaBottom"/>
            <a:pathLst>
              <a:path w="21600" h="21600">
                <a:moveTo>
                  <a:pt x="20287" y="0"/>
                </a:moveTo>
                <a:lnTo>
                  <a:pt x="0" y="20925"/>
                </a:lnTo>
                <a:lnTo>
                  <a:pt x="658" y="21600"/>
                </a:lnTo>
                <a:lnTo>
                  <a:pt x="21600" y="0"/>
                </a:lnTo>
                <a:cubicBezTo>
                  <a:pt x="21600" y="0"/>
                  <a:pt x="20287" y="0"/>
                  <a:pt x="20287" y="0"/>
                </a:cubicBezTo>
                <a:close/>
                <a:moveTo>
                  <a:pt x="20287" y="0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AutoShape 52"/>
          <p:cNvSpPr/>
          <p:nvPr/>
        </p:nvSpPr>
        <p:spPr>
          <a:xfrm>
            <a:off x="9186840" y="-166680"/>
            <a:ext cx="2639880" cy="26449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644920"/>
              <a:gd name="textAreaBottom" fmla="*/ 2645280 h 2644920"/>
            </a:gdLst>
            <a:ahLst/>
            <a:rect l="textAreaLeft" t="textAreaTop" r="textAreaRight" b="textAreaBottom"/>
            <a:pathLst>
              <a:path w="21600" h="21600">
                <a:moveTo>
                  <a:pt x="21600" y="767"/>
                </a:moveTo>
                <a:lnTo>
                  <a:pt x="20830" y="0"/>
                </a:lnTo>
                <a:lnTo>
                  <a:pt x="0" y="20833"/>
                </a:lnTo>
                <a:lnTo>
                  <a:pt x="770" y="21600"/>
                </a:lnTo>
                <a:cubicBezTo>
                  <a:pt x="770" y="21600"/>
                  <a:pt x="21600" y="767"/>
                  <a:pt x="21600" y="767"/>
                </a:cubicBezTo>
                <a:close/>
                <a:moveTo>
                  <a:pt x="21600" y="767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AutoShape 53"/>
          <p:cNvSpPr/>
          <p:nvPr/>
        </p:nvSpPr>
        <p:spPr>
          <a:xfrm>
            <a:off x="9083520" y="-431640"/>
            <a:ext cx="2905200" cy="2815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20" y="0"/>
                </a:moveTo>
                <a:lnTo>
                  <a:pt x="0" y="20889"/>
                </a:lnTo>
                <a:lnTo>
                  <a:pt x="691" y="21600"/>
                </a:lnTo>
                <a:lnTo>
                  <a:pt x="21600" y="0"/>
                </a:lnTo>
                <a:cubicBezTo>
                  <a:pt x="21600" y="0"/>
                  <a:pt x="20220" y="0"/>
                  <a:pt x="20220" y="0"/>
                </a:cubicBezTo>
                <a:close/>
                <a:moveTo>
                  <a:pt x="20220" y="0"/>
                </a:moveTo>
              </a:path>
            </a:pathLst>
          </a:custGeom>
          <a:solidFill>
            <a:srgbClr val="c6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AutoShape 54"/>
          <p:cNvSpPr/>
          <p:nvPr/>
        </p:nvSpPr>
        <p:spPr>
          <a:xfrm>
            <a:off x="4211640" y="-431640"/>
            <a:ext cx="3409920" cy="3306600"/>
          </a:xfrm>
          <a:custGeom>
            <a:avLst/>
            <a:gdLst>
              <a:gd name="textAreaLeft" fmla="*/ 0 w 3409920"/>
              <a:gd name="textAreaRight" fmla="*/ 3410280 w 3409920"/>
              <a:gd name="textAreaTop" fmla="*/ 0 h 3306600"/>
              <a:gd name="textAreaBottom" fmla="*/ 3306960 h 330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94" y="21600"/>
                </a:lnTo>
                <a:lnTo>
                  <a:pt x="21600" y="20974"/>
                </a:lnTo>
                <a:lnTo>
                  <a:pt x="1215" y="0"/>
                </a:lnTo>
                <a:cubicBezTo>
                  <a:pt x="1215" y="0"/>
                  <a:pt x="0" y="0"/>
                  <a:pt x="0" y="0"/>
                </a:cubicBezTo>
                <a:close/>
                <a:moveTo>
                  <a:pt x="0" y="0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AutoShape 55"/>
          <p:cNvSpPr/>
          <p:nvPr/>
        </p:nvSpPr>
        <p:spPr>
          <a:xfrm>
            <a:off x="4152960" y="-431640"/>
            <a:ext cx="3370320" cy="3395520"/>
          </a:xfrm>
          <a:custGeom>
            <a:avLst/>
            <a:gdLst>
              <a:gd name="textAreaLeft" fmla="*/ 0 w 3370320"/>
              <a:gd name="textAreaRight" fmla="*/ 3370680 w 3370320"/>
              <a:gd name="textAreaTop" fmla="*/ 0 h 3395520"/>
              <a:gd name="textAreaBottom" fmla="*/ 3395880 h 33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789"/>
                </a:lnTo>
                <a:lnTo>
                  <a:pt x="21013" y="21600"/>
                </a:lnTo>
                <a:lnTo>
                  <a:pt x="21600" y="21016"/>
                </a:lnTo>
                <a:lnTo>
                  <a:pt x="380" y="0"/>
                </a:lnTo>
                <a:cubicBezTo>
                  <a:pt x="380" y="0"/>
                  <a:pt x="0" y="0"/>
                  <a:pt x="0" y="0"/>
                </a:cubicBezTo>
                <a:close/>
                <a:moveTo>
                  <a:pt x="0" y="0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AutoShape 56"/>
          <p:cNvSpPr/>
          <p:nvPr/>
        </p:nvSpPr>
        <p:spPr>
          <a:xfrm>
            <a:off x="4402080" y="-431640"/>
            <a:ext cx="3311640" cy="321120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3211200"/>
              <a:gd name="textAreaBottom" fmla="*/ 3211560 h 321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95" y="21600"/>
                </a:lnTo>
                <a:lnTo>
                  <a:pt x="21600" y="20975"/>
                </a:lnTo>
                <a:lnTo>
                  <a:pt x="1213" y="0"/>
                </a:lnTo>
                <a:cubicBezTo>
                  <a:pt x="1213" y="0"/>
                  <a:pt x="0" y="0"/>
                  <a:pt x="0" y="0"/>
                </a:cubicBezTo>
                <a:close/>
                <a:moveTo>
                  <a:pt x="0" y="0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AutoShape 57"/>
          <p:cNvSpPr/>
          <p:nvPr/>
        </p:nvSpPr>
        <p:spPr>
          <a:xfrm>
            <a:off x="4578480" y="-431640"/>
            <a:ext cx="3220920" cy="3117600"/>
          </a:xfrm>
          <a:custGeom>
            <a:avLst/>
            <a:gdLst>
              <a:gd name="textAreaLeft" fmla="*/ 0 w 3220920"/>
              <a:gd name="textAreaRight" fmla="*/ 3221280 w 3220920"/>
              <a:gd name="textAreaTop" fmla="*/ 0 h 3117600"/>
              <a:gd name="textAreaBottom" fmla="*/ 3117960 h 311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70" y="21600"/>
                </a:lnTo>
                <a:lnTo>
                  <a:pt x="21600" y="20948"/>
                </a:lnTo>
                <a:lnTo>
                  <a:pt x="1263" y="0"/>
                </a:lnTo>
                <a:cubicBezTo>
                  <a:pt x="1263" y="0"/>
                  <a:pt x="0" y="0"/>
                  <a:pt x="0" y="0"/>
                </a:cubicBezTo>
                <a:close/>
                <a:moveTo>
                  <a:pt x="0" y="0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AutoShape 58"/>
          <p:cNvSpPr/>
          <p:nvPr/>
        </p:nvSpPr>
        <p:spPr>
          <a:xfrm>
            <a:off x="4770360" y="-431640"/>
            <a:ext cx="3127320" cy="3025440"/>
          </a:xfrm>
          <a:custGeom>
            <a:avLst/>
            <a:gdLst>
              <a:gd name="textAreaLeft" fmla="*/ 0 w 3127320"/>
              <a:gd name="textAreaRight" fmla="*/ 3127680 w 3127320"/>
              <a:gd name="textAreaTop" fmla="*/ 0 h 3025440"/>
              <a:gd name="textAreaBottom" fmla="*/ 3025800 h 30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51" y="21600"/>
                </a:lnTo>
                <a:lnTo>
                  <a:pt x="21600" y="20928"/>
                </a:lnTo>
                <a:lnTo>
                  <a:pt x="1301" y="0"/>
                </a:lnTo>
                <a:cubicBezTo>
                  <a:pt x="1301" y="0"/>
                  <a:pt x="0" y="0"/>
                  <a:pt x="0" y="0"/>
                </a:cubicBezTo>
                <a:close/>
                <a:moveTo>
                  <a:pt x="0" y="0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AutoShape 59"/>
          <p:cNvSpPr/>
          <p:nvPr/>
        </p:nvSpPr>
        <p:spPr>
          <a:xfrm>
            <a:off x="4962600" y="-431640"/>
            <a:ext cx="3031920" cy="2931840"/>
          </a:xfrm>
          <a:custGeom>
            <a:avLst/>
            <a:gdLst>
              <a:gd name="textAreaLeft" fmla="*/ 0 w 3031920"/>
              <a:gd name="textAreaRight" fmla="*/ 3032280 w 3031920"/>
              <a:gd name="textAreaTop" fmla="*/ 0 h 2931840"/>
              <a:gd name="textAreaBottom" fmla="*/ 2932200 h 29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31" y="21600"/>
                </a:lnTo>
                <a:lnTo>
                  <a:pt x="21600" y="20907"/>
                </a:lnTo>
                <a:lnTo>
                  <a:pt x="1341" y="0"/>
                </a:lnTo>
                <a:cubicBezTo>
                  <a:pt x="1341" y="0"/>
                  <a:pt x="0" y="0"/>
                  <a:pt x="0" y="0"/>
                </a:cubicBezTo>
                <a:close/>
                <a:moveTo>
                  <a:pt x="0" y="0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" name="AutoShape 60"/>
          <p:cNvSpPr/>
          <p:nvPr/>
        </p:nvSpPr>
        <p:spPr>
          <a:xfrm>
            <a:off x="5138640" y="-431640"/>
            <a:ext cx="2938680" cy="2838240"/>
          </a:xfrm>
          <a:custGeom>
            <a:avLst/>
            <a:gdLst>
              <a:gd name="textAreaLeft" fmla="*/ 0 w 2938680"/>
              <a:gd name="textAreaRight" fmla="*/ 2939040 w 2938680"/>
              <a:gd name="textAreaTop" fmla="*/ 0 h 2838240"/>
              <a:gd name="textAreaBottom" fmla="*/ 2838600 h 283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18" y="21600"/>
                </a:lnTo>
                <a:lnTo>
                  <a:pt x="21600" y="20893"/>
                </a:lnTo>
                <a:lnTo>
                  <a:pt x="1367" y="0"/>
                </a:lnTo>
                <a:cubicBezTo>
                  <a:pt x="1367" y="0"/>
                  <a:pt x="0" y="0"/>
                  <a:pt x="0" y="0"/>
                </a:cubicBezTo>
                <a:close/>
                <a:moveTo>
                  <a:pt x="0" y="0"/>
                </a:moveTo>
              </a:path>
            </a:pathLst>
          </a:custGeom>
          <a:solidFill>
            <a:srgbClr val="c6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520" y="1852200"/>
            <a:ext cx="67690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Thank you</a:t>
            </a:r>
            <a:br>
              <a:rPr sz="6400"/>
            </a:b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access@hea.ie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2"/>
          <p:cNvSpPr/>
          <p:nvPr/>
        </p:nvSpPr>
        <p:spPr>
          <a:xfrm>
            <a:off x="7950240" y="5367240"/>
            <a:ext cx="1206360" cy="37620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00" h="15614">
                <a:moveTo>
                  <a:pt x="19937" y="14689"/>
                </a:moveTo>
                <a:cubicBezTo>
                  <a:pt x="13797" y="464"/>
                  <a:pt x="6092" y="4536"/>
                  <a:pt x="1671" y="15614"/>
                </a:cubicBezTo>
                <a:lnTo>
                  <a:pt x="0" y="11742"/>
                </a:lnTo>
                <a:cubicBezTo>
                  <a:pt x="5256" y="-1271"/>
                  <a:pt x="14352" y="-5986"/>
                  <a:pt x="21600" y="10818"/>
                </a:cubicBezTo>
                <a:cubicBezTo>
                  <a:pt x="21600" y="10818"/>
                  <a:pt x="19937" y="14689"/>
                  <a:pt x="19937" y="14689"/>
                </a:cubicBezTo>
                <a:close/>
                <a:moveTo>
                  <a:pt x="19937" y="14689"/>
                </a:moveTo>
              </a:path>
            </a:pathLst>
          </a:custGeom>
          <a:solidFill>
            <a:srgbClr val="c6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1" name="AutoShape 3"/>
          <p:cNvSpPr/>
          <p:nvPr/>
        </p:nvSpPr>
        <p:spPr>
          <a:xfrm>
            <a:off x="7391520" y="4557600"/>
            <a:ext cx="2320920" cy="62100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621000"/>
              <a:gd name="textAreaBottom" fmla="*/ 621360 h 621000"/>
            </a:gdLst>
            <a:ahLst/>
            <a:rect l="textAreaLeft" t="textAreaTop" r="textAreaRight" b="textAreaBottom"/>
            <a:pathLst>
              <a:path w="21600" h="15042">
                <a:moveTo>
                  <a:pt x="20735" y="14478"/>
                </a:moveTo>
                <a:cubicBezTo>
                  <a:pt x="14083" y="-2801"/>
                  <a:pt x="5757" y="1830"/>
                  <a:pt x="867" y="15042"/>
                </a:cubicBezTo>
                <a:lnTo>
                  <a:pt x="0" y="12791"/>
                </a:lnTo>
                <a:cubicBezTo>
                  <a:pt x="5323" y="-1549"/>
                  <a:pt x="14370" y="-6558"/>
                  <a:pt x="21600" y="12222"/>
                </a:cubicBezTo>
                <a:cubicBezTo>
                  <a:pt x="21600" y="12222"/>
                  <a:pt x="20735" y="14478"/>
                  <a:pt x="20735" y="14478"/>
                </a:cubicBezTo>
                <a:close/>
                <a:moveTo>
                  <a:pt x="20735" y="14478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7567560" y="4822920"/>
            <a:ext cx="1952640" cy="539640"/>
          </a:xfrm>
          <a:custGeom>
            <a:avLst/>
            <a:gdLst>
              <a:gd name="textAreaLeft" fmla="*/ 0 w 1952640"/>
              <a:gd name="textAreaRight" fmla="*/ 1952640 w 1952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15179">
                <a:moveTo>
                  <a:pt x="20572" y="14536"/>
                </a:moveTo>
                <a:cubicBezTo>
                  <a:pt x="14028" y="-2047"/>
                  <a:pt x="5833" y="2455"/>
                  <a:pt x="1042" y="15179"/>
                </a:cubicBezTo>
                <a:lnTo>
                  <a:pt x="0" y="12539"/>
                </a:lnTo>
                <a:cubicBezTo>
                  <a:pt x="5316" y="-1496"/>
                  <a:pt x="14377" y="-6421"/>
                  <a:pt x="21600" y="11919"/>
                </a:cubicBezTo>
                <a:cubicBezTo>
                  <a:pt x="21600" y="11919"/>
                  <a:pt x="20572" y="14536"/>
                  <a:pt x="20572" y="14536"/>
                </a:cubicBezTo>
                <a:close/>
                <a:moveTo>
                  <a:pt x="20572" y="14536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3" name="AutoShape 5"/>
          <p:cNvSpPr/>
          <p:nvPr/>
        </p:nvSpPr>
        <p:spPr>
          <a:xfrm>
            <a:off x="7670880" y="4956120"/>
            <a:ext cx="1765080" cy="498600"/>
          </a:xfrm>
          <a:custGeom>
            <a:avLst/>
            <a:gdLst>
              <a:gd name="textAreaLeft" fmla="*/ 0 w 1765080"/>
              <a:gd name="textAreaRight" fmla="*/ 1765440 w 176508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21600" h="15255">
                <a:moveTo>
                  <a:pt x="20463" y="14560"/>
                </a:moveTo>
                <a:cubicBezTo>
                  <a:pt x="13987" y="-1596"/>
                  <a:pt x="5874" y="2829"/>
                  <a:pt x="1144" y="15255"/>
                </a:cubicBezTo>
                <a:lnTo>
                  <a:pt x="0" y="12401"/>
                </a:lnTo>
                <a:cubicBezTo>
                  <a:pt x="5302" y="-1450"/>
                  <a:pt x="14367" y="-6345"/>
                  <a:pt x="21600" y="11711"/>
                </a:cubicBezTo>
                <a:cubicBezTo>
                  <a:pt x="21600" y="11711"/>
                  <a:pt x="20463" y="14560"/>
                  <a:pt x="20463" y="14560"/>
                </a:cubicBezTo>
                <a:close/>
                <a:moveTo>
                  <a:pt x="20463" y="14560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4" name="AutoShape 6"/>
          <p:cNvSpPr/>
          <p:nvPr/>
        </p:nvSpPr>
        <p:spPr>
          <a:xfrm>
            <a:off x="7478640" y="4691160"/>
            <a:ext cx="2138400" cy="579240"/>
          </a:xfrm>
          <a:custGeom>
            <a:avLst/>
            <a:gdLst>
              <a:gd name="textAreaLeft" fmla="*/ 0 w 2138400"/>
              <a:gd name="textAreaRight" fmla="*/ 2138760 w 213840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21600" h="15101">
                <a:moveTo>
                  <a:pt x="20661" y="14501"/>
                </a:moveTo>
                <a:cubicBezTo>
                  <a:pt x="14056" y="-2464"/>
                  <a:pt x="5788" y="2109"/>
                  <a:pt x="941" y="15101"/>
                </a:cubicBezTo>
                <a:lnTo>
                  <a:pt x="0" y="12683"/>
                </a:lnTo>
                <a:cubicBezTo>
                  <a:pt x="5317" y="-1520"/>
                  <a:pt x="14368" y="-6499"/>
                  <a:pt x="21600" y="12078"/>
                </a:cubicBezTo>
                <a:cubicBezTo>
                  <a:pt x="21600" y="12078"/>
                  <a:pt x="20661" y="14501"/>
                  <a:pt x="20661" y="14501"/>
                </a:cubicBezTo>
                <a:close/>
                <a:moveTo>
                  <a:pt x="20661" y="14501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5" name="AutoShape 7"/>
          <p:cNvSpPr/>
          <p:nvPr/>
        </p:nvSpPr>
        <p:spPr>
          <a:xfrm>
            <a:off x="7759800" y="5087880"/>
            <a:ext cx="1579320" cy="457200"/>
          </a:xfrm>
          <a:custGeom>
            <a:avLst/>
            <a:gdLst>
              <a:gd name="textAreaLeft" fmla="*/ 0 w 1579320"/>
              <a:gd name="textAreaRight" fmla="*/ 1579680 w 1579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15354">
                <a:moveTo>
                  <a:pt x="20329" y="14598"/>
                </a:moveTo>
                <a:cubicBezTo>
                  <a:pt x="13941" y="-1033"/>
                  <a:pt x="5933" y="3295"/>
                  <a:pt x="1283" y="15354"/>
                </a:cubicBezTo>
                <a:lnTo>
                  <a:pt x="0" y="12216"/>
                </a:lnTo>
                <a:cubicBezTo>
                  <a:pt x="5294" y="-1406"/>
                  <a:pt x="14368" y="-6246"/>
                  <a:pt x="21600" y="11475"/>
                </a:cubicBezTo>
                <a:cubicBezTo>
                  <a:pt x="21600" y="11475"/>
                  <a:pt x="20329" y="14598"/>
                  <a:pt x="20329" y="14598"/>
                </a:cubicBezTo>
                <a:close/>
                <a:moveTo>
                  <a:pt x="20329" y="14598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6" name="AutoShape 8"/>
          <p:cNvSpPr/>
          <p:nvPr/>
        </p:nvSpPr>
        <p:spPr>
          <a:xfrm>
            <a:off x="7846920" y="5235480"/>
            <a:ext cx="1393920" cy="41616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21600" h="15466">
                <a:moveTo>
                  <a:pt x="20159" y="14633"/>
                </a:moveTo>
                <a:cubicBezTo>
                  <a:pt x="13876" y="-376"/>
                  <a:pt x="5998" y="3840"/>
                  <a:pt x="1445" y="15466"/>
                </a:cubicBezTo>
                <a:lnTo>
                  <a:pt x="0" y="12014"/>
                </a:lnTo>
                <a:cubicBezTo>
                  <a:pt x="5274" y="-1340"/>
                  <a:pt x="14355" y="-6134"/>
                  <a:pt x="21600" y="11176"/>
                </a:cubicBezTo>
                <a:cubicBezTo>
                  <a:pt x="21600" y="11176"/>
                  <a:pt x="20159" y="14633"/>
                  <a:pt x="20159" y="14633"/>
                </a:cubicBezTo>
                <a:close/>
                <a:moveTo>
                  <a:pt x="20159" y="14633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7" name="AutoShape 9"/>
          <p:cNvSpPr/>
          <p:nvPr/>
        </p:nvSpPr>
        <p:spPr>
          <a:xfrm>
            <a:off x="4270320" y="5176800"/>
            <a:ext cx="3314880" cy="3225960"/>
          </a:xfrm>
          <a:custGeom>
            <a:avLst/>
            <a:gdLst>
              <a:gd name="textAreaLeft" fmla="*/ 0 w 3314880"/>
              <a:gd name="textAreaRight" fmla="*/ 3315240 w 331488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1224" y="21600"/>
                </a:moveTo>
                <a:lnTo>
                  <a:pt x="21600" y="629"/>
                </a:lnTo>
                <a:lnTo>
                  <a:pt x="20986" y="0"/>
                </a:lnTo>
                <a:lnTo>
                  <a:pt x="0" y="21600"/>
                </a:lnTo>
                <a:cubicBezTo>
                  <a:pt x="0" y="21600"/>
                  <a:pt x="1224" y="21600"/>
                  <a:pt x="1224" y="21600"/>
                </a:cubicBezTo>
                <a:close/>
                <a:moveTo>
                  <a:pt x="1224" y="21600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8" name="AutoShape 10"/>
          <p:cNvSpPr/>
          <p:nvPr/>
        </p:nvSpPr>
        <p:spPr>
          <a:xfrm>
            <a:off x="4152960" y="5087880"/>
            <a:ext cx="3332160" cy="3319560"/>
          </a:xfrm>
          <a:custGeom>
            <a:avLst/>
            <a:gdLst>
              <a:gd name="textAreaLeft" fmla="*/ 0 w 3332160"/>
              <a:gd name="textAreaRight" fmla="*/ 3332520 w 3332160"/>
              <a:gd name="textAreaTop" fmla="*/ 0 h 3319560"/>
              <a:gd name="textAreaBottom" fmla="*/ 3319920 h 3319560"/>
            </a:gdLst>
            <a:ahLst/>
            <a:rect l="textAreaLeft" t="textAreaTop" r="textAreaRight" b="textAreaBottom"/>
            <a:pathLst>
              <a:path w="21600" h="21600">
                <a:moveTo>
                  <a:pt x="734" y="21600"/>
                </a:moveTo>
                <a:lnTo>
                  <a:pt x="21600" y="605"/>
                </a:lnTo>
                <a:lnTo>
                  <a:pt x="20996" y="0"/>
                </a:lnTo>
                <a:lnTo>
                  <a:pt x="0" y="21126"/>
                </a:lnTo>
                <a:lnTo>
                  <a:pt x="0" y="21600"/>
                </a:lnTo>
                <a:cubicBezTo>
                  <a:pt x="0" y="21600"/>
                  <a:pt x="734" y="21600"/>
                  <a:pt x="734" y="21600"/>
                </a:cubicBezTo>
                <a:close/>
                <a:moveTo>
                  <a:pt x="734" y="21600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9" name="AutoShape 11"/>
          <p:cNvSpPr/>
          <p:nvPr/>
        </p:nvSpPr>
        <p:spPr>
          <a:xfrm>
            <a:off x="4446720" y="5264280"/>
            <a:ext cx="3219480" cy="3133440"/>
          </a:xfrm>
          <a:custGeom>
            <a:avLst/>
            <a:gdLst>
              <a:gd name="textAreaLeft" fmla="*/ 0 w 3219480"/>
              <a:gd name="textAreaRight" fmla="*/ 3219840 w 3219480"/>
              <a:gd name="textAreaTop" fmla="*/ 0 h 3133440"/>
              <a:gd name="textAreaBottom" fmla="*/ 3133800 h 3133440"/>
            </a:gdLst>
            <a:ahLst/>
            <a:rect l="textAreaLeft" t="textAreaTop" r="textAreaRight" b="textAreaBottom"/>
            <a:pathLst>
              <a:path w="21600" h="21600">
                <a:moveTo>
                  <a:pt x="1245" y="21600"/>
                </a:moveTo>
                <a:lnTo>
                  <a:pt x="21600" y="640"/>
                </a:lnTo>
                <a:lnTo>
                  <a:pt x="20976" y="0"/>
                </a:lnTo>
                <a:lnTo>
                  <a:pt x="0" y="21600"/>
                </a:lnTo>
                <a:cubicBezTo>
                  <a:pt x="0" y="21600"/>
                  <a:pt x="1245" y="21600"/>
                  <a:pt x="1245" y="21600"/>
                </a:cubicBezTo>
                <a:close/>
                <a:moveTo>
                  <a:pt x="1245" y="21600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0" name="AutoShape 12"/>
          <p:cNvSpPr/>
          <p:nvPr/>
        </p:nvSpPr>
        <p:spPr>
          <a:xfrm>
            <a:off x="4638600" y="5353200"/>
            <a:ext cx="3129120" cy="3041640"/>
          </a:xfrm>
          <a:custGeom>
            <a:avLst/>
            <a:gdLst>
              <a:gd name="textAreaLeft" fmla="*/ 0 w 3129120"/>
              <a:gd name="textAreaRight" fmla="*/ 3129480 w 3129120"/>
              <a:gd name="textAreaTop" fmla="*/ 0 h 3041640"/>
              <a:gd name="textAreaBottom" fmla="*/ 3042000 h 3041640"/>
            </a:gdLst>
            <a:ahLst/>
            <a:rect l="textAreaLeft" t="textAreaTop" r="textAreaRight" b="textAreaBottom"/>
            <a:pathLst>
              <a:path w="21600" h="21600">
                <a:moveTo>
                  <a:pt x="1297" y="21600"/>
                </a:moveTo>
                <a:lnTo>
                  <a:pt x="21600" y="667"/>
                </a:lnTo>
                <a:lnTo>
                  <a:pt x="20950" y="0"/>
                </a:lnTo>
                <a:lnTo>
                  <a:pt x="0" y="21600"/>
                </a:lnTo>
                <a:cubicBezTo>
                  <a:pt x="0" y="21600"/>
                  <a:pt x="1297" y="21600"/>
                  <a:pt x="1297" y="21600"/>
                </a:cubicBezTo>
                <a:close/>
                <a:moveTo>
                  <a:pt x="1297" y="21600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1" name="AutoShape 13"/>
          <p:cNvSpPr/>
          <p:nvPr/>
        </p:nvSpPr>
        <p:spPr>
          <a:xfrm>
            <a:off x="4815000" y="5456160"/>
            <a:ext cx="3036600" cy="2948040"/>
          </a:xfrm>
          <a:custGeom>
            <a:avLst/>
            <a:gdLst>
              <a:gd name="textAreaLeft" fmla="*/ 0 w 3036600"/>
              <a:gd name="textAreaRight" fmla="*/ 3036960 w 3036600"/>
              <a:gd name="textAreaTop" fmla="*/ 0 h 2948040"/>
              <a:gd name="textAreaBottom" fmla="*/ 2948400 h 2948040"/>
            </a:gdLst>
            <a:ahLst/>
            <a:rect l="textAreaLeft" t="textAreaTop" r="textAreaRight" b="textAreaBottom"/>
            <a:pathLst>
              <a:path w="21600" h="21600">
                <a:moveTo>
                  <a:pt x="1336" y="21600"/>
                </a:moveTo>
                <a:lnTo>
                  <a:pt x="21600" y="688"/>
                </a:lnTo>
                <a:lnTo>
                  <a:pt x="20930" y="0"/>
                </a:lnTo>
                <a:lnTo>
                  <a:pt x="0" y="21600"/>
                </a:lnTo>
                <a:cubicBezTo>
                  <a:pt x="0" y="21600"/>
                  <a:pt x="1336" y="21600"/>
                  <a:pt x="1336" y="21600"/>
                </a:cubicBezTo>
                <a:close/>
                <a:moveTo>
                  <a:pt x="1336" y="21600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2" name="AutoShape 14"/>
          <p:cNvSpPr/>
          <p:nvPr/>
        </p:nvSpPr>
        <p:spPr>
          <a:xfrm>
            <a:off x="5005440" y="5543640"/>
            <a:ext cx="2943000" cy="2855880"/>
          </a:xfrm>
          <a:custGeom>
            <a:avLst/>
            <a:gdLst>
              <a:gd name="textAreaLeft" fmla="*/ 0 w 2943000"/>
              <a:gd name="textAreaRight" fmla="*/ 2943360 w 294300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21600" h="21600">
                <a:moveTo>
                  <a:pt x="1379" y="21600"/>
                </a:moveTo>
                <a:lnTo>
                  <a:pt x="21600" y="711"/>
                </a:lnTo>
                <a:lnTo>
                  <a:pt x="20909" y="0"/>
                </a:lnTo>
                <a:lnTo>
                  <a:pt x="0" y="21600"/>
                </a:lnTo>
                <a:cubicBezTo>
                  <a:pt x="0" y="21600"/>
                  <a:pt x="1379" y="21600"/>
                  <a:pt x="1379" y="21600"/>
                </a:cubicBezTo>
                <a:close/>
                <a:moveTo>
                  <a:pt x="1379" y="21600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3" name="AutoShape 15"/>
          <p:cNvSpPr/>
          <p:nvPr/>
        </p:nvSpPr>
        <p:spPr>
          <a:xfrm>
            <a:off x="5197320" y="5632560"/>
            <a:ext cx="2849760" cy="2762280"/>
          </a:xfrm>
          <a:custGeom>
            <a:avLst/>
            <a:gdLst>
              <a:gd name="textAreaLeft" fmla="*/ 0 w 2849760"/>
              <a:gd name="textAreaRight" fmla="*/ 2850120 w 2849760"/>
              <a:gd name="textAreaTop" fmla="*/ 0 h 2762280"/>
              <a:gd name="textAreaBottom" fmla="*/ 2762640 h 2762280"/>
            </a:gdLst>
            <a:ahLst/>
            <a:rect l="textAreaLeft" t="textAreaTop" r="textAreaRight" b="textAreaBottom"/>
            <a:pathLst>
              <a:path w="21600" h="21600">
                <a:moveTo>
                  <a:pt x="1407" y="21600"/>
                </a:moveTo>
                <a:lnTo>
                  <a:pt x="21600" y="726"/>
                </a:lnTo>
                <a:lnTo>
                  <a:pt x="20895" y="0"/>
                </a:lnTo>
                <a:lnTo>
                  <a:pt x="0" y="21600"/>
                </a:lnTo>
                <a:cubicBezTo>
                  <a:pt x="0" y="21600"/>
                  <a:pt x="1407" y="21600"/>
                  <a:pt x="1407" y="21600"/>
                </a:cubicBezTo>
                <a:close/>
                <a:moveTo>
                  <a:pt x="1407" y="21600"/>
                </a:moveTo>
              </a:path>
            </a:pathLst>
          </a:custGeom>
          <a:solidFill>
            <a:srgbClr val="c6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4" name="AutoShape 16"/>
          <p:cNvSpPr/>
          <p:nvPr/>
        </p:nvSpPr>
        <p:spPr>
          <a:xfrm>
            <a:off x="9510840" y="5146560"/>
            <a:ext cx="3351240" cy="3249720"/>
          </a:xfrm>
          <a:custGeom>
            <a:avLst/>
            <a:gdLst>
              <a:gd name="textAreaLeft" fmla="*/ 0 w 3351240"/>
              <a:gd name="textAreaRight" fmla="*/ 3351600 w 3351240"/>
              <a:gd name="textAreaTop" fmla="*/ 0 h 3249720"/>
              <a:gd name="textAreaBottom" fmla="*/ 3250080 h 324972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17" y="0"/>
                </a:lnTo>
                <a:lnTo>
                  <a:pt x="0" y="637"/>
                </a:lnTo>
                <a:lnTo>
                  <a:pt x="20364" y="21600"/>
                </a:lnTo>
                <a:cubicBezTo>
                  <a:pt x="20364" y="21600"/>
                  <a:pt x="21600" y="21600"/>
                  <a:pt x="21600" y="21600"/>
                </a:cubicBezTo>
                <a:close/>
                <a:moveTo>
                  <a:pt x="21600" y="21600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5" name="AutoShape 17"/>
          <p:cNvSpPr/>
          <p:nvPr/>
        </p:nvSpPr>
        <p:spPr>
          <a:xfrm>
            <a:off x="9613800" y="5057640"/>
            <a:ext cx="3060720" cy="306072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3060720"/>
              <a:gd name="textAreaBottom" fmla="*/ 3061080 h 3060720"/>
            </a:gdLst>
            <a:ahLst/>
            <a:rect l="textAreaLeft" t="textAreaTop" r="textAreaRight" b="textAreaBottom"/>
            <a:pathLst>
              <a:path w="21600" h="21600">
                <a:moveTo>
                  <a:pt x="21596" y="20912"/>
                </a:moveTo>
                <a:cubicBezTo>
                  <a:pt x="21598" y="20911"/>
                  <a:pt x="21599" y="20909"/>
                  <a:pt x="21600" y="20908"/>
                </a:cubicBezTo>
                <a:lnTo>
                  <a:pt x="647" y="0"/>
                </a:lnTo>
                <a:lnTo>
                  <a:pt x="0" y="648"/>
                </a:lnTo>
                <a:lnTo>
                  <a:pt x="20998" y="21600"/>
                </a:lnTo>
                <a:cubicBezTo>
                  <a:pt x="21180" y="21357"/>
                  <a:pt x="21380" y="21126"/>
                  <a:pt x="21596" y="20912"/>
                </a:cubicBezTo>
                <a:close/>
                <a:moveTo>
                  <a:pt x="21596" y="20912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6" name="AutoShape 18"/>
          <p:cNvSpPr/>
          <p:nvPr/>
        </p:nvSpPr>
        <p:spPr>
          <a:xfrm>
            <a:off x="9421920" y="5249880"/>
            <a:ext cx="3254400" cy="3152880"/>
          </a:xfrm>
          <a:custGeom>
            <a:avLst/>
            <a:gdLst>
              <a:gd name="textAreaLeft" fmla="*/ 0 w 3254400"/>
              <a:gd name="textAreaRight" fmla="*/ 3254760 w 3254400"/>
              <a:gd name="textAreaTop" fmla="*/ 0 h 3152880"/>
              <a:gd name="textAreaBottom" fmla="*/ 3153240 h 315288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16" y="0"/>
                </a:lnTo>
                <a:lnTo>
                  <a:pt x="0" y="637"/>
                </a:lnTo>
                <a:lnTo>
                  <a:pt x="20365" y="21600"/>
                </a:lnTo>
                <a:cubicBezTo>
                  <a:pt x="20365" y="21600"/>
                  <a:pt x="21600" y="21600"/>
                  <a:pt x="21600" y="21600"/>
                </a:cubicBezTo>
                <a:close/>
                <a:moveTo>
                  <a:pt x="21600" y="21600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7" name="AutoShape 19"/>
          <p:cNvSpPr/>
          <p:nvPr/>
        </p:nvSpPr>
        <p:spPr>
          <a:xfrm>
            <a:off x="9334440" y="5338800"/>
            <a:ext cx="2844720" cy="2838240"/>
          </a:xfrm>
          <a:custGeom>
            <a:avLst/>
            <a:gdLst>
              <a:gd name="textAreaLeft" fmla="*/ 0 w 2844720"/>
              <a:gd name="textAreaRight" fmla="*/ 2845080 w 2844720"/>
              <a:gd name="textAreaTop" fmla="*/ 0 h 2838240"/>
              <a:gd name="textAreaBottom" fmla="*/ 2838600 h 2838240"/>
            </a:gdLst>
            <a:ahLst/>
            <a:rect l="textAreaLeft" t="textAreaTop" r="textAreaRight" b="textAreaBottom"/>
            <a:pathLst>
              <a:path w="21600" h="21600">
                <a:moveTo>
                  <a:pt x="0" y="716"/>
                </a:moveTo>
                <a:lnTo>
                  <a:pt x="20887" y="21600"/>
                </a:lnTo>
                <a:lnTo>
                  <a:pt x="21600" y="20884"/>
                </a:lnTo>
                <a:lnTo>
                  <a:pt x="713" y="0"/>
                </a:lnTo>
                <a:cubicBezTo>
                  <a:pt x="713" y="0"/>
                  <a:pt x="0" y="716"/>
                  <a:pt x="0" y="716"/>
                </a:cubicBezTo>
                <a:close/>
                <a:moveTo>
                  <a:pt x="0" y="716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8" name="AutoShape 20"/>
          <p:cNvSpPr/>
          <p:nvPr/>
        </p:nvSpPr>
        <p:spPr>
          <a:xfrm>
            <a:off x="9245520" y="5425920"/>
            <a:ext cx="3068640" cy="2968920"/>
          </a:xfrm>
          <a:custGeom>
            <a:avLst/>
            <a:gdLst>
              <a:gd name="textAreaLeft" fmla="*/ 0 w 3068640"/>
              <a:gd name="textAreaRight" fmla="*/ 3069000 w 3068640"/>
              <a:gd name="textAreaTop" fmla="*/ 0 h 2968920"/>
              <a:gd name="textAreaBottom" fmla="*/ 2969280 h 296892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61" y="0"/>
                </a:lnTo>
                <a:lnTo>
                  <a:pt x="0" y="685"/>
                </a:lnTo>
                <a:lnTo>
                  <a:pt x="20274" y="21600"/>
                </a:lnTo>
                <a:cubicBezTo>
                  <a:pt x="20274" y="21600"/>
                  <a:pt x="21600" y="21600"/>
                  <a:pt x="21600" y="21600"/>
                </a:cubicBezTo>
                <a:close/>
                <a:moveTo>
                  <a:pt x="21600" y="21600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9" name="AutoShape 21"/>
          <p:cNvSpPr/>
          <p:nvPr/>
        </p:nvSpPr>
        <p:spPr>
          <a:xfrm>
            <a:off x="9142560" y="5529240"/>
            <a:ext cx="900000" cy="898560"/>
          </a:xfrm>
          <a:custGeom>
            <a:avLst/>
            <a:gdLst>
              <a:gd name="textAreaLeft" fmla="*/ 0 w 900000"/>
              <a:gd name="textAreaRight" fmla="*/ 900360 w 90000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1600" h="21600">
                <a:moveTo>
                  <a:pt x="0" y="2265"/>
                </a:moveTo>
                <a:lnTo>
                  <a:pt x="19344" y="21600"/>
                </a:lnTo>
                <a:lnTo>
                  <a:pt x="21600" y="19335"/>
                </a:lnTo>
                <a:lnTo>
                  <a:pt x="2256" y="0"/>
                </a:lnTo>
                <a:cubicBezTo>
                  <a:pt x="2256" y="0"/>
                  <a:pt x="0" y="2265"/>
                  <a:pt x="0" y="2265"/>
                </a:cubicBezTo>
                <a:close/>
                <a:moveTo>
                  <a:pt x="0" y="2265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0" name="AutoShape 22"/>
          <p:cNvSpPr/>
          <p:nvPr/>
        </p:nvSpPr>
        <p:spPr>
          <a:xfrm>
            <a:off x="9923400" y="3395520"/>
            <a:ext cx="374760" cy="1206720"/>
          </a:xfrm>
          <a:custGeom>
            <a:avLst/>
            <a:gdLst>
              <a:gd name="textAreaLeft" fmla="*/ 0 w 374760"/>
              <a:gd name="textAreaRight" fmla="*/ 375120 w 374760"/>
              <a:gd name="textAreaTop" fmla="*/ 0 h 1206720"/>
              <a:gd name="textAreaBottom" fmla="*/ 1206720 h 1206720"/>
            </a:gdLst>
            <a:ahLst/>
            <a:rect l="textAreaLeft" t="textAreaTop" r="textAreaRight" b="textAreaBottom"/>
            <a:pathLst>
              <a:path w="15613" h="21600">
                <a:moveTo>
                  <a:pt x="14776" y="19934"/>
                </a:moveTo>
                <a:cubicBezTo>
                  <a:pt x="479" y="13808"/>
                  <a:pt x="4525" y="6098"/>
                  <a:pt x="15613" y="1667"/>
                </a:cubicBezTo>
                <a:lnTo>
                  <a:pt x="11722" y="0"/>
                </a:lnTo>
                <a:cubicBezTo>
                  <a:pt x="-1304" y="5269"/>
                  <a:pt x="-5987" y="14368"/>
                  <a:pt x="10902" y="21600"/>
                </a:cubicBezTo>
                <a:cubicBezTo>
                  <a:pt x="10902" y="21600"/>
                  <a:pt x="14776" y="19934"/>
                  <a:pt x="14776" y="19934"/>
                </a:cubicBezTo>
                <a:close/>
                <a:moveTo>
                  <a:pt x="14776" y="19934"/>
                </a:moveTo>
              </a:path>
            </a:pathLst>
          </a:custGeom>
          <a:solidFill>
            <a:srgbClr val="c6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1" name="AutoShape 23"/>
          <p:cNvSpPr/>
          <p:nvPr/>
        </p:nvSpPr>
        <p:spPr>
          <a:xfrm>
            <a:off x="9128160" y="2835360"/>
            <a:ext cx="619200" cy="2320920"/>
          </a:xfrm>
          <a:custGeom>
            <a:avLst/>
            <a:gdLst>
              <a:gd name="textAreaLeft" fmla="*/ 0 w 619200"/>
              <a:gd name="textAreaRight" fmla="*/ 619560 w 619200"/>
              <a:gd name="textAreaTop" fmla="*/ 0 h 2320920"/>
              <a:gd name="textAreaBottom" fmla="*/ 2321280 h 2320920"/>
            </a:gdLst>
            <a:ahLst/>
            <a:rect l="textAreaLeft" t="textAreaTop" r="textAreaRight" b="textAreaBottom"/>
            <a:pathLst>
              <a:path w="15038" h="21600">
                <a:moveTo>
                  <a:pt x="14583" y="20733"/>
                </a:moveTo>
                <a:cubicBezTo>
                  <a:pt x="-2794" y="14095"/>
                  <a:pt x="1808" y="5766"/>
                  <a:pt x="15038" y="865"/>
                </a:cubicBezTo>
                <a:lnTo>
                  <a:pt x="12775" y="0"/>
                </a:lnTo>
                <a:cubicBezTo>
                  <a:pt x="-1586" y="5335"/>
                  <a:pt x="-6562" y="14386"/>
                  <a:pt x="12324" y="21600"/>
                </a:cubicBezTo>
                <a:cubicBezTo>
                  <a:pt x="12324" y="21600"/>
                  <a:pt x="14583" y="20733"/>
                  <a:pt x="14583" y="20733"/>
                </a:cubicBezTo>
                <a:close/>
                <a:moveTo>
                  <a:pt x="14583" y="20733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2" name="AutoShape 24"/>
          <p:cNvSpPr/>
          <p:nvPr/>
        </p:nvSpPr>
        <p:spPr>
          <a:xfrm>
            <a:off x="9393120" y="3027240"/>
            <a:ext cx="538200" cy="1951200"/>
          </a:xfrm>
          <a:custGeom>
            <a:avLst/>
            <a:gdLst>
              <a:gd name="textAreaLeft" fmla="*/ 0 w 538200"/>
              <a:gd name="textAreaRight" fmla="*/ 538560 w 538200"/>
              <a:gd name="textAreaTop" fmla="*/ 0 h 1951200"/>
              <a:gd name="textAreaBottom" fmla="*/ 1951560 h 1951200"/>
            </a:gdLst>
            <a:ahLst/>
            <a:rect l="textAreaLeft" t="textAreaTop" r="textAreaRight" b="textAreaBottom"/>
            <a:pathLst>
              <a:path w="15175" h="21600">
                <a:moveTo>
                  <a:pt x="14636" y="20570"/>
                </a:moveTo>
                <a:cubicBezTo>
                  <a:pt x="-2037" y="14040"/>
                  <a:pt x="2435" y="5842"/>
                  <a:pt x="15175" y="1039"/>
                </a:cubicBezTo>
                <a:lnTo>
                  <a:pt x="12521" y="0"/>
                </a:lnTo>
                <a:cubicBezTo>
                  <a:pt x="-1532" y="5327"/>
                  <a:pt x="-6425" y="14393"/>
                  <a:pt x="12016" y="21600"/>
                </a:cubicBezTo>
                <a:cubicBezTo>
                  <a:pt x="12016" y="21600"/>
                  <a:pt x="14636" y="20570"/>
                  <a:pt x="14636" y="20570"/>
                </a:cubicBezTo>
                <a:close/>
                <a:moveTo>
                  <a:pt x="14636" y="20570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3" name="AutoShape 25"/>
          <p:cNvSpPr/>
          <p:nvPr/>
        </p:nvSpPr>
        <p:spPr>
          <a:xfrm>
            <a:off x="9524880" y="3114720"/>
            <a:ext cx="497160" cy="1765080"/>
          </a:xfrm>
          <a:custGeom>
            <a:avLst/>
            <a:gdLst>
              <a:gd name="textAreaLeft" fmla="*/ 0 w 497160"/>
              <a:gd name="textAreaRight" fmla="*/ 497520 w 497160"/>
              <a:gd name="textAreaTop" fmla="*/ 0 h 1765080"/>
              <a:gd name="textAreaBottom" fmla="*/ 1765440 h 1765080"/>
            </a:gdLst>
            <a:ahLst/>
            <a:rect l="textAreaLeft" t="textAreaTop" r="textAreaRight" b="textAreaBottom"/>
            <a:pathLst>
              <a:path w="15252" h="21600">
                <a:moveTo>
                  <a:pt x="14657" y="20461"/>
                </a:moveTo>
                <a:cubicBezTo>
                  <a:pt x="-1586" y="13998"/>
                  <a:pt x="2810" y="5882"/>
                  <a:pt x="15251" y="1142"/>
                </a:cubicBezTo>
                <a:lnTo>
                  <a:pt x="12382" y="0"/>
                </a:lnTo>
                <a:cubicBezTo>
                  <a:pt x="-1486" y="5314"/>
                  <a:pt x="-6349" y="14383"/>
                  <a:pt x="11805" y="21600"/>
                </a:cubicBezTo>
                <a:cubicBezTo>
                  <a:pt x="11805" y="21600"/>
                  <a:pt x="14657" y="20461"/>
                  <a:pt x="14657" y="20461"/>
                </a:cubicBezTo>
                <a:close/>
                <a:moveTo>
                  <a:pt x="14657" y="20461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4" name="AutoShape 26"/>
          <p:cNvSpPr/>
          <p:nvPr/>
        </p:nvSpPr>
        <p:spPr>
          <a:xfrm>
            <a:off x="9259920" y="2938320"/>
            <a:ext cx="579240" cy="2136960"/>
          </a:xfrm>
          <a:custGeom>
            <a:avLst/>
            <a:gdLst>
              <a:gd name="textAreaLeft" fmla="*/ 0 w 579240"/>
              <a:gd name="textAreaRight" fmla="*/ 579600 w 579240"/>
              <a:gd name="textAreaTop" fmla="*/ 0 h 2136960"/>
              <a:gd name="textAreaBottom" fmla="*/ 2137320 h 2136960"/>
            </a:gdLst>
            <a:ahLst/>
            <a:rect l="textAreaLeft" t="textAreaTop" r="textAreaRight" b="textAreaBottom"/>
            <a:pathLst>
              <a:path w="15097" h="21600">
                <a:moveTo>
                  <a:pt x="14603" y="20659"/>
                </a:moveTo>
                <a:cubicBezTo>
                  <a:pt x="-2456" y="14069"/>
                  <a:pt x="2087" y="5797"/>
                  <a:pt x="15097" y="939"/>
                </a:cubicBezTo>
                <a:lnTo>
                  <a:pt x="12666" y="0"/>
                </a:lnTo>
                <a:cubicBezTo>
                  <a:pt x="-1556" y="5328"/>
                  <a:pt x="-6503" y="14384"/>
                  <a:pt x="12177" y="21600"/>
                </a:cubicBezTo>
                <a:cubicBezTo>
                  <a:pt x="12177" y="21600"/>
                  <a:pt x="14603" y="20659"/>
                  <a:pt x="14603" y="20659"/>
                </a:cubicBezTo>
                <a:close/>
                <a:moveTo>
                  <a:pt x="14603" y="20659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5" name="AutoShape 27"/>
          <p:cNvSpPr/>
          <p:nvPr/>
        </p:nvSpPr>
        <p:spPr>
          <a:xfrm>
            <a:off x="9658440" y="3203640"/>
            <a:ext cx="455400" cy="1579320"/>
          </a:xfrm>
          <a:custGeom>
            <a:avLst/>
            <a:gdLst>
              <a:gd name="textAreaLeft" fmla="*/ 0 w 455400"/>
              <a:gd name="textAreaRight" fmla="*/ 455760 w 455400"/>
              <a:gd name="textAreaTop" fmla="*/ 0 h 1579320"/>
              <a:gd name="textAreaBottom" fmla="*/ 1579680 h 1579320"/>
            </a:gdLst>
            <a:ahLst/>
            <a:rect l="textAreaLeft" t="textAreaTop" r="textAreaRight" b="textAreaBottom"/>
            <a:pathLst>
              <a:path w="15352" h="21600">
                <a:moveTo>
                  <a:pt x="14693" y="20326"/>
                </a:moveTo>
                <a:cubicBezTo>
                  <a:pt x="-1022" y="13952"/>
                  <a:pt x="3279" y="5941"/>
                  <a:pt x="15352" y="1280"/>
                </a:cubicBezTo>
                <a:lnTo>
                  <a:pt x="12198" y="0"/>
                </a:lnTo>
                <a:cubicBezTo>
                  <a:pt x="-1441" y="5305"/>
                  <a:pt x="-6248" y="14383"/>
                  <a:pt x="11567" y="21600"/>
                </a:cubicBezTo>
                <a:cubicBezTo>
                  <a:pt x="11567" y="21600"/>
                  <a:pt x="14693" y="20326"/>
                  <a:pt x="14693" y="20326"/>
                </a:cubicBezTo>
                <a:close/>
                <a:moveTo>
                  <a:pt x="14693" y="20326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6" name="AutoShape 28"/>
          <p:cNvSpPr/>
          <p:nvPr/>
        </p:nvSpPr>
        <p:spPr>
          <a:xfrm>
            <a:off x="9790200" y="3306600"/>
            <a:ext cx="415800" cy="1392480"/>
          </a:xfrm>
          <a:custGeom>
            <a:avLst/>
            <a:gdLst>
              <a:gd name="textAreaLeft" fmla="*/ 0 w 415800"/>
              <a:gd name="textAreaRight" fmla="*/ 416160 w 41580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15464" h="21600">
                <a:moveTo>
                  <a:pt x="14724" y="20156"/>
                </a:moveTo>
                <a:cubicBezTo>
                  <a:pt x="-363" y="13887"/>
                  <a:pt x="3826" y="6005"/>
                  <a:pt x="15464" y="1442"/>
                </a:cubicBezTo>
                <a:lnTo>
                  <a:pt x="11993" y="0"/>
                </a:lnTo>
                <a:cubicBezTo>
                  <a:pt x="-1374" y="5286"/>
                  <a:pt x="-6136" y="14371"/>
                  <a:pt x="11264" y="21600"/>
                </a:cubicBezTo>
                <a:cubicBezTo>
                  <a:pt x="11264" y="21600"/>
                  <a:pt x="14724" y="20156"/>
                  <a:pt x="14724" y="20156"/>
                </a:cubicBezTo>
                <a:close/>
                <a:moveTo>
                  <a:pt x="14724" y="20156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7" name="AutoShape 29"/>
          <p:cNvSpPr/>
          <p:nvPr/>
        </p:nvSpPr>
        <p:spPr>
          <a:xfrm>
            <a:off x="9731520" y="-312840"/>
            <a:ext cx="3251160" cy="3348000"/>
          </a:xfrm>
          <a:custGeom>
            <a:avLst/>
            <a:gdLst>
              <a:gd name="textAreaLeft" fmla="*/ 0 w 3251160"/>
              <a:gd name="textAreaRight" fmla="*/ 3251520 w 3251160"/>
              <a:gd name="textAreaTop" fmla="*/ 0 h 3348000"/>
              <a:gd name="textAreaBottom" fmla="*/ 3348360 h 33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0" y="20994"/>
                </a:lnTo>
                <a:lnTo>
                  <a:pt x="626" y="21600"/>
                </a:lnTo>
                <a:lnTo>
                  <a:pt x="21600" y="1214"/>
                </a:lnTo>
                <a:cubicBezTo>
                  <a:pt x="21600" y="1214"/>
                  <a:pt x="21600" y="0"/>
                  <a:pt x="21600" y="0"/>
                </a:cubicBezTo>
                <a:close/>
                <a:moveTo>
                  <a:pt x="21600" y="0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8" name="AutoShape 30"/>
          <p:cNvSpPr/>
          <p:nvPr/>
        </p:nvSpPr>
        <p:spPr>
          <a:xfrm>
            <a:off x="9644040" y="-431640"/>
            <a:ext cx="3341880" cy="3368520"/>
          </a:xfrm>
          <a:custGeom>
            <a:avLst/>
            <a:gdLst>
              <a:gd name="textAreaLeft" fmla="*/ 0 w 3341880"/>
              <a:gd name="textAreaRight" fmla="*/ 3342240 w 3341880"/>
              <a:gd name="textAreaTop" fmla="*/ 0 h 3368520"/>
              <a:gd name="textAreaBottom" fmla="*/ 3368880 h 33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144" y="0"/>
                </a:lnTo>
                <a:lnTo>
                  <a:pt x="0" y="21013"/>
                </a:lnTo>
                <a:lnTo>
                  <a:pt x="594" y="21600"/>
                </a:lnTo>
                <a:lnTo>
                  <a:pt x="21600" y="724"/>
                </a:lnTo>
                <a:cubicBezTo>
                  <a:pt x="21600" y="724"/>
                  <a:pt x="21600" y="0"/>
                  <a:pt x="21600" y="0"/>
                </a:cubicBezTo>
                <a:close/>
                <a:moveTo>
                  <a:pt x="21600" y="0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9" name="AutoShape 31"/>
          <p:cNvSpPr/>
          <p:nvPr/>
        </p:nvSpPr>
        <p:spPr>
          <a:xfrm>
            <a:off x="9834480" y="-136440"/>
            <a:ext cx="3157560" cy="3254400"/>
          </a:xfrm>
          <a:custGeom>
            <a:avLst/>
            <a:gdLst>
              <a:gd name="textAreaLeft" fmla="*/ 0 w 3157560"/>
              <a:gd name="textAreaRight" fmla="*/ 3157920 w 3157560"/>
              <a:gd name="textAreaTop" fmla="*/ 0 h 3254400"/>
              <a:gd name="textAreaBottom" fmla="*/ 3254760 h 325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0" y="20984"/>
                </a:lnTo>
                <a:lnTo>
                  <a:pt x="636" y="21600"/>
                </a:lnTo>
                <a:lnTo>
                  <a:pt x="21600" y="1234"/>
                </a:lnTo>
                <a:cubicBezTo>
                  <a:pt x="21600" y="1234"/>
                  <a:pt x="21600" y="0"/>
                  <a:pt x="21600" y="0"/>
                </a:cubicBezTo>
                <a:close/>
                <a:moveTo>
                  <a:pt x="21600" y="0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0" name="AutoShape 32"/>
          <p:cNvSpPr/>
          <p:nvPr/>
        </p:nvSpPr>
        <p:spPr>
          <a:xfrm>
            <a:off x="9923400" y="54000"/>
            <a:ext cx="3063960" cy="3164040"/>
          </a:xfrm>
          <a:custGeom>
            <a:avLst/>
            <a:gdLst>
              <a:gd name="textAreaLeft" fmla="*/ 0 w 3063960"/>
              <a:gd name="textAreaRight" fmla="*/ 3064320 w 3063960"/>
              <a:gd name="textAreaTop" fmla="*/ 0 h 3164040"/>
              <a:gd name="textAreaBottom" fmla="*/ 3164400 h 316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0" y="20959"/>
                </a:lnTo>
                <a:lnTo>
                  <a:pt x="664" y="21600"/>
                </a:lnTo>
                <a:lnTo>
                  <a:pt x="21600" y="1285"/>
                </a:lnTo>
                <a:cubicBezTo>
                  <a:pt x="21600" y="1285"/>
                  <a:pt x="21600" y="0"/>
                  <a:pt x="21600" y="0"/>
                </a:cubicBezTo>
                <a:close/>
                <a:moveTo>
                  <a:pt x="21600" y="0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1" name="AutoShape 33"/>
          <p:cNvSpPr/>
          <p:nvPr/>
        </p:nvSpPr>
        <p:spPr>
          <a:xfrm>
            <a:off x="10010880" y="420840"/>
            <a:ext cx="2886120" cy="2892240"/>
          </a:xfrm>
          <a:custGeom>
            <a:avLst/>
            <a:gdLst>
              <a:gd name="textAreaLeft" fmla="*/ 0 w 2886120"/>
              <a:gd name="textAreaRight" fmla="*/ 2886480 w 2886120"/>
              <a:gd name="textAreaTop" fmla="*/ 0 h 2892240"/>
              <a:gd name="textAreaBottom" fmla="*/ 2892600 h 2892240"/>
            </a:gdLst>
            <a:ahLst/>
            <a:rect l="textAreaLeft" t="textAreaTop" r="textAreaRight" b="textAreaBottom"/>
            <a:pathLst>
              <a:path w="21600" h="21600">
                <a:moveTo>
                  <a:pt x="20895" y="0"/>
                </a:moveTo>
                <a:lnTo>
                  <a:pt x="21600" y="702"/>
                </a:lnTo>
                <a:lnTo>
                  <a:pt x="705" y="21600"/>
                </a:lnTo>
                <a:lnTo>
                  <a:pt x="0" y="20898"/>
                </a:lnTo>
                <a:cubicBezTo>
                  <a:pt x="0" y="20898"/>
                  <a:pt x="20895" y="0"/>
                  <a:pt x="20895" y="0"/>
                </a:cubicBezTo>
                <a:close/>
                <a:moveTo>
                  <a:pt x="20895" y="0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2" name="AutoShape 34"/>
          <p:cNvSpPr/>
          <p:nvPr/>
        </p:nvSpPr>
        <p:spPr>
          <a:xfrm>
            <a:off x="10113840" y="1274760"/>
            <a:ext cx="2132280" cy="2136600"/>
          </a:xfrm>
          <a:custGeom>
            <a:avLst/>
            <a:gdLst>
              <a:gd name="textAreaLeft" fmla="*/ 0 w 2132280"/>
              <a:gd name="textAreaRight" fmla="*/ 2132640 w 2132280"/>
              <a:gd name="textAreaTop" fmla="*/ 0 h 2136600"/>
              <a:gd name="textAreaBottom" fmla="*/ 2136600 h 2136600"/>
            </a:gdLst>
            <a:ahLst/>
            <a:rect l="textAreaLeft" t="textAreaTop" r="textAreaRight" b="textAreaBottom"/>
            <a:pathLst>
              <a:path w="21600" h="21600">
                <a:moveTo>
                  <a:pt x="20646" y="0"/>
                </a:moveTo>
                <a:lnTo>
                  <a:pt x="21600" y="950"/>
                </a:lnTo>
                <a:lnTo>
                  <a:pt x="954" y="21600"/>
                </a:lnTo>
                <a:lnTo>
                  <a:pt x="0" y="20650"/>
                </a:lnTo>
                <a:cubicBezTo>
                  <a:pt x="0" y="20650"/>
                  <a:pt x="20646" y="0"/>
                  <a:pt x="20646" y="0"/>
                </a:cubicBezTo>
                <a:close/>
                <a:moveTo>
                  <a:pt x="20646" y="0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3" name="AutoShape 35"/>
          <p:cNvSpPr/>
          <p:nvPr/>
        </p:nvSpPr>
        <p:spPr>
          <a:xfrm>
            <a:off x="9702720" y="4956120"/>
            <a:ext cx="3276720" cy="336564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3365640"/>
              <a:gd name="textAreaBottom" fmla="*/ 3366000 h 3365640"/>
            </a:gdLst>
            <a:ahLst/>
            <a:rect l="textAreaLeft" t="textAreaTop" r="textAreaRight" b="textAreaBottom"/>
            <a:pathLst>
              <a:path w="21600" h="21600">
                <a:moveTo>
                  <a:pt x="21600" y="20372"/>
                </a:moveTo>
                <a:lnTo>
                  <a:pt x="631" y="0"/>
                </a:lnTo>
                <a:lnTo>
                  <a:pt x="0" y="615"/>
                </a:lnTo>
                <a:lnTo>
                  <a:pt x="21600" y="21600"/>
                </a:lnTo>
                <a:cubicBezTo>
                  <a:pt x="21600" y="21600"/>
                  <a:pt x="21600" y="20372"/>
                  <a:pt x="21600" y="20372"/>
                </a:cubicBezTo>
                <a:close/>
                <a:moveTo>
                  <a:pt x="21600" y="20372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4" name="AutoShape 36"/>
          <p:cNvSpPr/>
          <p:nvPr/>
        </p:nvSpPr>
        <p:spPr>
          <a:xfrm>
            <a:off x="9613800" y="5057640"/>
            <a:ext cx="3084480" cy="3079800"/>
          </a:xfrm>
          <a:custGeom>
            <a:avLst/>
            <a:gdLst>
              <a:gd name="textAreaLeft" fmla="*/ 0 w 3084480"/>
              <a:gd name="textAreaRight" fmla="*/ 3084840 w 3084480"/>
              <a:gd name="textAreaTop" fmla="*/ 0 h 3079800"/>
              <a:gd name="textAreaBottom" fmla="*/ 3080160 h 3079800"/>
            </a:gdLst>
            <a:ahLst/>
            <a:rect l="textAreaLeft" t="textAreaTop" r="textAreaRight" b="textAreaBottom"/>
            <a:pathLst>
              <a:path w="21600" h="21600">
                <a:moveTo>
                  <a:pt x="0" y="644"/>
                </a:moveTo>
                <a:lnTo>
                  <a:pt x="20958" y="21600"/>
                </a:lnTo>
                <a:lnTo>
                  <a:pt x="21600" y="20956"/>
                </a:lnTo>
                <a:lnTo>
                  <a:pt x="642" y="0"/>
                </a:lnTo>
                <a:cubicBezTo>
                  <a:pt x="642" y="0"/>
                  <a:pt x="0" y="644"/>
                  <a:pt x="0" y="644"/>
                </a:cubicBezTo>
                <a:close/>
                <a:moveTo>
                  <a:pt x="0" y="644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5" name="AutoShape 37"/>
          <p:cNvSpPr/>
          <p:nvPr/>
        </p:nvSpPr>
        <p:spPr>
          <a:xfrm>
            <a:off x="9806040" y="4867200"/>
            <a:ext cx="3181320" cy="3268800"/>
          </a:xfrm>
          <a:custGeom>
            <a:avLst/>
            <a:gdLst>
              <a:gd name="textAreaLeft" fmla="*/ 0 w 3181320"/>
              <a:gd name="textAreaRight" fmla="*/ 3181680 w 3181320"/>
              <a:gd name="textAreaTop" fmla="*/ 0 h 3268800"/>
              <a:gd name="textAreaBottom" fmla="*/ 3269160 h 3268800"/>
            </a:gdLst>
            <a:ahLst/>
            <a:rect l="textAreaLeft" t="textAreaTop" r="textAreaRight" b="textAreaBottom"/>
            <a:pathLst>
              <a:path w="21600" h="21600">
                <a:moveTo>
                  <a:pt x="21600" y="20374"/>
                </a:moveTo>
                <a:lnTo>
                  <a:pt x="630" y="0"/>
                </a:lnTo>
                <a:lnTo>
                  <a:pt x="0" y="614"/>
                </a:lnTo>
                <a:lnTo>
                  <a:pt x="21600" y="21600"/>
                </a:lnTo>
                <a:cubicBezTo>
                  <a:pt x="21600" y="21600"/>
                  <a:pt x="21600" y="20374"/>
                  <a:pt x="21600" y="20374"/>
                </a:cubicBezTo>
                <a:close/>
                <a:moveTo>
                  <a:pt x="21600" y="20374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6" name="AutoShape 38"/>
          <p:cNvSpPr/>
          <p:nvPr/>
        </p:nvSpPr>
        <p:spPr>
          <a:xfrm>
            <a:off x="9982080" y="4675320"/>
            <a:ext cx="2997360" cy="3085920"/>
          </a:xfrm>
          <a:custGeom>
            <a:avLst/>
            <a:gdLst>
              <a:gd name="textAreaLeft" fmla="*/ 0 w 2997360"/>
              <a:gd name="textAreaRight" fmla="*/ 2997720 w 2997360"/>
              <a:gd name="textAreaTop" fmla="*/ 0 h 3085920"/>
              <a:gd name="textAreaBottom" fmla="*/ 3086280 h 3085920"/>
            </a:gdLst>
            <a:ahLst/>
            <a:rect l="textAreaLeft" t="textAreaTop" r="textAreaRight" b="textAreaBottom"/>
            <a:pathLst>
              <a:path w="21600" h="21600">
                <a:moveTo>
                  <a:pt x="21600" y="20285"/>
                </a:moveTo>
                <a:lnTo>
                  <a:pt x="677" y="0"/>
                </a:lnTo>
                <a:lnTo>
                  <a:pt x="0" y="659"/>
                </a:lnTo>
                <a:lnTo>
                  <a:pt x="21600" y="21600"/>
                </a:lnTo>
                <a:cubicBezTo>
                  <a:pt x="21600" y="21600"/>
                  <a:pt x="21600" y="20285"/>
                  <a:pt x="21600" y="20285"/>
                </a:cubicBezTo>
                <a:close/>
                <a:moveTo>
                  <a:pt x="21600" y="20285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7" name="AutoShape 39"/>
          <p:cNvSpPr/>
          <p:nvPr/>
        </p:nvSpPr>
        <p:spPr>
          <a:xfrm>
            <a:off x="10085400" y="4587840"/>
            <a:ext cx="2903400" cy="2990880"/>
          </a:xfrm>
          <a:custGeom>
            <a:avLst/>
            <a:gdLst>
              <a:gd name="textAreaLeft" fmla="*/ 0 w 2903400"/>
              <a:gd name="textAreaRight" fmla="*/ 2903760 w 2903400"/>
              <a:gd name="textAreaTop" fmla="*/ 0 h 2990880"/>
              <a:gd name="textAreaBottom" fmla="*/ 2991240 h 2990880"/>
            </a:gdLst>
            <a:ahLst/>
            <a:rect l="textAreaLeft" t="textAreaTop" r="textAreaRight" b="textAreaBottom"/>
            <a:pathLst>
              <a:path w="21600" h="21600">
                <a:moveTo>
                  <a:pt x="21600" y="20244"/>
                </a:moveTo>
                <a:lnTo>
                  <a:pt x="699" y="0"/>
                </a:lnTo>
                <a:lnTo>
                  <a:pt x="0" y="680"/>
                </a:lnTo>
                <a:lnTo>
                  <a:pt x="21600" y="21600"/>
                </a:lnTo>
                <a:cubicBezTo>
                  <a:pt x="21600" y="21600"/>
                  <a:pt x="21600" y="20244"/>
                  <a:pt x="21600" y="20244"/>
                </a:cubicBezTo>
                <a:close/>
                <a:moveTo>
                  <a:pt x="21600" y="20244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8" name="AutoShape 40"/>
          <p:cNvSpPr/>
          <p:nvPr/>
        </p:nvSpPr>
        <p:spPr>
          <a:xfrm>
            <a:off x="10172880" y="4498920"/>
            <a:ext cx="2811240" cy="2898720"/>
          </a:xfrm>
          <a:custGeom>
            <a:avLst/>
            <a:gdLst>
              <a:gd name="textAreaLeft" fmla="*/ 0 w 2811240"/>
              <a:gd name="textAreaRight" fmla="*/ 2811240 w 2811240"/>
              <a:gd name="textAreaTop" fmla="*/ 0 h 2898720"/>
              <a:gd name="textAreaBottom" fmla="*/ 2899080 h 2898720"/>
            </a:gdLst>
            <a:ahLst/>
            <a:rect l="textAreaLeft" t="textAreaTop" r="textAreaRight" b="textAreaBottom"/>
            <a:pathLst>
              <a:path w="21600" h="21600">
                <a:moveTo>
                  <a:pt x="21600" y="20217"/>
                </a:moveTo>
                <a:lnTo>
                  <a:pt x="713" y="0"/>
                </a:lnTo>
                <a:lnTo>
                  <a:pt x="0" y="693"/>
                </a:lnTo>
                <a:lnTo>
                  <a:pt x="21600" y="21600"/>
                </a:lnTo>
                <a:cubicBezTo>
                  <a:pt x="21600" y="21600"/>
                  <a:pt x="21600" y="20217"/>
                  <a:pt x="21600" y="20217"/>
                </a:cubicBezTo>
                <a:close/>
                <a:moveTo>
                  <a:pt x="21600" y="20217"/>
                </a:moveTo>
              </a:path>
            </a:pathLst>
          </a:custGeom>
          <a:solidFill>
            <a:srgbClr val="c6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9" name="AutoShape 41"/>
          <p:cNvSpPr/>
          <p:nvPr/>
        </p:nvSpPr>
        <p:spPr>
          <a:xfrm>
            <a:off x="7419960" y="2849400"/>
            <a:ext cx="2320920" cy="62244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21600" h="15042">
                <a:moveTo>
                  <a:pt x="865" y="564"/>
                </a:moveTo>
                <a:cubicBezTo>
                  <a:pt x="7517" y="17843"/>
                  <a:pt x="15843" y="13212"/>
                  <a:pt x="20733" y="0"/>
                </a:cubicBezTo>
                <a:lnTo>
                  <a:pt x="21600" y="2251"/>
                </a:lnTo>
                <a:cubicBezTo>
                  <a:pt x="16277" y="16591"/>
                  <a:pt x="7230" y="21600"/>
                  <a:pt x="0" y="2820"/>
                </a:cubicBezTo>
                <a:cubicBezTo>
                  <a:pt x="0" y="2820"/>
                  <a:pt x="865" y="564"/>
                  <a:pt x="865" y="564"/>
                </a:cubicBezTo>
                <a:close/>
                <a:moveTo>
                  <a:pt x="865" y="564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0" name="AutoShape 42"/>
          <p:cNvSpPr/>
          <p:nvPr/>
        </p:nvSpPr>
        <p:spPr>
          <a:xfrm>
            <a:off x="7612200" y="2658960"/>
            <a:ext cx="1950840" cy="540000"/>
          </a:xfrm>
          <a:custGeom>
            <a:avLst/>
            <a:gdLst>
              <a:gd name="textAreaLeft" fmla="*/ 0 w 1950840"/>
              <a:gd name="textAreaRight" fmla="*/ 1951200 w 195084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21600" h="15179">
                <a:moveTo>
                  <a:pt x="1028" y="643"/>
                </a:moveTo>
                <a:cubicBezTo>
                  <a:pt x="7572" y="17225"/>
                  <a:pt x="15766" y="12723"/>
                  <a:pt x="20558" y="0"/>
                </a:cubicBezTo>
                <a:lnTo>
                  <a:pt x="21600" y="2640"/>
                </a:lnTo>
                <a:cubicBezTo>
                  <a:pt x="16284" y="16675"/>
                  <a:pt x="7223" y="21600"/>
                  <a:pt x="0" y="3260"/>
                </a:cubicBezTo>
                <a:cubicBezTo>
                  <a:pt x="0" y="3260"/>
                  <a:pt x="1028" y="643"/>
                  <a:pt x="1028" y="643"/>
                </a:cubicBezTo>
                <a:close/>
                <a:moveTo>
                  <a:pt x="1028" y="643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1" name="AutoShape 43"/>
          <p:cNvSpPr/>
          <p:nvPr/>
        </p:nvSpPr>
        <p:spPr>
          <a:xfrm>
            <a:off x="7699320" y="2570040"/>
            <a:ext cx="1766880" cy="498600"/>
          </a:xfrm>
          <a:custGeom>
            <a:avLst/>
            <a:gdLst>
              <a:gd name="textAreaLeft" fmla="*/ 0 w 1766880"/>
              <a:gd name="textAreaRight" fmla="*/ 1767240 w 176688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21600" h="15255">
                <a:moveTo>
                  <a:pt x="1137" y="695"/>
                </a:moveTo>
                <a:cubicBezTo>
                  <a:pt x="7613" y="16851"/>
                  <a:pt x="15726" y="12425"/>
                  <a:pt x="20456" y="0"/>
                </a:cubicBezTo>
                <a:lnTo>
                  <a:pt x="21600" y="2854"/>
                </a:lnTo>
                <a:cubicBezTo>
                  <a:pt x="16298" y="16705"/>
                  <a:pt x="7233" y="21600"/>
                  <a:pt x="0" y="3544"/>
                </a:cubicBezTo>
                <a:cubicBezTo>
                  <a:pt x="0" y="3544"/>
                  <a:pt x="1137" y="695"/>
                  <a:pt x="1137" y="695"/>
                </a:cubicBezTo>
                <a:close/>
                <a:moveTo>
                  <a:pt x="1137" y="695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2" name="AutoShape 44"/>
          <p:cNvSpPr/>
          <p:nvPr/>
        </p:nvSpPr>
        <p:spPr>
          <a:xfrm>
            <a:off x="7523280" y="2747880"/>
            <a:ext cx="2136600" cy="579600"/>
          </a:xfrm>
          <a:custGeom>
            <a:avLst/>
            <a:gdLst>
              <a:gd name="textAreaLeft" fmla="*/ 0 w 2136600"/>
              <a:gd name="textAreaRight" fmla="*/ 2136600 w 213660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15101">
                <a:moveTo>
                  <a:pt x="939" y="600"/>
                </a:moveTo>
                <a:cubicBezTo>
                  <a:pt x="7544" y="17565"/>
                  <a:pt x="15812" y="12992"/>
                  <a:pt x="20659" y="0"/>
                </a:cubicBezTo>
                <a:lnTo>
                  <a:pt x="21600" y="2417"/>
                </a:lnTo>
                <a:cubicBezTo>
                  <a:pt x="16283" y="16621"/>
                  <a:pt x="7232" y="21600"/>
                  <a:pt x="0" y="3023"/>
                </a:cubicBezTo>
                <a:cubicBezTo>
                  <a:pt x="0" y="3023"/>
                  <a:pt x="939" y="600"/>
                  <a:pt x="939" y="600"/>
                </a:cubicBezTo>
                <a:close/>
                <a:moveTo>
                  <a:pt x="939" y="600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3" name="AutoShape 45"/>
          <p:cNvSpPr/>
          <p:nvPr/>
        </p:nvSpPr>
        <p:spPr>
          <a:xfrm>
            <a:off x="7802640" y="2467080"/>
            <a:ext cx="1579320" cy="458640"/>
          </a:xfrm>
          <a:custGeom>
            <a:avLst/>
            <a:gdLst>
              <a:gd name="textAreaLeft" fmla="*/ 0 w 1579320"/>
              <a:gd name="textAreaRight" fmla="*/ 1579680 w 157932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21600" h="15354">
                <a:moveTo>
                  <a:pt x="1271" y="757"/>
                </a:moveTo>
                <a:cubicBezTo>
                  <a:pt x="7660" y="16388"/>
                  <a:pt x="15667" y="12059"/>
                  <a:pt x="20317" y="0"/>
                </a:cubicBezTo>
                <a:lnTo>
                  <a:pt x="21600" y="3138"/>
                </a:lnTo>
                <a:cubicBezTo>
                  <a:pt x="16306" y="16761"/>
                  <a:pt x="7232" y="21600"/>
                  <a:pt x="0" y="3879"/>
                </a:cubicBezTo>
                <a:cubicBezTo>
                  <a:pt x="0" y="3879"/>
                  <a:pt x="1271" y="757"/>
                  <a:pt x="1271" y="757"/>
                </a:cubicBezTo>
                <a:close/>
                <a:moveTo>
                  <a:pt x="1271" y="757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4" name="AutoShape 46"/>
          <p:cNvSpPr/>
          <p:nvPr/>
        </p:nvSpPr>
        <p:spPr>
          <a:xfrm>
            <a:off x="7891560" y="2379600"/>
            <a:ext cx="1392120" cy="4161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21600" h="15466">
                <a:moveTo>
                  <a:pt x="1441" y="832"/>
                </a:moveTo>
                <a:cubicBezTo>
                  <a:pt x="7724" y="15842"/>
                  <a:pt x="15602" y="11626"/>
                  <a:pt x="20155" y="0"/>
                </a:cubicBezTo>
                <a:lnTo>
                  <a:pt x="21600" y="3453"/>
                </a:lnTo>
                <a:cubicBezTo>
                  <a:pt x="16326" y="16806"/>
                  <a:pt x="7245" y="21600"/>
                  <a:pt x="0" y="4290"/>
                </a:cubicBezTo>
                <a:cubicBezTo>
                  <a:pt x="0" y="4290"/>
                  <a:pt x="1441" y="832"/>
                  <a:pt x="1441" y="832"/>
                </a:cubicBezTo>
                <a:close/>
                <a:moveTo>
                  <a:pt x="1441" y="832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5" name="AutoShape 47"/>
          <p:cNvSpPr/>
          <p:nvPr/>
        </p:nvSpPr>
        <p:spPr>
          <a:xfrm>
            <a:off x="9555120" y="-254160"/>
            <a:ext cx="3102120" cy="3106800"/>
          </a:xfrm>
          <a:custGeom>
            <a:avLst/>
            <a:gdLst>
              <a:gd name="textAreaLeft" fmla="*/ 0 w 3102120"/>
              <a:gd name="textAreaRight" fmla="*/ 3102480 w 3102120"/>
              <a:gd name="textAreaTop" fmla="*/ 0 h 3106800"/>
              <a:gd name="textAreaBottom" fmla="*/ 3107160 h 3106800"/>
            </a:gdLst>
            <a:ahLst/>
            <a:rect l="textAreaLeft" t="textAreaTop" r="textAreaRight" b="textAreaBottom"/>
            <a:pathLst>
              <a:path w="21600" h="21600">
                <a:moveTo>
                  <a:pt x="21600" y="653"/>
                </a:moveTo>
                <a:lnTo>
                  <a:pt x="20945" y="0"/>
                </a:lnTo>
                <a:lnTo>
                  <a:pt x="0" y="20947"/>
                </a:lnTo>
                <a:lnTo>
                  <a:pt x="655" y="21600"/>
                </a:lnTo>
                <a:cubicBezTo>
                  <a:pt x="655" y="21600"/>
                  <a:pt x="21600" y="653"/>
                  <a:pt x="21600" y="653"/>
                </a:cubicBezTo>
                <a:close/>
                <a:moveTo>
                  <a:pt x="21600" y="653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6" name="AutoShape 48"/>
          <p:cNvSpPr/>
          <p:nvPr/>
        </p:nvSpPr>
        <p:spPr>
          <a:xfrm>
            <a:off x="9644040" y="-431640"/>
            <a:ext cx="3336840" cy="3373200"/>
          </a:xfrm>
          <a:custGeom>
            <a:avLst/>
            <a:gdLst>
              <a:gd name="textAreaLeft" fmla="*/ 0 w 3336840"/>
              <a:gd name="textAreaRight" fmla="*/ 3337200 w 3336840"/>
              <a:gd name="textAreaTop" fmla="*/ 0 h 3373200"/>
              <a:gd name="textAreaBottom" fmla="*/ 3373560 h 337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197" y="0"/>
                </a:lnTo>
                <a:lnTo>
                  <a:pt x="0" y="21013"/>
                </a:lnTo>
                <a:lnTo>
                  <a:pt x="594" y="21600"/>
                </a:lnTo>
                <a:lnTo>
                  <a:pt x="21600" y="777"/>
                </a:lnTo>
                <a:cubicBezTo>
                  <a:pt x="21600" y="777"/>
                  <a:pt x="21600" y="0"/>
                  <a:pt x="21600" y="0"/>
                </a:cubicBezTo>
                <a:close/>
                <a:moveTo>
                  <a:pt x="21600" y="0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7" name="AutoShape 49"/>
          <p:cNvSpPr/>
          <p:nvPr/>
        </p:nvSpPr>
        <p:spPr>
          <a:xfrm>
            <a:off x="9466200" y="598320"/>
            <a:ext cx="2154240" cy="2157480"/>
          </a:xfrm>
          <a:custGeom>
            <a:avLst/>
            <a:gdLst>
              <a:gd name="textAreaLeft" fmla="*/ 0 w 2154240"/>
              <a:gd name="textAreaRight" fmla="*/ 2154600 w 2154240"/>
              <a:gd name="textAreaTop" fmla="*/ 0 h 2157480"/>
              <a:gd name="textAreaBottom" fmla="*/ 2157840 h 2157480"/>
            </a:gdLst>
            <a:ahLst/>
            <a:rect l="textAreaLeft" t="textAreaTop" r="textAreaRight" b="textAreaBottom"/>
            <a:pathLst>
              <a:path w="21600" h="21600">
                <a:moveTo>
                  <a:pt x="21600" y="929"/>
                </a:moveTo>
                <a:lnTo>
                  <a:pt x="20667" y="0"/>
                </a:lnTo>
                <a:lnTo>
                  <a:pt x="0" y="20671"/>
                </a:lnTo>
                <a:lnTo>
                  <a:pt x="933" y="21600"/>
                </a:lnTo>
                <a:cubicBezTo>
                  <a:pt x="933" y="21600"/>
                  <a:pt x="21600" y="929"/>
                  <a:pt x="21600" y="929"/>
                </a:cubicBezTo>
                <a:close/>
                <a:moveTo>
                  <a:pt x="21600" y="929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8" name="AutoShape 50"/>
          <p:cNvSpPr/>
          <p:nvPr/>
        </p:nvSpPr>
        <p:spPr>
          <a:xfrm>
            <a:off x="9363240" y="-431640"/>
            <a:ext cx="3184200" cy="3095640"/>
          </a:xfrm>
          <a:custGeom>
            <a:avLst/>
            <a:gdLst>
              <a:gd name="textAreaLeft" fmla="*/ 0 w 3184200"/>
              <a:gd name="textAreaRight" fmla="*/ 3184560 w 318420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20326" y="0"/>
                </a:moveTo>
                <a:lnTo>
                  <a:pt x="0" y="20945"/>
                </a:lnTo>
                <a:lnTo>
                  <a:pt x="639" y="21600"/>
                </a:lnTo>
                <a:lnTo>
                  <a:pt x="21600" y="0"/>
                </a:lnTo>
                <a:cubicBezTo>
                  <a:pt x="21600" y="0"/>
                  <a:pt x="20326" y="0"/>
                  <a:pt x="20326" y="0"/>
                </a:cubicBezTo>
                <a:close/>
                <a:moveTo>
                  <a:pt x="20326" y="0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9" name="AutoShape 51"/>
          <p:cNvSpPr/>
          <p:nvPr/>
        </p:nvSpPr>
        <p:spPr>
          <a:xfrm>
            <a:off x="9275760" y="-431640"/>
            <a:ext cx="3090960" cy="3003480"/>
          </a:xfrm>
          <a:custGeom>
            <a:avLst/>
            <a:gdLst>
              <a:gd name="textAreaLeft" fmla="*/ 0 w 3090960"/>
              <a:gd name="textAreaRight" fmla="*/ 3091320 w 3090960"/>
              <a:gd name="textAreaTop" fmla="*/ 0 h 3003480"/>
              <a:gd name="textAreaBottom" fmla="*/ 3003840 h 3003480"/>
            </a:gdLst>
            <a:ahLst/>
            <a:rect l="textAreaLeft" t="textAreaTop" r="textAreaRight" b="textAreaBottom"/>
            <a:pathLst>
              <a:path w="21600" h="21600">
                <a:moveTo>
                  <a:pt x="20287" y="0"/>
                </a:moveTo>
                <a:lnTo>
                  <a:pt x="0" y="20925"/>
                </a:lnTo>
                <a:lnTo>
                  <a:pt x="658" y="21600"/>
                </a:lnTo>
                <a:lnTo>
                  <a:pt x="21600" y="0"/>
                </a:lnTo>
                <a:cubicBezTo>
                  <a:pt x="21600" y="0"/>
                  <a:pt x="20287" y="0"/>
                  <a:pt x="20287" y="0"/>
                </a:cubicBezTo>
                <a:close/>
                <a:moveTo>
                  <a:pt x="20287" y="0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0" name="AutoShape 52"/>
          <p:cNvSpPr/>
          <p:nvPr/>
        </p:nvSpPr>
        <p:spPr>
          <a:xfrm>
            <a:off x="9186840" y="-166680"/>
            <a:ext cx="2639880" cy="26449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644920"/>
              <a:gd name="textAreaBottom" fmla="*/ 2645280 h 2644920"/>
            </a:gdLst>
            <a:ahLst/>
            <a:rect l="textAreaLeft" t="textAreaTop" r="textAreaRight" b="textAreaBottom"/>
            <a:pathLst>
              <a:path w="21600" h="21600">
                <a:moveTo>
                  <a:pt x="21600" y="767"/>
                </a:moveTo>
                <a:lnTo>
                  <a:pt x="20830" y="0"/>
                </a:lnTo>
                <a:lnTo>
                  <a:pt x="0" y="20833"/>
                </a:lnTo>
                <a:lnTo>
                  <a:pt x="770" y="21600"/>
                </a:lnTo>
                <a:cubicBezTo>
                  <a:pt x="770" y="21600"/>
                  <a:pt x="21600" y="767"/>
                  <a:pt x="21600" y="767"/>
                </a:cubicBezTo>
                <a:close/>
                <a:moveTo>
                  <a:pt x="21600" y="767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1" name="AutoShape 53"/>
          <p:cNvSpPr/>
          <p:nvPr/>
        </p:nvSpPr>
        <p:spPr>
          <a:xfrm>
            <a:off x="9083520" y="-431640"/>
            <a:ext cx="2905200" cy="2815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20" y="0"/>
                </a:moveTo>
                <a:lnTo>
                  <a:pt x="0" y="20889"/>
                </a:lnTo>
                <a:lnTo>
                  <a:pt x="691" y="21600"/>
                </a:lnTo>
                <a:lnTo>
                  <a:pt x="21600" y="0"/>
                </a:lnTo>
                <a:cubicBezTo>
                  <a:pt x="21600" y="0"/>
                  <a:pt x="20220" y="0"/>
                  <a:pt x="20220" y="0"/>
                </a:cubicBezTo>
                <a:close/>
                <a:moveTo>
                  <a:pt x="20220" y="0"/>
                </a:moveTo>
              </a:path>
            </a:pathLst>
          </a:custGeom>
          <a:solidFill>
            <a:srgbClr val="c6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2" name="AutoShape 54"/>
          <p:cNvSpPr/>
          <p:nvPr/>
        </p:nvSpPr>
        <p:spPr>
          <a:xfrm>
            <a:off x="4211640" y="-431640"/>
            <a:ext cx="3409920" cy="3306600"/>
          </a:xfrm>
          <a:custGeom>
            <a:avLst/>
            <a:gdLst>
              <a:gd name="textAreaLeft" fmla="*/ 0 w 3409920"/>
              <a:gd name="textAreaRight" fmla="*/ 3410280 w 3409920"/>
              <a:gd name="textAreaTop" fmla="*/ 0 h 3306600"/>
              <a:gd name="textAreaBottom" fmla="*/ 3306960 h 330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94" y="21600"/>
                </a:lnTo>
                <a:lnTo>
                  <a:pt x="21600" y="20974"/>
                </a:lnTo>
                <a:lnTo>
                  <a:pt x="1215" y="0"/>
                </a:lnTo>
                <a:cubicBezTo>
                  <a:pt x="1215" y="0"/>
                  <a:pt x="0" y="0"/>
                  <a:pt x="0" y="0"/>
                </a:cubicBezTo>
                <a:close/>
                <a:moveTo>
                  <a:pt x="0" y="0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3" name="AutoShape 55"/>
          <p:cNvSpPr/>
          <p:nvPr/>
        </p:nvSpPr>
        <p:spPr>
          <a:xfrm>
            <a:off x="4152960" y="-431640"/>
            <a:ext cx="3370320" cy="3395520"/>
          </a:xfrm>
          <a:custGeom>
            <a:avLst/>
            <a:gdLst>
              <a:gd name="textAreaLeft" fmla="*/ 0 w 3370320"/>
              <a:gd name="textAreaRight" fmla="*/ 3370680 w 3370320"/>
              <a:gd name="textAreaTop" fmla="*/ 0 h 3395520"/>
              <a:gd name="textAreaBottom" fmla="*/ 3395880 h 33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789"/>
                </a:lnTo>
                <a:lnTo>
                  <a:pt x="21013" y="21600"/>
                </a:lnTo>
                <a:lnTo>
                  <a:pt x="21600" y="21016"/>
                </a:lnTo>
                <a:lnTo>
                  <a:pt x="380" y="0"/>
                </a:lnTo>
                <a:cubicBezTo>
                  <a:pt x="380" y="0"/>
                  <a:pt x="0" y="0"/>
                  <a:pt x="0" y="0"/>
                </a:cubicBezTo>
                <a:close/>
                <a:moveTo>
                  <a:pt x="0" y="0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4" name="AutoShape 56"/>
          <p:cNvSpPr/>
          <p:nvPr/>
        </p:nvSpPr>
        <p:spPr>
          <a:xfrm>
            <a:off x="4402080" y="-431640"/>
            <a:ext cx="3311640" cy="321120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3211200"/>
              <a:gd name="textAreaBottom" fmla="*/ 3211560 h 321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95" y="21600"/>
                </a:lnTo>
                <a:lnTo>
                  <a:pt x="21600" y="20975"/>
                </a:lnTo>
                <a:lnTo>
                  <a:pt x="1213" y="0"/>
                </a:lnTo>
                <a:cubicBezTo>
                  <a:pt x="1213" y="0"/>
                  <a:pt x="0" y="0"/>
                  <a:pt x="0" y="0"/>
                </a:cubicBezTo>
                <a:close/>
                <a:moveTo>
                  <a:pt x="0" y="0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5" name="AutoShape 57"/>
          <p:cNvSpPr/>
          <p:nvPr/>
        </p:nvSpPr>
        <p:spPr>
          <a:xfrm>
            <a:off x="4578480" y="-431640"/>
            <a:ext cx="3220920" cy="3117600"/>
          </a:xfrm>
          <a:custGeom>
            <a:avLst/>
            <a:gdLst>
              <a:gd name="textAreaLeft" fmla="*/ 0 w 3220920"/>
              <a:gd name="textAreaRight" fmla="*/ 3221280 w 3220920"/>
              <a:gd name="textAreaTop" fmla="*/ 0 h 3117600"/>
              <a:gd name="textAreaBottom" fmla="*/ 3117960 h 311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70" y="21600"/>
                </a:lnTo>
                <a:lnTo>
                  <a:pt x="21600" y="20948"/>
                </a:lnTo>
                <a:lnTo>
                  <a:pt x="1263" y="0"/>
                </a:lnTo>
                <a:cubicBezTo>
                  <a:pt x="1263" y="0"/>
                  <a:pt x="0" y="0"/>
                  <a:pt x="0" y="0"/>
                </a:cubicBezTo>
                <a:close/>
                <a:moveTo>
                  <a:pt x="0" y="0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6" name="AutoShape 58"/>
          <p:cNvSpPr/>
          <p:nvPr/>
        </p:nvSpPr>
        <p:spPr>
          <a:xfrm>
            <a:off x="4770360" y="-431640"/>
            <a:ext cx="3127320" cy="3025440"/>
          </a:xfrm>
          <a:custGeom>
            <a:avLst/>
            <a:gdLst>
              <a:gd name="textAreaLeft" fmla="*/ 0 w 3127320"/>
              <a:gd name="textAreaRight" fmla="*/ 3127680 w 3127320"/>
              <a:gd name="textAreaTop" fmla="*/ 0 h 3025440"/>
              <a:gd name="textAreaBottom" fmla="*/ 3025800 h 30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51" y="21600"/>
                </a:lnTo>
                <a:lnTo>
                  <a:pt x="21600" y="20928"/>
                </a:lnTo>
                <a:lnTo>
                  <a:pt x="1301" y="0"/>
                </a:lnTo>
                <a:cubicBezTo>
                  <a:pt x="1301" y="0"/>
                  <a:pt x="0" y="0"/>
                  <a:pt x="0" y="0"/>
                </a:cubicBezTo>
                <a:close/>
                <a:moveTo>
                  <a:pt x="0" y="0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7" name="AutoShape 59"/>
          <p:cNvSpPr/>
          <p:nvPr/>
        </p:nvSpPr>
        <p:spPr>
          <a:xfrm>
            <a:off x="4962600" y="-431640"/>
            <a:ext cx="3031920" cy="2931840"/>
          </a:xfrm>
          <a:custGeom>
            <a:avLst/>
            <a:gdLst>
              <a:gd name="textAreaLeft" fmla="*/ 0 w 3031920"/>
              <a:gd name="textAreaRight" fmla="*/ 3032280 w 3031920"/>
              <a:gd name="textAreaTop" fmla="*/ 0 h 2931840"/>
              <a:gd name="textAreaBottom" fmla="*/ 2932200 h 29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31" y="21600"/>
                </a:lnTo>
                <a:lnTo>
                  <a:pt x="21600" y="20907"/>
                </a:lnTo>
                <a:lnTo>
                  <a:pt x="1341" y="0"/>
                </a:lnTo>
                <a:cubicBezTo>
                  <a:pt x="1341" y="0"/>
                  <a:pt x="0" y="0"/>
                  <a:pt x="0" y="0"/>
                </a:cubicBezTo>
                <a:close/>
                <a:moveTo>
                  <a:pt x="0" y="0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8" name="AutoShape 60"/>
          <p:cNvSpPr/>
          <p:nvPr/>
        </p:nvSpPr>
        <p:spPr>
          <a:xfrm>
            <a:off x="5138640" y="-431640"/>
            <a:ext cx="2938680" cy="2838240"/>
          </a:xfrm>
          <a:custGeom>
            <a:avLst/>
            <a:gdLst>
              <a:gd name="textAreaLeft" fmla="*/ 0 w 2938680"/>
              <a:gd name="textAreaRight" fmla="*/ 2939040 w 2938680"/>
              <a:gd name="textAreaTop" fmla="*/ 0 h 2838240"/>
              <a:gd name="textAreaBottom" fmla="*/ 2838600 h 283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18" y="21600"/>
                </a:lnTo>
                <a:lnTo>
                  <a:pt x="21600" y="20893"/>
                </a:lnTo>
                <a:lnTo>
                  <a:pt x="1367" y="0"/>
                </a:lnTo>
                <a:cubicBezTo>
                  <a:pt x="1367" y="0"/>
                  <a:pt x="0" y="0"/>
                  <a:pt x="0" y="0"/>
                </a:cubicBezTo>
                <a:close/>
                <a:moveTo>
                  <a:pt x="0" y="0"/>
                </a:moveTo>
              </a:path>
            </a:pathLst>
          </a:custGeom>
          <a:solidFill>
            <a:srgbClr val="c6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5710320" y="483840"/>
            <a:ext cx="6913440" cy="74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National Office for Equity of Access to Higher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Located in th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Higher Education Autho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National access pl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Tar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oli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Funding leve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5" descr="http://www.hea.ie/files/files/image/C--Documents%20and%20Settings-pgallagher-Local%20Settings-Temporary%20Internet%20Files-Content_IE5-8UEA7XAI-National_Access_Plan_2008-2013_(English)%5B1%5D_pdf%20-%20Adobe%20Reader.bm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55480"/>
            <a:ext cx="3046320" cy="38894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" descr="C:\Users\mltrant\Downloads\2005accessplan.jpg"/>
          <p:cNvPicPr/>
          <p:nvPr/>
        </p:nvPicPr>
        <p:blipFill>
          <a:blip r:embed="rId4"/>
          <a:stretch/>
        </p:blipFill>
        <p:spPr>
          <a:xfrm>
            <a:off x="0" y="4491000"/>
            <a:ext cx="3909960" cy="4105440"/>
          </a:xfrm>
          <a:prstGeom prst="rect">
            <a:avLst/>
          </a:prstGeom>
          <a:ln w="0">
            <a:noFill/>
          </a:ln>
        </p:spPr>
      </p:pic>
      <p:pic>
        <p:nvPicPr>
          <p:cNvPr id="601" name="Content Placeholder 4" descr=""/>
          <p:cNvPicPr/>
          <p:nvPr/>
        </p:nvPicPr>
        <p:blipFill>
          <a:blip r:embed="rId5"/>
          <a:stretch/>
        </p:blipFill>
        <p:spPr>
          <a:xfrm>
            <a:off x="2852640" y="4005360"/>
            <a:ext cx="373068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650880" y="2276280"/>
            <a:ext cx="11702880" cy="6435720"/>
          </a:xfrm>
          <a:prstGeom prst="rect">
            <a:avLst/>
          </a:prstGeom>
          <a:ln w="0">
            <a:noFill/>
          </a:ln>
        </p:spPr>
      </p:pic>
      <p:sp>
        <p:nvSpPr>
          <p:cNvPr id="603" name="Content Placeholder 8"/>
          <p:cNvSpPr/>
          <p:nvPr/>
        </p:nvSpPr>
        <p:spPr>
          <a:xfrm>
            <a:off x="598320" y="2860560"/>
            <a:ext cx="11808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514440" indent="-514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Arial"/>
                <a:ea typeface="Arial"/>
              </a:rPr>
              <a:t>Infrastructur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Over 150 dedicated staff in HE colleges and National Access Offi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Every college has an access and equality pla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National and local data underpinning targe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Legislative framework for equality in educ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Funding structures to promote equality of acces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Promoting and sharing good examples of practice nationall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04" name="Picture 5" descr="C:\Users\mltrant\Pictures\infrastructure3.png"/>
          <p:cNvPicPr/>
          <p:nvPr/>
        </p:nvPicPr>
        <p:blipFill>
          <a:blip r:embed="rId3"/>
          <a:stretch/>
        </p:blipFill>
        <p:spPr>
          <a:xfrm>
            <a:off x="525600" y="339840"/>
            <a:ext cx="1204740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Content Placeholder 8"/>
          <p:cNvSpPr/>
          <p:nvPr/>
        </p:nvSpPr>
        <p:spPr>
          <a:xfrm>
            <a:off x="179280" y="412920"/>
            <a:ext cx="7115400" cy="78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514440" indent="-5144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00000"/>
                </a:solidFill>
                <a:latin typeface="Arial"/>
                <a:ea typeface="Arial"/>
              </a:rPr>
              <a:t>Progress indicators</a:t>
            </a:r>
            <a:endParaRPr b="0" lang="en-US" sz="43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  <a:ea typeface="Arial"/>
              </a:rPr>
              <a:t>6% of students have disabilitie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  <a:ea typeface="Arial"/>
              </a:rPr>
              <a:t>9% new entrants with alternative ethnicit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  <a:ea typeface="Arial"/>
              </a:rPr>
              <a:t>15% new entrants first-time mature student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  <a:ea typeface="Arial"/>
              </a:rPr>
              <a:t>More than 33,000 annuall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  <a:ea typeface="Arial"/>
              </a:rPr>
              <a:t>completing part-time/flexible qualification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  <a:ea typeface="Arial"/>
              </a:rPr>
              <a:t>Increase in progression from alternative entry route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06" name="Picture 2" descr="C:\Users\mltrant\Pictures\targets.jpg"/>
          <p:cNvPicPr/>
          <p:nvPr/>
        </p:nvPicPr>
        <p:blipFill>
          <a:blip r:embed="rId2"/>
          <a:stretch/>
        </p:blipFill>
        <p:spPr>
          <a:xfrm>
            <a:off x="8086680" y="1636560"/>
            <a:ext cx="4319640" cy="41562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3"/>
          <a:stretch/>
        </p:blipFill>
        <p:spPr>
          <a:xfrm>
            <a:off x="669600" y="1780920"/>
            <a:ext cx="7056360" cy="64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520" y="555480"/>
            <a:ext cx="73789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  <a:ea typeface="Hypatia Sans Pro"/>
              </a:rPr>
              <a:t>national access plan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Calibri"/>
                <a:ea typeface="Hypatia Sans Pro"/>
              </a:rPr>
              <a:t>2014-2016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AutoShape 2"/>
          <p:cNvSpPr/>
          <p:nvPr/>
        </p:nvSpPr>
        <p:spPr>
          <a:xfrm>
            <a:off x="7950240" y="5367240"/>
            <a:ext cx="1206360" cy="37620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00" h="15614">
                <a:moveTo>
                  <a:pt x="19937" y="14689"/>
                </a:moveTo>
                <a:cubicBezTo>
                  <a:pt x="13797" y="464"/>
                  <a:pt x="6092" y="4536"/>
                  <a:pt x="1671" y="15614"/>
                </a:cubicBezTo>
                <a:lnTo>
                  <a:pt x="0" y="11742"/>
                </a:lnTo>
                <a:cubicBezTo>
                  <a:pt x="5256" y="-1271"/>
                  <a:pt x="14352" y="-5986"/>
                  <a:pt x="21600" y="10818"/>
                </a:cubicBezTo>
                <a:cubicBezTo>
                  <a:pt x="21600" y="10818"/>
                  <a:pt x="19937" y="14689"/>
                  <a:pt x="19937" y="14689"/>
                </a:cubicBezTo>
                <a:close/>
                <a:moveTo>
                  <a:pt x="19937" y="14689"/>
                </a:moveTo>
              </a:path>
            </a:pathLst>
          </a:custGeom>
          <a:solidFill>
            <a:srgbClr val="c6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AutoShape 3"/>
          <p:cNvSpPr/>
          <p:nvPr/>
        </p:nvSpPr>
        <p:spPr>
          <a:xfrm>
            <a:off x="7391520" y="4557600"/>
            <a:ext cx="2320920" cy="62100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621000"/>
              <a:gd name="textAreaBottom" fmla="*/ 621360 h 621000"/>
            </a:gdLst>
            <a:ahLst/>
            <a:rect l="textAreaLeft" t="textAreaTop" r="textAreaRight" b="textAreaBottom"/>
            <a:pathLst>
              <a:path w="21600" h="15042">
                <a:moveTo>
                  <a:pt x="20735" y="14478"/>
                </a:moveTo>
                <a:cubicBezTo>
                  <a:pt x="14083" y="-2801"/>
                  <a:pt x="5757" y="1830"/>
                  <a:pt x="867" y="15042"/>
                </a:cubicBezTo>
                <a:lnTo>
                  <a:pt x="0" y="12791"/>
                </a:lnTo>
                <a:cubicBezTo>
                  <a:pt x="5323" y="-1549"/>
                  <a:pt x="14370" y="-6558"/>
                  <a:pt x="21600" y="12222"/>
                </a:cubicBezTo>
                <a:cubicBezTo>
                  <a:pt x="21600" y="12222"/>
                  <a:pt x="20735" y="14478"/>
                  <a:pt x="20735" y="14478"/>
                </a:cubicBezTo>
                <a:close/>
                <a:moveTo>
                  <a:pt x="20735" y="14478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AutoShape 4"/>
          <p:cNvSpPr/>
          <p:nvPr/>
        </p:nvSpPr>
        <p:spPr>
          <a:xfrm>
            <a:off x="7567560" y="4822920"/>
            <a:ext cx="1952640" cy="539640"/>
          </a:xfrm>
          <a:custGeom>
            <a:avLst/>
            <a:gdLst>
              <a:gd name="textAreaLeft" fmla="*/ 0 w 1952640"/>
              <a:gd name="textAreaRight" fmla="*/ 1952640 w 1952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15179">
                <a:moveTo>
                  <a:pt x="20572" y="14536"/>
                </a:moveTo>
                <a:cubicBezTo>
                  <a:pt x="14028" y="-2047"/>
                  <a:pt x="5833" y="2455"/>
                  <a:pt x="1042" y="15179"/>
                </a:cubicBezTo>
                <a:lnTo>
                  <a:pt x="0" y="12539"/>
                </a:lnTo>
                <a:cubicBezTo>
                  <a:pt x="5316" y="-1496"/>
                  <a:pt x="14377" y="-6421"/>
                  <a:pt x="21600" y="11919"/>
                </a:cubicBezTo>
                <a:cubicBezTo>
                  <a:pt x="21600" y="11919"/>
                  <a:pt x="20572" y="14536"/>
                  <a:pt x="20572" y="14536"/>
                </a:cubicBezTo>
                <a:close/>
                <a:moveTo>
                  <a:pt x="20572" y="14536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AutoShape 5"/>
          <p:cNvSpPr/>
          <p:nvPr/>
        </p:nvSpPr>
        <p:spPr>
          <a:xfrm>
            <a:off x="7670880" y="4956120"/>
            <a:ext cx="1765080" cy="498600"/>
          </a:xfrm>
          <a:custGeom>
            <a:avLst/>
            <a:gdLst>
              <a:gd name="textAreaLeft" fmla="*/ 0 w 1765080"/>
              <a:gd name="textAreaRight" fmla="*/ 1765440 w 176508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21600" h="15255">
                <a:moveTo>
                  <a:pt x="20463" y="14560"/>
                </a:moveTo>
                <a:cubicBezTo>
                  <a:pt x="13987" y="-1596"/>
                  <a:pt x="5874" y="2829"/>
                  <a:pt x="1144" y="15255"/>
                </a:cubicBezTo>
                <a:lnTo>
                  <a:pt x="0" y="12401"/>
                </a:lnTo>
                <a:cubicBezTo>
                  <a:pt x="5302" y="-1450"/>
                  <a:pt x="14367" y="-6345"/>
                  <a:pt x="21600" y="11711"/>
                </a:cubicBezTo>
                <a:cubicBezTo>
                  <a:pt x="21600" y="11711"/>
                  <a:pt x="20463" y="14560"/>
                  <a:pt x="20463" y="14560"/>
                </a:cubicBezTo>
                <a:close/>
                <a:moveTo>
                  <a:pt x="20463" y="14560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AutoShape 6"/>
          <p:cNvSpPr/>
          <p:nvPr/>
        </p:nvSpPr>
        <p:spPr>
          <a:xfrm>
            <a:off x="7478640" y="4691160"/>
            <a:ext cx="2138400" cy="579240"/>
          </a:xfrm>
          <a:custGeom>
            <a:avLst/>
            <a:gdLst>
              <a:gd name="textAreaLeft" fmla="*/ 0 w 2138400"/>
              <a:gd name="textAreaRight" fmla="*/ 2138760 w 213840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21600" h="15101">
                <a:moveTo>
                  <a:pt x="20661" y="14501"/>
                </a:moveTo>
                <a:cubicBezTo>
                  <a:pt x="14056" y="-2464"/>
                  <a:pt x="5788" y="2109"/>
                  <a:pt x="941" y="15101"/>
                </a:cubicBezTo>
                <a:lnTo>
                  <a:pt x="0" y="12683"/>
                </a:lnTo>
                <a:cubicBezTo>
                  <a:pt x="5317" y="-1520"/>
                  <a:pt x="14368" y="-6499"/>
                  <a:pt x="21600" y="12078"/>
                </a:cubicBezTo>
                <a:cubicBezTo>
                  <a:pt x="21600" y="12078"/>
                  <a:pt x="20661" y="14501"/>
                  <a:pt x="20661" y="14501"/>
                </a:cubicBezTo>
                <a:close/>
                <a:moveTo>
                  <a:pt x="20661" y="14501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AutoShape 7"/>
          <p:cNvSpPr/>
          <p:nvPr/>
        </p:nvSpPr>
        <p:spPr>
          <a:xfrm>
            <a:off x="7759800" y="5087880"/>
            <a:ext cx="1579320" cy="457200"/>
          </a:xfrm>
          <a:custGeom>
            <a:avLst/>
            <a:gdLst>
              <a:gd name="textAreaLeft" fmla="*/ 0 w 1579320"/>
              <a:gd name="textAreaRight" fmla="*/ 1579680 w 1579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15354">
                <a:moveTo>
                  <a:pt x="20329" y="14598"/>
                </a:moveTo>
                <a:cubicBezTo>
                  <a:pt x="13941" y="-1033"/>
                  <a:pt x="5933" y="3295"/>
                  <a:pt x="1283" y="15354"/>
                </a:cubicBezTo>
                <a:lnTo>
                  <a:pt x="0" y="12216"/>
                </a:lnTo>
                <a:cubicBezTo>
                  <a:pt x="5294" y="-1406"/>
                  <a:pt x="14368" y="-6246"/>
                  <a:pt x="21600" y="11475"/>
                </a:cubicBezTo>
                <a:cubicBezTo>
                  <a:pt x="21600" y="11475"/>
                  <a:pt x="20329" y="14598"/>
                  <a:pt x="20329" y="14598"/>
                </a:cubicBezTo>
                <a:close/>
                <a:moveTo>
                  <a:pt x="20329" y="14598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AutoShape 8"/>
          <p:cNvSpPr/>
          <p:nvPr/>
        </p:nvSpPr>
        <p:spPr>
          <a:xfrm>
            <a:off x="7846920" y="5235480"/>
            <a:ext cx="1393920" cy="41616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21600" h="15466">
                <a:moveTo>
                  <a:pt x="20159" y="14633"/>
                </a:moveTo>
                <a:cubicBezTo>
                  <a:pt x="13876" y="-376"/>
                  <a:pt x="5998" y="3840"/>
                  <a:pt x="1445" y="15466"/>
                </a:cubicBezTo>
                <a:lnTo>
                  <a:pt x="0" y="12014"/>
                </a:lnTo>
                <a:cubicBezTo>
                  <a:pt x="5274" y="-1340"/>
                  <a:pt x="14355" y="-6134"/>
                  <a:pt x="21600" y="11176"/>
                </a:cubicBezTo>
                <a:cubicBezTo>
                  <a:pt x="21600" y="11176"/>
                  <a:pt x="20159" y="14633"/>
                  <a:pt x="20159" y="14633"/>
                </a:cubicBezTo>
                <a:close/>
                <a:moveTo>
                  <a:pt x="20159" y="14633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AutoShape 9"/>
          <p:cNvSpPr/>
          <p:nvPr/>
        </p:nvSpPr>
        <p:spPr>
          <a:xfrm>
            <a:off x="4270320" y="5176800"/>
            <a:ext cx="3314880" cy="3225960"/>
          </a:xfrm>
          <a:custGeom>
            <a:avLst/>
            <a:gdLst>
              <a:gd name="textAreaLeft" fmla="*/ 0 w 3314880"/>
              <a:gd name="textAreaRight" fmla="*/ 3315240 w 331488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1224" y="21600"/>
                </a:moveTo>
                <a:lnTo>
                  <a:pt x="21600" y="629"/>
                </a:lnTo>
                <a:lnTo>
                  <a:pt x="20986" y="0"/>
                </a:lnTo>
                <a:lnTo>
                  <a:pt x="0" y="21600"/>
                </a:lnTo>
                <a:cubicBezTo>
                  <a:pt x="0" y="21600"/>
                  <a:pt x="1224" y="21600"/>
                  <a:pt x="1224" y="21600"/>
                </a:cubicBezTo>
                <a:close/>
                <a:moveTo>
                  <a:pt x="1224" y="21600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AutoShape 10"/>
          <p:cNvSpPr/>
          <p:nvPr/>
        </p:nvSpPr>
        <p:spPr>
          <a:xfrm>
            <a:off x="4152960" y="5087880"/>
            <a:ext cx="3332160" cy="3319560"/>
          </a:xfrm>
          <a:custGeom>
            <a:avLst/>
            <a:gdLst>
              <a:gd name="textAreaLeft" fmla="*/ 0 w 3332160"/>
              <a:gd name="textAreaRight" fmla="*/ 3332520 w 3332160"/>
              <a:gd name="textAreaTop" fmla="*/ 0 h 3319560"/>
              <a:gd name="textAreaBottom" fmla="*/ 3319920 h 3319560"/>
            </a:gdLst>
            <a:ahLst/>
            <a:rect l="textAreaLeft" t="textAreaTop" r="textAreaRight" b="textAreaBottom"/>
            <a:pathLst>
              <a:path w="21600" h="21600">
                <a:moveTo>
                  <a:pt x="734" y="21600"/>
                </a:moveTo>
                <a:lnTo>
                  <a:pt x="21600" y="605"/>
                </a:lnTo>
                <a:lnTo>
                  <a:pt x="20996" y="0"/>
                </a:lnTo>
                <a:lnTo>
                  <a:pt x="0" y="21126"/>
                </a:lnTo>
                <a:lnTo>
                  <a:pt x="0" y="21600"/>
                </a:lnTo>
                <a:cubicBezTo>
                  <a:pt x="0" y="21600"/>
                  <a:pt x="734" y="21600"/>
                  <a:pt x="734" y="21600"/>
                </a:cubicBezTo>
                <a:close/>
                <a:moveTo>
                  <a:pt x="734" y="21600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4446720" y="5264280"/>
            <a:ext cx="3219480" cy="3133440"/>
          </a:xfrm>
          <a:custGeom>
            <a:avLst/>
            <a:gdLst>
              <a:gd name="textAreaLeft" fmla="*/ 0 w 3219480"/>
              <a:gd name="textAreaRight" fmla="*/ 3219840 w 3219480"/>
              <a:gd name="textAreaTop" fmla="*/ 0 h 3133440"/>
              <a:gd name="textAreaBottom" fmla="*/ 3133800 h 3133440"/>
            </a:gdLst>
            <a:ahLst/>
            <a:rect l="textAreaLeft" t="textAreaTop" r="textAreaRight" b="textAreaBottom"/>
            <a:pathLst>
              <a:path w="21600" h="21600">
                <a:moveTo>
                  <a:pt x="1245" y="21600"/>
                </a:moveTo>
                <a:lnTo>
                  <a:pt x="21600" y="640"/>
                </a:lnTo>
                <a:lnTo>
                  <a:pt x="20976" y="0"/>
                </a:lnTo>
                <a:lnTo>
                  <a:pt x="0" y="21600"/>
                </a:lnTo>
                <a:cubicBezTo>
                  <a:pt x="0" y="21600"/>
                  <a:pt x="1245" y="21600"/>
                  <a:pt x="1245" y="21600"/>
                </a:cubicBezTo>
                <a:close/>
                <a:moveTo>
                  <a:pt x="1245" y="21600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AutoShape 12"/>
          <p:cNvSpPr/>
          <p:nvPr/>
        </p:nvSpPr>
        <p:spPr>
          <a:xfrm>
            <a:off x="4638600" y="5353200"/>
            <a:ext cx="3129120" cy="3041640"/>
          </a:xfrm>
          <a:custGeom>
            <a:avLst/>
            <a:gdLst>
              <a:gd name="textAreaLeft" fmla="*/ 0 w 3129120"/>
              <a:gd name="textAreaRight" fmla="*/ 3129480 w 3129120"/>
              <a:gd name="textAreaTop" fmla="*/ 0 h 3041640"/>
              <a:gd name="textAreaBottom" fmla="*/ 3042000 h 3041640"/>
            </a:gdLst>
            <a:ahLst/>
            <a:rect l="textAreaLeft" t="textAreaTop" r="textAreaRight" b="textAreaBottom"/>
            <a:pathLst>
              <a:path w="21600" h="21600">
                <a:moveTo>
                  <a:pt x="1297" y="21600"/>
                </a:moveTo>
                <a:lnTo>
                  <a:pt x="21600" y="667"/>
                </a:lnTo>
                <a:lnTo>
                  <a:pt x="20950" y="0"/>
                </a:lnTo>
                <a:lnTo>
                  <a:pt x="0" y="21600"/>
                </a:lnTo>
                <a:cubicBezTo>
                  <a:pt x="0" y="21600"/>
                  <a:pt x="1297" y="21600"/>
                  <a:pt x="1297" y="21600"/>
                </a:cubicBezTo>
                <a:close/>
                <a:moveTo>
                  <a:pt x="1297" y="21600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AutoShape 13"/>
          <p:cNvSpPr/>
          <p:nvPr/>
        </p:nvSpPr>
        <p:spPr>
          <a:xfrm>
            <a:off x="4815000" y="5456160"/>
            <a:ext cx="3036600" cy="2948040"/>
          </a:xfrm>
          <a:custGeom>
            <a:avLst/>
            <a:gdLst>
              <a:gd name="textAreaLeft" fmla="*/ 0 w 3036600"/>
              <a:gd name="textAreaRight" fmla="*/ 3036960 w 3036600"/>
              <a:gd name="textAreaTop" fmla="*/ 0 h 2948040"/>
              <a:gd name="textAreaBottom" fmla="*/ 2948400 h 2948040"/>
            </a:gdLst>
            <a:ahLst/>
            <a:rect l="textAreaLeft" t="textAreaTop" r="textAreaRight" b="textAreaBottom"/>
            <a:pathLst>
              <a:path w="21600" h="21600">
                <a:moveTo>
                  <a:pt x="1336" y="21600"/>
                </a:moveTo>
                <a:lnTo>
                  <a:pt x="21600" y="688"/>
                </a:lnTo>
                <a:lnTo>
                  <a:pt x="20930" y="0"/>
                </a:lnTo>
                <a:lnTo>
                  <a:pt x="0" y="21600"/>
                </a:lnTo>
                <a:cubicBezTo>
                  <a:pt x="0" y="21600"/>
                  <a:pt x="1336" y="21600"/>
                  <a:pt x="1336" y="21600"/>
                </a:cubicBezTo>
                <a:close/>
                <a:moveTo>
                  <a:pt x="1336" y="21600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AutoShape 14"/>
          <p:cNvSpPr/>
          <p:nvPr/>
        </p:nvSpPr>
        <p:spPr>
          <a:xfrm>
            <a:off x="5005440" y="5543640"/>
            <a:ext cx="2943000" cy="2855880"/>
          </a:xfrm>
          <a:custGeom>
            <a:avLst/>
            <a:gdLst>
              <a:gd name="textAreaLeft" fmla="*/ 0 w 2943000"/>
              <a:gd name="textAreaRight" fmla="*/ 2943360 w 294300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21600" h="21600">
                <a:moveTo>
                  <a:pt x="1379" y="21600"/>
                </a:moveTo>
                <a:lnTo>
                  <a:pt x="21600" y="711"/>
                </a:lnTo>
                <a:lnTo>
                  <a:pt x="20909" y="0"/>
                </a:lnTo>
                <a:lnTo>
                  <a:pt x="0" y="21600"/>
                </a:lnTo>
                <a:cubicBezTo>
                  <a:pt x="0" y="21600"/>
                  <a:pt x="1379" y="21600"/>
                  <a:pt x="1379" y="21600"/>
                </a:cubicBezTo>
                <a:close/>
                <a:moveTo>
                  <a:pt x="1379" y="21600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AutoShape 15"/>
          <p:cNvSpPr/>
          <p:nvPr/>
        </p:nvSpPr>
        <p:spPr>
          <a:xfrm>
            <a:off x="5197320" y="5632560"/>
            <a:ext cx="2849760" cy="2762280"/>
          </a:xfrm>
          <a:custGeom>
            <a:avLst/>
            <a:gdLst>
              <a:gd name="textAreaLeft" fmla="*/ 0 w 2849760"/>
              <a:gd name="textAreaRight" fmla="*/ 2850120 w 2849760"/>
              <a:gd name="textAreaTop" fmla="*/ 0 h 2762280"/>
              <a:gd name="textAreaBottom" fmla="*/ 2762640 h 2762280"/>
            </a:gdLst>
            <a:ahLst/>
            <a:rect l="textAreaLeft" t="textAreaTop" r="textAreaRight" b="textAreaBottom"/>
            <a:pathLst>
              <a:path w="21600" h="21600">
                <a:moveTo>
                  <a:pt x="1407" y="21600"/>
                </a:moveTo>
                <a:lnTo>
                  <a:pt x="21600" y="726"/>
                </a:lnTo>
                <a:lnTo>
                  <a:pt x="20895" y="0"/>
                </a:lnTo>
                <a:lnTo>
                  <a:pt x="0" y="21600"/>
                </a:lnTo>
                <a:cubicBezTo>
                  <a:pt x="0" y="21600"/>
                  <a:pt x="1407" y="21600"/>
                  <a:pt x="1407" y="21600"/>
                </a:cubicBezTo>
                <a:close/>
                <a:moveTo>
                  <a:pt x="1407" y="21600"/>
                </a:moveTo>
              </a:path>
            </a:pathLst>
          </a:custGeom>
          <a:solidFill>
            <a:srgbClr val="c6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" name="AutoShape 16"/>
          <p:cNvSpPr/>
          <p:nvPr/>
        </p:nvSpPr>
        <p:spPr>
          <a:xfrm>
            <a:off x="9510840" y="5146560"/>
            <a:ext cx="3351240" cy="3249720"/>
          </a:xfrm>
          <a:custGeom>
            <a:avLst/>
            <a:gdLst>
              <a:gd name="textAreaLeft" fmla="*/ 0 w 3351240"/>
              <a:gd name="textAreaRight" fmla="*/ 3351600 w 3351240"/>
              <a:gd name="textAreaTop" fmla="*/ 0 h 3249720"/>
              <a:gd name="textAreaBottom" fmla="*/ 3250080 h 324972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17" y="0"/>
                </a:lnTo>
                <a:lnTo>
                  <a:pt x="0" y="637"/>
                </a:lnTo>
                <a:lnTo>
                  <a:pt x="20364" y="21600"/>
                </a:lnTo>
                <a:cubicBezTo>
                  <a:pt x="20364" y="21600"/>
                  <a:pt x="21600" y="21600"/>
                  <a:pt x="21600" y="21600"/>
                </a:cubicBezTo>
                <a:close/>
                <a:moveTo>
                  <a:pt x="21600" y="21600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" name="AutoShape 17"/>
          <p:cNvSpPr/>
          <p:nvPr/>
        </p:nvSpPr>
        <p:spPr>
          <a:xfrm>
            <a:off x="9613800" y="5057640"/>
            <a:ext cx="3060720" cy="306072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3060720"/>
              <a:gd name="textAreaBottom" fmla="*/ 3061080 h 3060720"/>
            </a:gdLst>
            <a:ahLst/>
            <a:rect l="textAreaLeft" t="textAreaTop" r="textAreaRight" b="textAreaBottom"/>
            <a:pathLst>
              <a:path w="21600" h="21600">
                <a:moveTo>
                  <a:pt x="21596" y="20912"/>
                </a:moveTo>
                <a:cubicBezTo>
                  <a:pt x="21598" y="20911"/>
                  <a:pt x="21599" y="20909"/>
                  <a:pt x="21600" y="20908"/>
                </a:cubicBezTo>
                <a:lnTo>
                  <a:pt x="647" y="0"/>
                </a:lnTo>
                <a:lnTo>
                  <a:pt x="0" y="648"/>
                </a:lnTo>
                <a:lnTo>
                  <a:pt x="20998" y="21600"/>
                </a:lnTo>
                <a:cubicBezTo>
                  <a:pt x="21180" y="21357"/>
                  <a:pt x="21380" y="21126"/>
                  <a:pt x="21596" y="20912"/>
                </a:cubicBezTo>
                <a:close/>
                <a:moveTo>
                  <a:pt x="21596" y="20912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" name="AutoShape 18"/>
          <p:cNvSpPr/>
          <p:nvPr/>
        </p:nvSpPr>
        <p:spPr>
          <a:xfrm>
            <a:off x="9421920" y="5249880"/>
            <a:ext cx="3254400" cy="3152880"/>
          </a:xfrm>
          <a:custGeom>
            <a:avLst/>
            <a:gdLst>
              <a:gd name="textAreaLeft" fmla="*/ 0 w 3254400"/>
              <a:gd name="textAreaRight" fmla="*/ 3254760 w 3254400"/>
              <a:gd name="textAreaTop" fmla="*/ 0 h 3152880"/>
              <a:gd name="textAreaBottom" fmla="*/ 3153240 h 315288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16" y="0"/>
                </a:lnTo>
                <a:lnTo>
                  <a:pt x="0" y="637"/>
                </a:lnTo>
                <a:lnTo>
                  <a:pt x="20365" y="21600"/>
                </a:lnTo>
                <a:cubicBezTo>
                  <a:pt x="20365" y="21600"/>
                  <a:pt x="21600" y="21600"/>
                  <a:pt x="21600" y="21600"/>
                </a:cubicBezTo>
                <a:close/>
                <a:moveTo>
                  <a:pt x="21600" y="21600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AutoShape 19"/>
          <p:cNvSpPr/>
          <p:nvPr/>
        </p:nvSpPr>
        <p:spPr>
          <a:xfrm>
            <a:off x="9334440" y="5338800"/>
            <a:ext cx="2844720" cy="2838240"/>
          </a:xfrm>
          <a:custGeom>
            <a:avLst/>
            <a:gdLst>
              <a:gd name="textAreaLeft" fmla="*/ 0 w 2844720"/>
              <a:gd name="textAreaRight" fmla="*/ 2845080 w 2844720"/>
              <a:gd name="textAreaTop" fmla="*/ 0 h 2838240"/>
              <a:gd name="textAreaBottom" fmla="*/ 2838600 h 2838240"/>
            </a:gdLst>
            <a:ahLst/>
            <a:rect l="textAreaLeft" t="textAreaTop" r="textAreaRight" b="textAreaBottom"/>
            <a:pathLst>
              <a:path w="21600" h="21600">
                <a:moveTo>
                  <a:pt x="0" y="716"/>
                </a:moveTo>
                <a:lnTo>
                  <a:pt x="20887" y="21600"/>
                </a:lnTo>
                <a:lnTo>
                  <a:pt x="21600" y="20884"/>
                </a:lnTo>
                <a:lnTo>
                  <a:pt x="713" y="0"/>
                </a:lnTo>
                <a:cubicBezTo>
                  <a:pt x="713" y="0"/>
                  <a:pt x="0" y="716"/>
                  <a:pt x="0" y="716"/>
                </a:cubicBezTo>
                <a:close/>
                <a:moveTo>
                  <a:pt x="0" y="716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AutoShape 20"/>
          <p:cNvSpPr/>
          <p:nvPr/>
        </p:nvSpPr>
        <p:spPr>
          <a:xfrm>
            <a:off x="9245520" y="5425920"/>
            <a:ext cx="3068640" cy="2968920"/>
          </a:xfrm>
          <a:custGeom>
            <a:avLst/>
            <a:gdLst>
              <a:gd name="textAreaLeft" fmla="*/ 0 w 3068640"/>
              <a:gd name="textAreaRight" fmla="*/ 3069000 w 3068640"/>
              <a:gd name="textAreaTop" fmla="*/ 0 h 2968920"/>
              <a:gd name="textAreaBottom" fmla="*/ 2969280 h 296892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61" y="0"/>
                </a:lnTo>
                <a:lnTo>
                  <a:pt x="0" y="685"/>
                </a:lnTo>
                <a:lnTo>
                  <a:pt x="20274" y="21600"/>
                </a:lnTo>
                <a:cubicBezTo>
                  <a:pt x="20274" y="21600"/>
                  <a:pt x="21600" y="21600"/>
                  <a:pt x="21600" y="21600"/>
                </a:cubicBezTo>
                <a:close/>
                <a:moveTo>
                  <a:pt x="21600" y="21600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AutoShape 21"/>
          <p:cNvSpPr/>
          <p:nvPr/>
        </p:nvSpPr>
        <p:spPr>
          <a:xfrm>
            <a:off x="9142560" y="5529240"/>
            <a:ext cx="900000" cy="898560"/>
          </a:xfrm>
          <a:custGeom>
            <a:avLst/>
            <a:gdLst>
              <a:gd name="textAreaLeft" fmla="*/ 0 w 900000"/>
              <a:gd name="textAreaRight" fmla="*/ 900360 w 90000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1600" h="21600">
                <a:moveTo>
                  <a:pt x="0" y="2265"/>
                </a:moveTo>
                <a:lnTo>
                  <a:pt x="19344" y="21600"/>
                </a:lnTo>
                <a:lnTo>
                  <a:pt x="21600" y="19335"/>
                </a:lnTo>
                <a:lnTo>
                  <a:pt x="2256" y="0"/>
                </a:lnTo>
                <a:cubicBezTo>
                  <a:pt x="2256" y="0"/>
                  <a:pt x="0" y="2265"/>
                  <a:pt x="0" y="2265"/>
                </a:cubicBezTo>
                <a:close/>
                <a:moveTo>
                  <a:pt x="0" y="2265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AutoShape 22"/>
          <p:cNvSpPr/>
          <p:nvPr/>
        </p:nvSpPr>
        <p:spPr>
          <a:xfrm>
            <a:off x="9923400" y="3395520"/>
            <a:ext cx="374760" cy="1206720"/>
          </a:xfrm>
          <a:custGeom>
            <a:avLst/>
            <a:gdLst>
              <a:gd name="textAreaLeft" fmla="*/ 0 w 374760"/>
              <a:gd name="textAreaRight" fmla="*/ 375120 w 374760"/>
              <a:gd name="textAreaTop" fmla="*/ 0 h 1206720"/>
              <a:gd name="textAreaBottom" fmla="*/ 1206720 h 1206720"/>
            </a:gdLst>
            <a:ahLst/>
            <a:rect l="textAreaLeft" t="textAreaTop" r="textAreaRight" b="textAreaBottom"/>
            <a:pathLst>
              <a:path w="15613" h="21600">
                <a:moveTo>
                  <a:pt x="14776" y="19934"/>
                </a:moveTo>
                <a:cubicBezTo>
                  <a:pt x="479" y="13808"/>
                  <a:pt x="4525" y="6098"/>
                  <a:pt x="15613" y="1667"/>
                </a:cubicBezTo>
                <a:lnTo>
                  <a:pt x="11722" y="0"/>
                </a:lnTo>
                <a:cubicBezTo>
                  <a:pt x="-1304" y="5269"/>
                  <a:pt x="-5987" y="14368"/>
                  <a:pt x="10902" y="21600"/>
                </a:cubicBezTo>
                <a:cubicBezTo>
                  <a:pt x="10902" y="21600"/>
                  <a:pt x="14776" y="19934"/>
                  <a:pt x="14776" y="19934"/>
                </a:cubicBezTo>
                <a:close/>
                <a:moveTo>
                  <a:pt x="14776" y="19934"/>
                </a:moveTo>
              </a:path>
            </a:pathLst>
          </a:custGeom>
          <a:solidFill>
            <a:srgbClr val="c6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AutoShape 23"/>
          <p:cNvSpPr/>
          <p:nvPr/>
        </p:nvSpPr>
        <p:spPr>
          <a:xfrm>
            <a:off x="9128160" y="2835360"/>
            <a:ext cx="619200" cy="2320920"/>
          </a:xfrm>
          <a:custGeom>
            <a:avLst/>
            <a:gdLst>
              <a:gd name="textAreaLeft" fmla="*/ 0 w 619200"/>
              <a:gd name="textAreaRight" fmla="*/ 619560 w 619200"/>
              <a:gd name="textAreaTop" fmla="*/ 0 h 2320920"/>
              <a:gd name="textAreaBottom" fmla="*/ 2321280 h 2320920"/>
            </a:gdLst>
            <a:ahLst/>
            <a:rect l="textAreaLeft" t="textAreaTop" r="textAreaRight" b="textAreaBottom"/>
            <a:pathLst>
              <a:path w="15038" h="21600">
                <a:moveTo>
                  <a:pt x="14583" y="20733"/>
                </a:moveTo>
                <a:cubicBezTo>
                  <a:pt x="-2794" y="14095"/>
                  <a:pt x="1808" y="5766"/>
                  <a:pt x="15038" y="865"/>
                </a:cubicBezTo>
                <a:lnTo>
                  <a:pt x="12775" y="0"/>
                </a:lnTo>
                <a:cubicBezTo>
                  <a:pt x="-1586" y="5335"/>
                  <a:pt x="-6562" y="14386"/>
                  <a:pt x="12324" y="21600"/>
                </a:cubicBezTo>
                <a:cubicBezTo>
                  <a:pt x="12324" y="21600"/>
                  <a:pt x="14583" y="20733"/>
                  <a:pt x="14583" y="20733"/>
                </a:cubicBezTo>
                <a:close/>
                <a:moveTo>
                  <a:pt x="14583" y="20733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AutoShape 24"/>
          <p:cNvSpPr/>
          <p:nvPr/>
        </p:nvSpPr>
        <p:spPr>
          <a:xfrm>
            <a:off x="9393120" y="3027240"/>
            <a:ext cx="538200" cy="1951200"/>
          </a:xfrm>
          <a:custGeom>
            <a:avLst/>
            <a:gdLst>
              <a:gd name="textAreaLeft" fmla="*/ 0 w 538200"/>
              <a:gd name="textAreaRight" fmla="*/ 538560 w 538200"/>
              <a:gd name="textAreaTop" fmla="*/ 0 h 1951200"/>
              <a:gd name="textAreaBottom" fmla="*/ 1951560 h 1951200"/>
            </a:gdLst>
            <a:ahLst/>
            <a:rect l="textAreaLeft" t="textAreaTop" r="textAreaRight" b="textAreaBottom"/>
            <a:pathLst>
              <a:path w="15175" h="21600">
                <a:moveTo>
                  <a:pt x="14636" y="20570"/>
                </a:moveTo>
                <a:cubicBezTo>
                  <a:pt x="-2037" y="14040"/>
                  <a:pt x="2435" y="5842"/>
                  <a:pt x="15175" y="1039"/>
                </a:cubicBezTo>
                <a:lnTo>
                  <a:pt x="12521" y="0"/>
                </a:lnTo>
                <a:cubicBezTo>
                  <a:pt x="-1532" y="5327"/>
                  <a:pt x="-6425" y="14393"/>
                  <a:pt x="12016" y="21600"/>
                </a:cubicBezTo>
                <a:cubicBezTo>
                  <a:pt x="12016" y="21600"/>
                  <a:pt x="14636" y="20570"/>
                  <a:pt x="14636" y="20570"/>
                </a:cubicBezTo>
                <a:close/>
                <a:moveTo>
                  <a:pt x="14636" y="20570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AutoShape 25"/>
          <p:cNvSpPr/>
          <p:nvPr/>
        </p:nvSpPr>
        <p:spPr>
          <a:xfrm>
            <a:off x="9524880" y="3114720"/>
            <a:ext cx="497160" cy="1765080"/>
          </a:xfrm>
          <a:custGeom>
            <a:avLst/>
            <a:gdLst>
              <a:gd name="textAreaLeft" fmla="*/ 0 w 497160"/>
              <a:gd name="textAreaRight" fmla="*/ 497520 w 497160"/>
              <a:gd name="textAreaTop" fmla="*/ 0 h 1765080"/>
              <a:gd name="textAreaBottom" fmla="*/ 1765440 h 1765080"/>
            </a:gdLst>
            <a:ahLst/>
            <a:rect l="textAreaLeft" t="textAreaTop" r="textAreaRight" b="textAreaBottom"/>
            <a:pathLst>
              <a:path w="15252" h="21600">
                <a:moveTo>
                  <a:pt x="14657" y="20461"/>
                </a:moveTo>
                <a:cubicBezTo>
                  <a:pt x="-1586" y="13998"/>
                  <a:pt x="2810" y="5882"/>
                  <a:pt x="15251" y="1142"/>
                </a:cubicBezTo>
                <a:lnTo>
                  <a:pt x="12382" y="0"/>
                </a:lnTo>
                <a:cubicBezTo>
                  <a:pt x="-1486" y="5314"/>
                  <a:pt x="-6349" y="14383"/>
                  <a:pt x="11805" y="21600"/>
                </a:cubicBezTo>
                <a:cubicBezTo>
                  <a:pt x="11805" y="21600"/>
                  <a:pt x="14657" y="20461"/>
                  <a:pt x="14657" y="20461"/>
                </a:cubicBezTo>
                <a:close/>
                <a:moveTo>
                  <a:pt x="14657" y="20461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AutoShape 26"/>
          <p:cNvSpPr/>
          <p:nvPr/>
        </p:nvSpPr>
        <p:spPr>
          <a:xfrm>
            <a:off x="9259920" y="2938320"/>
            <a:ext cx="579240" cy="2136960"/>
          </a:xfrm>
          <a:custGeom>
            <a:avLst/>
            <a:gdLst>
              <a:gd name="textAreaLeft" fmla="*/ 0 w 579240"/>
              <a:gd name="textAreaRight" fmla="*/ 579600 w 579240"/>
              <a:gd name="textAreaTop" fmla="*/ 0 h 2136960"/>
              <a:gd name="textAreaBottom" fmla="*/ 2137320 h 2136960"/>
            </a:gdLst>
            <a:ahLst/>
            <a:rect l="textAreaLeft" t="textAreaTop" r="textAreaRight" b="textAreaBottom"/>
            <a:pathLst>
              <a:path w="15097" h="21600">
                <a:moveTo>
                  <a:pt x="14603" y="20659"/>
                </a:moveTo>
                <a:cubicBezTo>
                  <a:pt x="-2456" y="14069"/>
                  <a:pt x="2087" y="5797"/>
                  <a:pt x="15097" y="939"/>
                </a:cubicBezTo>
                <a:lnTo>
                  <a:pt x="12666" y="0"/>
                </a:lnTo>
                <a:cubicBezTo>
                  <a:pt x="-1556" y="5328"/>
                  <a:pt x="-6503" y="14384"/>
                  <a:pt x="12177" y="21600"/>
                </a:cubicBezTo>
                <a:cubicBezTo>
                  <a:pt x="12177" y="21600"/>
                  <a:pt x="14603" y="20659"/>
                  <a:pt x="14603" y="20659"/>
                </a:cubicBezTo>
                <a:close/>
                <a:moveTo>
                  <a:pt x="14603" y="20659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AutoShape 27"/>
          <p:cNvSpPr/>
          <p:nvPr/>
        </p:nvSpPr>
        <p:spPr>
          <a:xfrm>
            <a:off x="9658440" y="3203640"/>
            <a:ext cx="455400" cy="1579320"/>
          </a:xfrm>
          <a:custGeom>
            <a:avLst/>
            <a:gdLst>
              <a:gd name="textAreaLeft" fmla="*/ 0 w 455400"/>
              <a:gd name="textAreaRight" fmla="*/ 455760 w 455400"/>
              <a:gd name="textAreaTop" fmla="*/ 0 h 1579320"/>
              <a:gd name="textAreaBottom" fmla="*/ 1579680 h 1579320"/>
            </a:gdLst>
            <a:ahLst/>
            <a:rect l="textAreaLeft" t="textAreaTop" r="textAreaRight" b="textAreaBottom"/>
            <a:pathLst>
              <a:path w="15352" h="21600">
                <a:moveTo>
                  <a:pt x="14693" y="20326"/>
                </a:moveTo>
                <a:cubicBezTo>
                  <a:pt x="-1022" y="13952"/>
                  <a:pt x="3279" y="5941"/>
                  <a:pt x="15352" y="1280"/>
                </a:cubicBezTo>
                <a:lnTo>
                  <a:pt x="12198" y="0"/>
                </a:lnTo>
                <a:cubicBezTo>
                  <a:pt x="-1441" y="5305"/>
                  <a:pt x="-6248" y="14383"/>
                  <a:pt x="11567" y="21600"/>
                </a:cubicBezTo>
                <a:cubicBezTo>
                  <a:pt x="11567" y="21600"/>
                  <a:pt x="14693" y="20326"/>
                  <a:pt x="14693" y="20326"/>
                </a:cubicBezTo>
                <a:close/>
                <a:moveTo>
                  <a:pt x="14693" y="20326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AutoShape 28"/>
          <p:cNvSpPr/>
          <p:nvPr/>
        </p:nvSpPr>
        <p:spPr>
          <a:xfrm>
            <a:off x="9790200" y="3306600"/>
            <a:ext cx="415800" cy="1392480"/>
          </a:xfrm>
          <a:custGeom>
            <a:avLst/>
            <a:gdLst>
              <a:gd name="textAreaLeft" fmla="*/ 0 w 415800"/>
              <a:gd name="textAreaRight" fmla="*/ 416160 w 41580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15464" h="21600">
                <a:moveTo>
                  <a:pt x="14724" y="20156"/>
                </a:moveTo>
                <a:cubicBezTo>
                  <a:pt x="-363" y="13887"/>
                  <a:pt x="3826" y="6005"/>
                  <a:pt x="15464" y="1442"/>
                </a:cubicBezTo>
                <a:lnTo>
                  <a:pt x="11993" y="0"/>
                </a:lnTo>
                <a:cubicBezTo>
                  <a:pt x="-1374" y="5286"/>
                  <a:pt x="-6136" y="14371"/>
                  <a:pt x="11264" y="21600"/>
                </a:cubicBezTo>
                <a:cubicBezTo>
                  <a:pt x="11264" y="21600"/>
                  <a:pt x="14724" y="20156"/>
                  <a:pt x="14724" y="20156"/>
                </a:cubicBezTo>
                <a:close/>
                <a:moveTo>
                  <a:pt x="14724" y="20156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6" name="AutoShape 29"/>
          <p:cNvSpPr/>
          <p:nvPr/>
        </p:nvSpPr>
        <p:spPr>
          <a:xfrm>
            <a:off x="9731520" y="-312840"/>
            <a:ext cx="3251160" cy="3348000"/>
          </a:xfrm>
          <a:custGeom>
            <a:avLst/>
            <a:gdLst>
              <a:gd name="textAreaLeft" fmla="*/ 0 w 3251160"/>
              <a:gd name="textAreaRight" fmla="*/ 3251520 w 3251160"/>
              <a:gd name="textAreaTop" fmla="*/ 0 h 3348000"/>
              <a:gd name="textAreaBottom" fmla="*/ 3348360 h 33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0" y="20994"/>
                </a:lnTo>
                <a:lnTo>
                  <a:pt x="626" y="21600"/>
                </a:lnTo>
                <a:lnTo>
                  <a:pt x="21600" y="1214"/>
                </a:lnTo>
                <a:cubicBezTo>
                  <a:pt x="21600" y="1214"/>
                  <a:pt x="21600" y="0"/>
                  <a:pt x="21600" y="0"/>
                </a:cubicBezTo>
                <a:close/>
                <a:moveTo>
                  <a:pt x="21600" y="0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AutoShape 30"/>
          <p:cNvSpPr/>
          <p:nvPr/>
        </p:nvSpPr>
        <p:spPr>
          <a:xfrm>
            <a:off x="9644040" y="-431640"/>
            <a:ext cx="3341880" cy="3368520"/>
          </a:xfrm>
          <a:custGeom>
            <a:avLst/>
            <a:gdLst>
              <a:gd name="textAreaLeft" fmla="*/ 0 w 3341880"/>
              <a:gd name="textAreaRight" fmla="*/ 3342240 w 3341880"/>
              <a:gd name="textAreaTop" fmla="*/ 0 h 3368520"/>
              <a:gd name="textAreaBottom" fmla="*/ 3368880 h 33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144" y="0"/>
                </a:lnTo>
                <a:lnTo>
                  <a:pt x="0" y="21013"/>
                </a:lnTo>
                <a:lnTo>
                  <a:pt x="594" y="21600"/>
                </a:lnTo>
                <a:lnTo>
                  <a:pt x="21600" y="724"/>
                </a:lnTo>
                <a:cubicBezTo>
                  <a:pt x="21600" y="724"/>
                  <a:pt x="21600" y="0"/>
                  <a:pt x="21600" y="0"/>
                </a:cubicBezTo>
                <a:close/>
                <a:moveTo>
                  <a:pt x="21600" y="0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8" name="AutoShape 31"/>
          <p:cNvSpPr/>
          <p:nvPr/>
        </p:nvSpPr>
        <p:spPr>
          <a:xfrm>
            <a:off x="9834480" y="-136440"/>
            <a:ext cx="3157560" cy="3254400"/>
          </a:xfrm>
          <a:custGeom>
            <a:avLst/>
            <a:gdLst>
              <a:gd name="textAreaLeft" fmla="*/ 0 w 3157560"/>
              <a:gd name="textAreaRight" fmla="*/ 3157920 w 3157560"/>
              <a:gd name="textAreaTop" fmla="*/ 0 h 3254400"/>
              <a:gd name="textAreaBottom" fmla="*/ 3254760 h 325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0" y="20984"/>
                </a:lnTo>
                <a:lnTo>
                  <a:pt x="636" y="21600"/>
                </a:lnTo>
                <a:lnTo>
                  <a:pt x="21600" y="1234"/>
                </a:lnTo>
                <a:cubicBezTo>
                  <a:pt x="21600" y="1234"/>
                  <a:pt x="21600" y="0"/>
                  <a:pt x="21600" y="0"/>
                </a:cubicBezTo>
                <a:close/>
                <a:moveTo>
                  <a:pt x="21600" y="0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9" name="AutoShape 32"/>
          <p:cNvSpPr/>
          <p:nvPr/>
        </p:nvSpPr>
        <p:spPr>
          <a:xfrm>
            <a:off x="9923400" y="54000"/>
            <a:ext cx="3063960" cy="3164040"/>
          </a:xfrm>
          <a:custGeom>
            <a:avLst/>
            <a:gdLst>
              <a:gd name="textAreaLeft" fmla="*/ 0 w 3063960"/>
              <a:gd name="textAreaRight" fmla="*/ 3064320 w 3063960"/>
              <a:gd name="textAreaTop" fmla="*/ 0 h 3164040"/>
              <a:gd name="textAreaBottom" fmla="*/ 3164400 h 316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0" y="20959"/>
                </a:lnTo>
                <a:lnTo>
                  <a:pt x="664" y="21600"/>
                </a:lnTo>
                <a:lnTo>
                  <a:pt x="21600" y="1285"/>
                </a:lnTo>
                <a:cubicBezTo>
                  <a:pt x="21600" y="1285"/>
                  <a:pt x="21600" y="0"/>
                  <a:pt x="21600" y="0"/>
                </a:cubicBezTo>
                <a:close/>
                <a:moveTo>
                  <a:pt x="21600" y="0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0" name="AutoShape 33"/>
          <p:cNvSpPr/>
          <p:nvPr/>
        </p:nvSpPr>
        <p:spPr>
          <a:xfrm>
            <a:off x="10010880" y="420840"/>
            <a:ext cx="2886120" cy="2892240"/>
          </a:xfrm>
          <a:custGeom>
            <a:avLst/>
            <a:gdLst>
              <a:gd name="textAreaLeft" fmla="*/ 0 w 2886120"/>
              <a:gd name="textAreaRight" fmla="*/ 2886480 w 2886120"/>
              <a:gd name="textAreaTop" fmla="*/ 0 h 2892240"/>
              <a:gd name="textAreaBottom" fmla="*/ 2892600 h 2892240"/>
            </a:gdLst>
            <a:ahLst/>
            <a:rect l="textAreaLeft" t="textAreaTop" r="textAreaRight" b="textAreaBottom"/>
            <a:pathLst>
              <a:path w="21600" h="21600">
                <a:moveTo>
                  <a:pt x="20895" y="0"/>
                </a:moveTo>
                <a:lnTo>
                  <a:pt x="21600" y="702"/>
                </a:lnTo>
                <a:lnTo>
                  <a:pt x="705" y="21600"/>
                </a:lnTo>
                <a:lnTo>
                  <a:pt x="0" y="20898"/>
                </a:lnTo>
                <a:cubicBezTo>
                  <a:pt x="0" y="20898"/>
                  <a:pt x="20895" y="0"/>
                  <a:pt x="20895" y="0"/>
                </a:cubicBezTo>
                <a:close/>
                <a:moveTo>
                  <a:pt x="20895" y="0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AutoShape 34"/>
          <p:cNvSpPr/>
          <p:nvPr/>
        </p:nvSpPr>
        <p:spPr>
          <a:xfrm>
            <a:off x="10113840" y="1274760"/>
            <a:ext cx="2132280" cy="2136600"/>
          </a:xfrm>
          <a:custGeom>
            <a:avLst/>
            <a:gdLst>
              <a:gd name="textAreaLeft" fmla="*/ 0 w 2132280"/>
              <a:gd name="textAreaRight" fmla="*/ 2132640 w 2132280"/>
              <a:gd name="textAreaTop" fmla="*/ 0 h 2136600"/>
              <a:gd name="textAreaBottom" fmla="*/ 2136600 h 2136600"/>
            </a:gdLst>
            <a:ahLst/>
            <a:rect l="textAreaLeft" t="textAreaTop" r="textAreaRight" b="textAreaBottom"/>
            <a:pathLst>
              <a:path w="21600" h="21600">
                <a:moveTo>
                  <a:pt x="20646" y="0"/>
                </a:moveTo>
                <a:lnTo>
                  <a:pt x="21600" y="950"/>
                </a:lnTo>
                <a:lnTo>
                  <a:pt x="954" y="21600"/>
                </a:lnTo>
                <a:lnTo>
                  <a:pt x="0" y="20650"/>
                </a:lnTo>
                <a:cubicBezTo>
                  <a:pt x="0" y="20650"/>
                  <a:pt x="20646" y="0"/>
                  <a:pt x="20646" y="0"/>
                </a:cubicBezTo>
                <a:close/>
                <a:moveTo>
                  <a:pt x="20646" y="0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2" name="AutoShape 35"/>
          <p:cNvSpPr/>
          <p:nvPr/>
        </p:nvSpPr>
        <p:spPr>
          <a:xfrm>
            <a:off x="9702720" y="4956120"/>
            <a:ext cx="3276720" cy="336564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3365640"/>
              <a:gd name="textAreaBottom" fmla="*/ 3366000 h 3365640"/>
            </a:gdLst>
            <a:ahLst/>
            <a:rect l="textAreaLeft" t="textAreaTop" r="textAreaRight" b="textAreaBottom"/>
            <a:pathLst>
              <a:path w="21600" h="21600">
                <a:moveTo>
                  <a:pt x="21600" y="20372"/>
                </a:moveTo>
                <a:lnTo>
                  <a:pt x="631" y="0"/>
                </a:lnTo>
                <a:lnTo>
                  <a:pt x="0" y="615"/>
                </a:lnTo>
                <a:lnTo>
                  <a:pt x="21600" y="21600"/>
                </a:lnTo>
                <a:cubicBezTo>
                  <a:pt x="21600" y="21600"/>
                  <a:pt x="21600" y="20372"/>
                  <a:pt x="21600" y="20372"/>
                </a:cubicBezTo>
                <a:close/>
                <a:moveTo>
                  <a:pt x="21600" y="20372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AutoShape 36"/>
          <p:cNvSpPr/>
          <p:nvPr/>
        </p:nvSpPr>
        <p:spPr>
          <a:xfrm>
            <a:off x="9613800" y="5057640"/>
            <a:ext cx="3084480" cy="3079800"/>
          </a:xfrm>
          <a:custGeom>
            <a:avLst/>
            <a:gdLst>
              <a:gd name="textAreaLeft" fmla="*/ 0 w 3084480"/>
              <a:gd name="textAreaRight" fmla="*/ 3084840 w 3084480"/>
              <a:gd name="textAreaTop" fmla="*/ 0 h 3079800"/>
              <a:gd name="textAreaBottom" fmla="*/ 3080160 h 3079800"/>
            </a:gdLst>
            <a:ahLst/>
            <a:rect l="textAreaLeft" t="textAreaTop" r="textAreaRight" b="textAreaBottom"/>
            <a:pathLst>
              <a:path w="21600" h="21600">
                <a:moveTo>
                  <a:pt x="0" y="644"/>
                </a:moveTo>
                <a:lnTo>
                  <a:pt x="20958" y="21600"/>
                </a:lnTo>
                <a:lnTo>
                  <a:pt x="21600" y="20956"/>
                </a:lnTo>
                <a:lnTo>
                  <a:pt x="642" y="0"/>
                </a:lnTo>
                <a:cubicBezTo>
                  <a:pt x="642" y="0"/>
                  <a:pt x="0" y="644"/>
                  <a:pt x="0" y="644"/>
                </a:cubicBezTo>
                <a:close/>
                <a:moveTo>
                  <a:pt x="0" y="644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4" name="AutoShape 37"/>
          <p:cNvSpPr/>
          <p:nvPr/>
        </p:nvSpPr>
        <p:spPr>
          <a:xfrm>
            <a:off x="9806040" y="4867200"/>
            <a:ext cx="3181320" cy="3268800"/>
          </a:xfrm>
          <a:custGeom>
            <a:avLst/>
            <a:gdLst>
              <a:gd name="textAreaLeft" fmla="*/ 0 w 3181320"/>
              <a:gd name="textAreaRight" fmla="*/ 3181680 w 3181320"/>
              <a:gd name="textAreaTop" fmla="*/ 0 h 3268800"/>
              <a:gd name="textAreaBottom" fmla="*/ 3269160 h 3268800"/>
            </a:gdLst>
            <a:ahLst/>
            <a:rect l="textAreaLeft" t="textAreaTop" r="textAreaRight" b="textAreaBottom"/>
            <a:pathLst>
              <a:path w="21600" h="21600">
                <a:moveTo>
                  <a:pt x="21600" y="20374"/>
                </a:moveTo>
                <a:lnTo>
                  <a:pt x="630" y="0"/>
                </a:lnTo>
                <a:lnTo>
                  <a:pt x="0" y="614"/>
                </a:lnTo>
                <a:lnTo>
                  <a:pt x="21600" y="21600"/>
                </a:lnTo>
                <a:cubicBezTo>
                  <a:pt x="21600" y="21600"/>
                  <a:pt x="21600" y="20374"/>
                  <a:pt x="21600" y="20374"/>
                </a:cubicBezTo>
                <a:close/>
                <a:moveTo>
                  <a:pt x="21600" y="20374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AutoShape 38"/>
          <p:cNvSpPr/>
          <p:nvPr/>
        </p:nvSpPr>
        <p:spPr>
          <a:xfrm>
            <a:off x="9982080" y="4675320"/>
            <a:ext cx="2997360" cy="3085920"/>
          </a:xfrm>
          <a:custGeom>
            <a:avLst/>
            <a:gdLst>
              <a:gd name="textAreaLeft" fmla="*/ 0 w 2997360"/>
              <a:gd name="textAreaRight" fmla="*/ 2997720 w 2997360"/>
              <a:gd name="textAreaTop" fmla="*/ 0 h 3085920"/>
              <a:gd name="textAreaBottom" fmla="*/ 3086280 h 3085920"/>
            </a:gdLst>
            <a:ahLst/>
            <a:rect l="textAreaLeft" t="textAreaTop" r="textAreaRight" b="textAreaBottom"/>
            <a:pathLst>
              <a:path w="21600" h="21600">
                <a:moveTo>
                  <a:pt x="21600" y="20285"/>
                </a:moveTo>
                <a:lnTo>
                  <a:pt x="677" y="0"/>
                </a:lnTo>
                <a:lnTo>
                  <a:pt x="0" y="659"/>
                </a:lnTo>
                <a:lnTo>
                  <a:pt x="21600" y="21600"/>
                </a:lnTo>
                <a:cubicBezTo>
                  <a:pt x="21600" y="21600"/>
                  <a:pt x="21600" y="20285"/>
                  <a:pt x="21600" y="20285"/>
                </a:cubicBezTo>
                <a:close/>
                <a:moveTo>
                  <a:pt x="21600" y="20285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6" name="AutoShape 39"/>
          <p:cNvSpPr/>
          <p:nvPr/>
        </p:nvSpPr>
        <p:spPr>
          <a:xfrm>
            <a:off x="10085400" y="4587840"/>
            <a:ext cx="2903400" cy="2990880"/>
          </a:xfrm>
          <a:custGeom>
            <a:avLst/>
            <a:gdLst>
              <a:gd name="textAreaLeft" fmla="*/ 0 w 2903400"/>
              <a:gd name="textAreaRight" fmla="*/ 2903760 w 2903400"/>
              <a:gd name="textAreaTop" fmla="*/ 0 h 2990880"/>
              <a:gd name="textAreaBottom" fmla="*/ 2991240 h 2990880"/>
            </a:gdLst>
            <a:ahLst/>
            <a:rect l="textAreaLeft" t="textAreaTop" r="textAreaRight" b="textAreaBottom"/>
            <a:pathLst>
              <a:path w="21600" h="21600">
                <a:moveTo>
                  <a:pt x="21600" y="20244"/>
                </a:moveTo>
                <a:lnTo>
                  <a:pt x="699" y="0"/>
                </a:lnTo>
                <a:lnTo>
                  <a:pt x="0" y="680"/>
                </a:lnTo>
                <a:lnTo>
                  <a:pt x="21600" y="21600"/>
                </a:lnTo>
                <a:cubicBezTo>
                  <a:pt x="21600" y="21600"/>
                  <a:pt x="21600" y="20244"/>
                  <a:pt x="21600" y="20244"/>
                </a:cubicBezTo>
                <a:close/>
                <a:moveTo>
                  <a:pt x="21600" y="20244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7" name="AutoShape 40"/>
          <p:cNvSpPr/>
          <p:nvPr/>
        </p:nvSpPr>
        <p:spPr>
          <a:xfrm>
            <a:off x="10172880" y="4498920"/>
            <a:ext cx="2811240" cy="2898720"/>
          </a:xfrm>
          <a:custGeom>
            <a:avLst/>
            <a:gdLst>
              <a:gd name="textAreaLeft" fmla="*/ 0 w 2811240"/>
              <a:gd name="textAreaRight" fmla="*/ 2811240 w 2811240"/>
              <a:gd name="textAreaTop" fmla="*/ 0 h 2898720"/>
              <a:gd name="textAreaBottom" fmla="*/ 2899080 h 2898720"/>
            </a:gdLst>
            <a:ahLst/>
            <a:rect l="textAreaLeft" t="textAreaTop" r="textAreaRight" b="textAreaBottom"/>
            <a:pathLst>
              <a:path w="21600" h="21600">
                <a:moveTo>
                  <a:pt x="21600" y="20217"/>
                </a:moveTo>
                <a:lnTo>
                  <a:pt x="713" y="0"/>
                </a:lnTo>
                <a:lnTo>
                  <a:pt x="0" y="693"/>
                </a:lnTo>
                <a:lnTo>
                  <a:pt x="21600" y="21600"/>
                </a:lnTo>
                <a:cubicBezTo>
                  <a:pt x="21600" y="21600"/>
                  <a:pt x="21600" y="20217"/>
                  <a:pt x="21600" y="20217"/>
                </a:cubicBezTo>
                <a:close/>
                <a:moveTo>
                  <a:pt x="21600" y="20217"/>
                </a:moveTo>
              </a:path>
            </a:pathLst>
          </a:custGeom>
          <a:solidFill>
            <a:srgbClr val="c6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8" name="AutoShape 41"/>
          <p:cNvSpPr/>
          <p:nvPr/>
        </p:nvSpPr>
        <p:spPr>
          <a:xfrm>
            <a:off x="7419960" y="2849400"/>
            <a:ext cx="2320920" cy="62244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21600" h="15042">
                <a:moveTo>
                  <a:pt x="865" y="564"/>
                </a:moveTo>
                <a:cubicBezTo>
                  <a:pt x="7517" y="17843"/>
                  <a:pt x="15843" y="13212"/>
                  <a:pt x="20733" y="0"/>
                </a:cubicBezTo>
                <a:lnTo>
                  <a:pt x="21600" y="2251"/>
                </a:lnTo>
                <a:cubicBezTo>
                  <a:pt x="16277" y="16591"/>
                  <a:pt x="7230" y="21600"/>
                  <a:pt x="0" y="2820"/>
                </a:cubicBezTo>
                <a:cubicBezTo>
                  <a:pt x="0" y="2820"/>
                  <a:pt x="865" y="564"/>
                  <a:pt x="865" y="564"/>
                </a:cubicBezTo>
                <a:close/>
                <a:moveTo>
                  <a:pt x="865" y="564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9" name="AutoShape 42"/>
          <p:cNvSpPr/>
          <p:nvPr/>
        </p:nvSpPr>
        <p:spPr>
          <a:xfrm>
            <a:off x="7612200" y="2658960"/>
            <a:ext cx="1950840" cy="540000"/>
          </a:xfrm>
          <a:custGeom>
            <a:avLst/>
            <a:gdLst>
              <a:gd name="textAreaLeft" fmla="*/ 0 w 1950840"/>
              <a:gd name="textAreaRight" fmla="*/ 1951200 w 195084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21600" h="15179">
                <a:moveTo>
                  <a:pt x="1028" y="643"/>
                </a:moveTo>
                <a:cubicBezTo>
                  <a:pt x="7572" y="17225"/>
                  <a:pt x="15766" y="12723"/>
                  <a:pt x="20558" y="0"/>
                </a:cubicBezTo>
                <a:lnTo>
                  <a:pt x="21600" y="2640"/>
                </a:lnTo>
                <a:cubicBezTo>
                  <a:pt x="16284" y="16675"/>
                  <a:pt x="7223" y="21600"/>
                  <a:pt x="0" y="3260"/>
                </a:cubicBezTo>
                <a:cubicBezTo>
                  <a:pt x="0" y="3260"/>
                  <a:pt x="1028" y="643"/>
                  <a:pt x="1028" y="643"/>
                </a:cubicBezTo>
                <a:close/>
                <a:moveTo>
                  <a:pt x="1028" y="643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0" name="AutoShape 43"/>
          <p:cNvSpPr/>
          <p:nvPr/>
        </p:nvSpPr>
        <p:spPr>
          <a:xfrm>
            <a:off x="7699320" y="2570040"/>
            <a:ext cx="1766880" cy="498600"/>
          </a:xfrm>
          <a:custGeom>
            <a:avLst/>
            <a:gdLst>
              <a:gd name="textAreaLeft" fmla="*/ 0 w 1766880"/>
              <a:gd name="textAreaRight" fmla="*/ 1767240 w 176688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21600" h="15255">
                <a:moveTo>
                  <a:pt x="1137" y="695"/>
                </a:moveTo>
                <a:cubicBezTo>
                  <a:pt x="7613" y="16851"/>
                  <a:pt x="15726" y="12425"/>
                  <a:pt x="20456" y="0"/>
                </a:cubicBezTo>
                <a:lnTo>
                  <a:pt x="21600" y="2854"/>
                </a:lnTo>
                <a:cubicBezTo>
                  <a:pt x="16298" y="16705"/>
                  <a:pt x="7233" y="21600"/>
                  <a:pt x="0" y="3544"/>
                </a:cubicBezTo>
                <a:cubicBezTo>
                  <a:pt x="0" y="3544"/>
                  <a:pt x="1137" y="695"/>
                  <a:pt x="1137" y="695"/>
                </a:cubicBezTo>
                <a:close/>
                <a:moveTo>
                  <a:pt x="1137" y="695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AutoShape 44"/>
          <p:cNvSpPr/>
          <p:nvPr/>
        </p:nvSpPr>
        <p:spPr>
          <a:xfrm>
            <a:off x="7523280" y="2747880"/>
            <a:ext cx="2136600" cy="579600"/>
          </a:xfrm>
          <a:custGeom>
            <a:avLst/>
            <a:gdLst>
              <a:gd name="textAreaLeft" fmla="*/ 0 w 2136600"/>
              <a:gd name="textAreaRight" fmla="*/ 2136600 w 213660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15101">
                <a:moveTo>
                  <a:pt x="939" y="600"/>
                </a:moveTo>
                <a:cubicBezTo>
                  <a:pt x="7544" y="17565"/>
                  <a:pt x="15812" y="12992"/>
                  <a:pt x="20659" y="0"/>
                </a:cubicBezTo>
                <a:lnTo>
                  <a:pt x="21600" y="2417"/>
                </a:lnTo>
                <a:cubicBezTo>
                  <a:pt x="16283" y="16621"/>
                  <a:pt x="7232" y="21600"/>
                  <a:pt x="0" y="3023"/>
                </a:cubicBezTo>
                <a:cubicBezTo>
                  <a:pt x="0" y="3023"/>
                  <a:pt x="939" y="600"/>
                  <a:pt x="939" y="600"/>
                </a:cubicBezTo>
                <a:close/>
                <a:moveTo>
                  <a:pt x="939" y="600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AutoShape 45"/>
          <p:cNvSpPr/>
          <p:nvPr/>
        </p:nvSpPr>
        <p:spPr>
          <a:xfrm>
            <a:off x="7802640" y="2467080"/>
            <a:ext cx="1579320" cy="458640"/>
          </a:xfrm>
          <a:custGeom>
            <a:avLst/>
            <a:gdLst>
              <a:gd name="textAreaLeft" fmla="*/ 0 w 1579320"/>
              <a:gd name="textAreaRight" fmla="*/ 1579680 w 157932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21600" h="15354">
                <a:moveTo>
                  <a:pt x="1271" y="757"/>
                </a:moveTo>
                <a:cubicBezTo>
                  <a:pt x="7660" y="16388"/>
                  <a:pt x="15667" y="12059"/>
                  <a:pt x="20317" y="0"/>
                </a:cubicBezTo>
                <a:lnTo>
                  <a:pt x="21600" y="3138"/>
                </a:lnTo>
                <a:cubicBezTo>
                  <a:pt x="16306" y="16761"/>
                  <a:pt x="7232" y="21600"/>
                  <a:pt x="0" y="3879"/>
                </a:cubicBezTo>
                <a:cubicBezTo>
                  <a:pt x="0" y="3879"/>
                  <a:pt x="1271" y="757"/>
                  <a:pt x="1271" y="757"/>
                </a:cubicBezTo>
                <a:close/>
                <a:moveTo>
                  <a:pt x="1271" y="757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3" name="AutoShape 46"/>
          <p:cNvSpPr/>
          <p:nvPr/>
        </p:nvSpPr>
        <p:spPr>
          <a:xfrm>
            <a:off x="7891560" y="2379600"/>
            <a:ext cx="1392120" cy="4161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21600" h="15466">
                <a:moveTo>
                  <a:pt x="1441" y="832"/>
                </a:moveTo>
                <a:cubicBezTo>
                  <a:pt x="7724" y="15842"/>
                  <a:pt x="15602" y="11626"/>
                  <a:pt x="20155" y="0"/>
                </a:cubicBezTo>
                <a:lnTo>
                  <a:pt x="21600" y="3453"/>
                </a:lnTo>
                <a:cubicBezTo>
                  <a:pt x="16326" y="16806"/>
                  <a:pt x="7245" y="21600"/>
                  <a:pt x="0" y="4290"/>
                </a:cubicBezTo>
                <a:cubicBezTo>
                  <a:pt x="0" y="4290"/>
                  <a:pt x="1441" y="832"/>
                  <a:pt x="1441" y="832"/>
                </a:cubicBezTo>
                <a:close/>
                <a:moveTo>
                  <a:pt x="1441" y="832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4" name="AutoShape 47"/>
          <p:cNvSpPr/>
          <p:nvPr/>
        </p:nvSpPr>
        <p:spPr>
          <a:xfrm>
            <a:off x="9555120" y="-254160"/>
            <a:ext cx="3102120" cy="3106800"/>
          </a:xfrm>
          <a:custGeom>
            <a:avLst/>
            <a:gdLst>
              <a:gd name="textAreaLeft" fmla="*/ 0 w 3102120"/>
              <a:gd name="textAreaRight" fmla="*/ 3102480 w 3102120"/>
              <a:gd name="textAreaTop" fmla="*/ 0 h 3106800"/>
              <a:gd name="textAreaBottom" fmla="*/ 3107160 h 3106800"/>
            </a:gdLst>
            <a:ahLst/>
            <a:rect l="textAreaLeft" t="textAreaTop" r="textAreaRight" b="textAreaBottom"/>
            <a:pathLst>
              <a:path w="21600" h="21600">
                <a:moveTo>
                  <a:pt x="21600" y="653"/>
                </a:moveTo>
                <a:lnTo>
                  <a:pt x="20945" y="0"/>
                </a:lnTo>
                <a:lnTo>
                  <a:pt x="0" y="20947"/>
                </a:lnTo>
                <a:lnTo>
                  <a:pt x="655" y="21600"/>
                </a:lnTo>
                <a:cubicBezTo>
                  <a:pt x="655" y="21600"/>
                  <a:pt x="21600" y="653"/>
                  <a:pt x="21600" y="653"/>
                </a:cubicBezTo>
                <a:close/>
                <a:moveTo>
                  <a:pt x="21600" y="653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5" name="AutoShape 48"/>
          <p:cNvSpPr/>
          <p:nvPr/>
        </p:nvSpPr>
        <p:spPr>
          <a:xfrm>
            <a:off x="9644040" y="-431640"/>
            <a:ext cx="3336840" cy="3373200"/>
          </a:xfrm>
          <a:custGeom>
            <a:avLst/>
            <a:gdLst>
              <a:gd name="textAreaLeft" fmla="*/ 0 w 3336840"/>
              <a:gd name="textAreaRight" fmla="*/ 3337200 w 3336840"/>
              <a:gd name="textAreaTop" fmla="*/ 0 h 3373200"/>
              <a:gd name="textAreaBottom" fmla="*/ 3373560 h 337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197" y="0"/>
                </a:lnTo>
                <a:lnTo>
                  <a:pt x="0" y="21013"/>
                </a:lnTo>
                <a:lnTo>
                  <a:pt x="594" y="21600"/>
                </a:lnTo>
                <a:lnTo>
                  <a:pt x="21600" y="777"/>
                </a:lnTo>
                <a:cubicBezTo>
                  <a:pt x="21600" y="777"/>
                  <a:pt x="21600" y="0"/>
                  <a:pt x="21600" y="0"/>
                </a:cubicBezTo>
                <a:close/>
                <a:moveTo>
                  <a:pt x="21600" y="0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6" name="AutoShape 49"/>
          <p:cNvSpPr/>
          <p:nvPr/>
        </p:nvSpPr>
        <p:spPr>
          <a:xfrm>
            <a:off x="9466200" y="598320"/>
            <a:ext cx="2154240" cy="2157480"/>
          </a:xfrm>
          <a:custGeom>
            <a:avLst/>
            <a:gdLst>
              <a:gd name="textAreaLeft" fmla="*/ 0 w 2154240"/>
              <a:gd name="textAreaRight" fmla="*/ 2154600 w 2154240"/>
              <a:gd name="textAreaTop" fmla="*/ 0 h 2157480"/>
              <a:gd name="textAreaBottom" fmla="*/ 2157840 h 2157480"/>
            </a:gdLst>
            <a:ahLst/>
            <a:rect l="textAreaLeft" t="textAreaTop" r="textAreaRight" b="textAreaBottom"/>
            <a:pathLst>
              <a:path w="21600" h="21600">
                <a:moveTo>
                  <a:pt x="21600" y="929"/>
                </a:moveTo>
                <a:lnTo>
                  <a:pt x="20667" y="0"/>
                </a:lnTo>
                <a:lnTo>
                  <a:pt x="0" y="20671"/>
                </a:lnTo>
                <a:lnTo>
                  <a:pt x="933" y="21600"/>
                </a:lnTo>
                <a:cubicBezTo>
                  <a:pt x="933" y="21600"/>
                  <a:pt x="21600" y="929"/>
                  <a:pt x="21600" y="929"/>
                </a:cubicBezTo>
                <a:close/>
                <a:moveTo>
                  <a:pt x="21600" y="929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AutoShape 50"/>
          <p:cNvSpPr/>
          <p:nvPr/>
        </p:nvSpPr>
        <p:spPr>
          <a:xfrm>
            <a:off x="9363240" y="-431640"/>
            <a:ext cx="3184200" cy="3095640"/>
          </a:xfrm>
          <a:custGeom>
            <a:avLst/>
            <a:gdLst>
              <a:gd name="textAreaLeft" fmla="*/ 0 w 3184200"/>
              <a:gd name="textAreaRight" fmla="*/ 3184560 w 318420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20326" y="0"/>
                </a:moveTo>
                <a:lnTo>
                  <a:pt x="0" y="20945"/>
                </a:lnTo>
                <a:lnTo>
                  <a:pt x="639" y="21600"/>
                </a:lnTo>
                <a:lnTo>
                  <a:pt x="21600" y="0"/>
                </a:lnTo>
                <a:cubicBezTo>
                  <a:pt x="21600" y="0"/>
                  <a:pt x="20326" y="0"/>
                  <a:pt x="20326" y="0"/>
                </a:cubicBezTo>
                <a:close/>
                <a:moveTo>
                  <a:pt x="20326" y="0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AutoShape 51"/>
          <p:cNvSpPr/>
          <p:nvPr/>
        </p:nvSpPr>
        <p:spPr>
          <a:xfrm>
            <a:off x="9275760" y="-431640"/>
            <a:ext cx="3090960" cy="3003480"/>
          </a:xfrm>
          <a:custGeom>
            <a:avLst/>
            <a:gdLst>
              <a:gd name="textAreaLeft" fmla="*/ 0 w 3090960"/>
              <a:gd name="textAreaRight" fmla="*/ 3091320 w 3090960"/>
              <a:gd name="textAreaTop" fmla="*/ 0 h 3003480"/>
              <a:gd name="textAreaBottom" fmla="*/ 3003840 h 3003480"/>
            </a:gdLst>
            <a:ahLst/>
            <a:rect l="textAreaLeft" t="textAreaTop" r="textAreaRight" b="textAreaBottom"/>
            <a:pathLst>
              <a:path w="21600" h="21600">
                <a:moveTo>
                  <a:pt x="20287" y="0"/>
                </a:moveTo>
                <a:lnTo>
                  <a:pt x="0" y="20925"/>
                </a:lnTo>
                <a:lnTo>
                  <a:pt x="658" y="21600"/>
                </a:lnTo>
                <a:lnTo>
                  <a:pt x="21600" y="0"/>
                </a:lnTo>
                <a:cubicBezTo>
                  <a:pt x="21600" y="0"/>
                  <a:pt x="20287" y="0"/>
                  <a:pt x="20287" y="0"/>
                </a:cubicBezTo>
                <a:close/>
                <a:moveTo>
                  <a:pt x="20287" y="0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AutoShape 52"/>
          <p:cNvSpPr/>
          <p:nvPr/>
        </p:nvSpPr>
        <p:spPr>
          <a:xfrm>
            <a:off x="9186840" y="-166680"/>
            <a:ext cx="2639880" cy="26449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644920"/>
              <a:gd name="textAreaBottom" fmla="*/ 2645280 h 2644920"/>
            </a:gdLst>
            <a:ahLst/>
            <a:rect l="textAreaLeft" t="textAreaTop" r="textAreaRight" b="textAreaBottom"/>
            <a:pathLst>
              <a:path w="21600" h="21600">
                <a:moveTo>
                  <a:pt x="21600" y="767"/>
                </a:moveTo>
                <a:lnTo>
                  <a:pt x="20830" y="0"/>
                </a:lnTo>
                <a:lnTo>
                  <a:pt x="0" y="20833"/>
                </a:lnTo>
                <a:lnTo>
                  <a:pt x="770" y="21600"/>
                </a:lnTo>
                <a:cubicBezTo>
                  <a:pt x="770" y="21600"/>
                  <a:pt x="21600" y="767"/>
                  <a:pt x="21600" y="767"/>
                </a:cubicBezTo>
                <a:close/>
                <a:moveTo>
                  <a:pt x="21600" y="767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AutoShape 53"/>
          <p:cNvSpPr/>
          <p:nvPr/>
        </p:nvSpPr>
        <p:spPr>
          <a:xfrm>
            <a:off x="9083520" y="-431640"/>
            <a:ext cx="2905200" cy="2815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20" y="0"/>
                </a:moveTo>
                <a:lnTo>
                  <a:pt x="0" y="20889"/>
                </a:lnTo>
                <a:lnTo>
                  <a:pt x="691" y="21600"/>
                </a:lnTo>
                <a:lnTo>
                  <a:pt x="21600" y="0"/>
                </a:lnTo>
                <a:cubicBezTo>
                  <a:pt x="21600" y="0"/>
                  <a:pt x="20220" y="0"/>
                  <a:pt x="20220" y="0"/>
                </a:cubicBezTo>
                <a:close/>
                <a:moveTo>
                  <a:pt x="20220" y="0"/>
                </a:moveTo>
              </a:path>
            </a:pathLst>
          </a:custGeom>
          <a:solidFill>
            <a:srgbClr val="c6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AutoShape 54"/>
          <p:cNvSpPr/>
          <p:nvPr/>
        </p:nvSpPr>
        <p:spPr>
          <a:xfrm>
            <a:off x="4211640" y="-431640"/>
            <a:ext cx="3409920" cy="3306600"/>
          </a:xfrm>
          <a:custGeom>
            <a:avLst/>
            <a:gdLst>
              <a:gd name="textAreaLeft" fmla="*/ 0 w 3409920"/>
              <a:gd name="textAreaRight" fmla="*/ 3410280 w 3409920"/>
              <a:gd name="textAreaTop" fmla="*/ 0 h 3306600"/>
              <a:gd name="textAreaBottom" fmla="*/ 3306960 h 330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94" y="21600"/>
                </a:lnTo>
                <a:lnTo>
                  <a:pt x="21600" y="20974"/>
                </a:lnTo>
                <a:lnTo>
                  <a:pt x="1215" y="0"/>
                </a:lnTo>
                <a:cubicBezTo>
                  <a:pt x="1215" y="0"/>
                  <a:pt x="0" y="0"/>
                  <a:pt x="0" y="0"/>
                </a:cubicBezTo>
                <a:close/>
                <a:moveTo>
                  <a:pt x="0" y="0"/>
                </a:moveTo>
              </a:path>
            </a:pathLst>
          </a:custGeom>
          <a:solidFill>
            <a:srgbClr val="283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2" name="AutoShape 55"/>
          <p:cNvSpPr/>
          <p:nvPr/>
        </p:nvSpPr>
        <p:spPr>
          <a:xfrm>
            <a:off x="4152960" y="-431640"/>
            <a:ext cx="3370320" cy="3395520"/>
          </a:xfrm>
          <a:custGeom>
            <a:avLst/>
            <a:gdLst>
              <a:gd name="textAreaLeft" fmla="*/ 0 w 3370320"/>
              <a:gd name="textAreaRight" fmla="*/ 3370680 w 3370320"/>
              <a:gd name="textAreaTop" fmla="*/ 0 h 3395520"/>
              <a:gd name="textAreaBottom" fmla="*/ 3395880 h 33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789"/>
                </a:lnTo>
                <a:lnTo>
                  <a:pt x="21013" y="21600"/>
                </a:lnTo>
                <a:lnTo>
                  <a:pt x="21600" y="21016"/>
                </a:lnTo>
                <a:lnTo>
                  <a:pt x="380" y="0"/>
                </a:lnTo>
                <a:cubicBezTo>
                  <a:pt x="380" y="0"/>
                  <a:pt x="0" y="0"/>
                  <a:pt x="0" y="0"/>
                </a:cubicBezTo>
                <a:close/>
                <a:moveTo>
                  <a:pt x="0" y="0"/>
                </a:moveTo>
              </a:path>
            </a:pathLst>
          </a:custGeom>
          <a:solidFill>
            <a:srgbClr val="504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3" name="AutoShape 56"/>
          <p:cNvSpPr/>
          <p:nvPr/>
        </p:nvSpPr>
        <p:spPr>
          <a:xfrm>
            <a:off x="4402080" y="-431640"/>
            <a:ext cx="3311640" cy="321120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3211200"/>
              <a:gd name="textAreaBottom" fmla="*/ 3211560 h 321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95" y="21600"/>
                </a:lnTo>
                <a:lnTo>
                  <a:pt x="21600" y="20975"/>
                </a:lnTo>
                <a:lnTo>
                  <a:pt x="1213" y="0"/>
                </a:lnTo>
                <a:cubicBezTo>
                  <a:pt x="1213" y="0"/>
                  <a:pt x="0" y="0"/>
                  <a:pt x="0" y="0"/>
                </a:cubicBezTo>
                <a:close/>
                <a:moveTo>
                  <a:pt x="0" y="0"/>
                </a:moveTo>
              </a:path>
            </a:pathLst>
          </a:custGeom>
          <a:solidFill>
            <a:srgbClr val="7e7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4" name="AutoShape 57"/>
          <p:cNvSpPr/>
          <p:nvPr/>
        </p:nvSpPr>
        <p:spPr>
          <a:xfrm>
            <a:off x="4578480" y="-431640"/>
            <a:ext cx="3220920" cy="3117600"/>
          </a:xfrm>
          <a:custGeom>
            <a:avLst/>
            <a:gdLst>
              <a:gd name="textAreaLeft" fmla="*/ 0 w 3220920"/>
              <a:gd name="textAreaRight" fmla="*/ 3221280 w 3220920"/>
              <a:gd name="textAreaTop" fmla="*/ 0 h 3117600"/>
              <a:gd name="textAreaBottom" fmla="*/ 3117960 h 311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70" y="21600"/>
                </a:lnTo>
                <a:lnTo>
                  <a:pt x="21600" y="20948"/>
                </a:lnTo>
                <a:lnTo>
                  <a:pt x="1263" y="0"/>
                </a:lnTo>
                <a:cubicBezTo>
                  <a:pt x="1263" y="0"/>
                  <a:pt x="0" y="0"/>
                  <a:pt x="0" y="0"/>
                </a:cubicBezTo>
                <a:close/>
                <a:moveTo>
                  <a:pt x="0" y="0"/>
                </a:moveTo>
              </a:path>
            </a:pathLst>
          </a:custGeom>
          <a:solidFill>
            <a:srgbClr val="5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5" name="AutoShape 58"/>
          <p:cNvSpPr/>
          <p:nvPr/>
        </p:nvSpPr>
        <p:spPr>
          <a:xfrm>
            <a:off x="4770360" y="-431640"/>
            <a:ext cx="3127320" cy="3025440"/>
          </a:xfrm>
          <a:custGeom>
            <a:avLst/>
            <a:gdLst>
              <a:gd name="textAreaLeft" fmla="*/ 0 w 3127320"/>
              <a:gd name="textAreaRight" fmla="*/ 3127680 w 3127320"/>
              <a:gd name="textAreaTop" fmla="*/ 0 h 3025440"/>
              <a:gd name="textAreaBottom" fmla="*/ 3025800 h 30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51" y="21600"/>
                </a:lnTo>
                <a:lnTo>
                  <a:pt x="21600" y="20928"/>
                </a:lnTo>
                <a:lnTo>
                  <a:pt x="1301" y="0"/>
                </a:lnTo>
                <a:cubicBezTo>
                  <a:pt x="1301" y="0"/>
                  <a:pt x="0" y="0"/>
                  <a:pt x="0" y="0"/>
                </a:cubicBezTo>
                <a:close/>
                <a:moveTo>
                  <a:pt x="0" y="0"/>
                </a:moveTo>
              </a:path>
            </a:pathLst>
          </a:custGeom>
          <a:solidFill>
            <a:srgbClr val="2d6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6" name="AutoShape 59"/>
          <p:cNvSpPr/>
          <p:nvPr/>
        </p:nvSpPr>
        <p:spPr>
          <a:xfrm>
            <a:off x="4962600" y="-431640"/>
            <a:ext cx="3031920" cy="2931840"/>
          </a:xfrm>
          <a:custGeom>
            <a:avLst/>
            <a:gdLst>
              <a:gd name="textAreaLeft" fmla="*/ 0 w 3031920"/>
              <a:gd name="textAreaRight" fmla="*/ 3032280 w 3031920"/>
              <a:gd name="textAreaTop" fmla="*/ 0 h 2931840"/>
              <a:gd name="textAreaBottom" fmla="*/ 2932200 h 29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31" y="21600"/>
                </a:lnTo>
                <a:lnTo>
                  <a:pt x="21600" y="20907"/>
                </a:lnTo>
                <a:lnTo>
                  <a:pt x="1341" y="0"/>
                </a:lnTo>
                <a:cubicBezTo>
                  <a:pt x="1341" y="0"/>
                  <a:pt x="0" y="0"/>
                  <a:pt x="0" y="0"/>
                </a:cubicBezTo>
                <a:close/>
                <a:moveTo>
                  <a:pt x="0" y="0"/>
                </a:moveTo>
              </a:path>
            </a:pathLst>
          </a:custGeom>
          <a:solidFill>
            <a:srgbClr val="ac4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7" name="AutoShape 60"/>
          <p:cNvSpPr/>
          <p:nvPr/>
        </p:nvSpPr>
        <p:spPr>
          <a:xfrm>
            <a:off x="5138640" y="-431640"/>
            <a:ext cx="2938680" cy="2838240"/>
          </a:xfrm>
          <a:custGeom>
            <a:avLst/>
            <a:gdLst>
              <a:gd name="textAreaLeft" fmla="*/ 0 w 2938680"/>
              <a:gd name="textAreaRight" fmla="*/ 2939040 w 2938680"/>
              <a:gd name="textAreaTop" fmla="*/ 0 h 2838240"/>
              <a:gd name="textAreaBottom" fmla="*/ 2838600 h 283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18" y="21600"/>
                </a:lnTo>
                <a:lnTo>
                  <a:pt x="21600" y="20893"/>
                </a:lnTo>
                <a:lnTo>
                  <a:pt x="1367" y="0"/>
                </a:lnTo>
                <a:cubicBezTo>
                  <a:pt x="1367" y="0"/>
                  <a:pt x="0" y="0"/>
                  <a:pt x="0" y="0"/>
                </a:cubicBezTo>
                <a:close/>
                <a:moveTo>
                  <a:pt x="0" y="0"/>
                </a:moveTo>
              </a:path>
            </a:pathLst>
          </a:custGeom>
          <a:solidFill>
            <a:srgbClr val="c6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Line 10"/>
          <p:cNvSpPr/>
          <p:nvPr/>
        </p:nvSpPr>
        <p:spPr>
          <a:xfrm>
            <a:off x="255600" y="268200"/>
            <a:ext cx="1249344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9" name="Rectangle 53"/>
          <p:cNvSpPr/>
          <p:nvPr/>
        </p:nvSpPr>
        <p:spPr>
          <a:xfrm>
            <a:off x="1996920" y="3033720"/>
            <a:ext cx="952524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0" name="Rectangle 53"/>
          <p:cNvSpPr/>
          <p:nvPr/>
        </p:nvSpPr>
        <p:spPr>
          <a:xfrm>
            <a:off x="1893960" y="5491080"/>
            <a:ext cx="952488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1" name="AutoShape 2"/>
          <p:cNvSpPr/>
          <p:nvPr/>
        </p:nvSpPr>
        <p:spPr>
          <a:xfrm>
            <a:off x="90360" y="-223920"/>
            <a:ext cx="433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72" name="Diagram 10" descr=""/>
          <p:cNvPicPr/>
          <p:nvPr/>
        </p:nvPicPr>
        <p:blipFill>
          <a:blip r:embed="rId1"/>
          <a:stretch/>
        </p:blipFill>
        <p:spPr>
          <a:xfrm>
            <a:off x="457200" y="1500120"/>
            <a:ext cx="12192120" cy="7777080"/>
          </a:xfrm>
          <a:prstGeom prst="rect">
            <a:avLst/>
          </a:prstGeom>
          <a:ln w="0">
            <a:noFill/>
          </a:ln>
        </p:spPr>
      </p:pic>
      <p:sp>
        <p:nvSpPr>
          <p:cNvPr id="673" name="TextBox 12"/>
          <p:cNvSpPr/>
          <p:nvPr/>
        </p:nvSpPr>
        <p:spPr>
          <a:xfrm>
            <a:off x="357120" y="628560"/>
            <a:ext cx="65055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46c0a"/>
                </a:solidFill>
                <a:latin typeface="Arial"/>
                <a:ea typeface="Arial"/>
              </a:rPr>
              <a:t>Context for work on next national plan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4" name="TextBox 16"/>
          <p:cNvSpPr/>
          <p:nvPr/>
        </p:nvSpPr>
        <p:spPr>
          <a:xfrm>
            <a:off x="8447040" y="8045280"/>
            <a:ext cx="41036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Gill Sans"/>
              </a:rPr>
              <a:t>National strateg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Gill Sans"/>
              </a:rPr>
              <a:t>for higher educ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5" name="TextBox 13"/>
          <p:cNvSpPr/>
          <p:nvPr/>
        </p:nvSpPr>
        <p:spPr>
          <a:xfrm>
            <a:off x="8950320" y="988920"/>
            <a:ext cx="3673440" cy="35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Gill Sans"/>
              </a:rPr>
              <a:t>Economic collaps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Gill Sans"/>
              </a:rPr>
              <a:t>And ‘our dark night’ -rethinking ourselves as a society and econom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6" name="TextBox 14"/>
          <p:cNvSpPr/>
          <p:nvPr/>
        </p:nvSpPr>
        <p:spPr>
          <a:xfrm>
            <a:off x="0" y="4444920"/>
            <a:ext cx="318924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Gill Sans"/>
              </a:rPr>
              <a:t>Transformation of further education and training landscap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7" name="TextBox 15"/>
          <p:cNvSpPr/>
          <p:nvPr/>
        </p:nvSpPr>
        <p:spPr>
          <a:xfrm>
            <a:off x="10701360" y="5184720"/>
            <a:ext cx="2620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8" name="TextBox 18"/>
          <p:cNvSpPr/>
          <p:nvPr/>
        </p:nvSpPr>
        <p:spPr>
          <a:xfrm>
            <a:off x="10172880" y="5092560"/>
            <a:ext cx="2831760" cy="20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Gill Sans"/>
              </a:rPr>
              <a:t>Reform of second level, focus on ‘transitions’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9" name="TextBox 19"/>
          <p:cNvSpPr/>
          <p:nvPr/>
        </p:nvSpPr>
        <p:spPr>
          <a:xfrm>
            <a:off x="598320" y="1852560"/>
            <a:ext cx="223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Gill Sans"/>
              </a:rPr>
              <a:t>Investment in early childhood educ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0" name="TextBox 20"/>
          <p:cNvSpPr/>
          <p:nvPr/>
        </p:nvSpPr>
        <p:spPr>
          <a:xfrm>
            <a:off x="0" y="8116920"/>
            <a:ext cx="506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Gill Sans"/>
              </a:rPr>
              <a:t>Quality and Quality Assurance Ireland (QQI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650880" y="2276280"/>
            <a:ext cx="11702880" cy="64357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2" descr="C:\Users\mltrant\Pictures\consultation2.jpg"/>
          <p:cNvPicPr/>
          <p:nvPr/>
        </p:nvPicPr>
        <p:blipFill>
          <a:blip r:embed="rId3"/>
          <a:stretch/>
        </p:blipFill>
        <p:spPr>
          <a:xfrm>
            <a:off x="453960" y="1852560"/>
            <a:ext cx="5454720" cy="6048360"/>
          </a:xfrm>
          <a:prstGeom prst="rect">
            <a:avLst/>
          </a:prstGeom>
          <a:ln w="0">
            <a:noFill/>
          </a:ln>
        </p:spPr>
      </p:pic>
      <p:sp>
        <p:nvSpPr>
          <p:cNvPr id="683" name="TextBox 3"/>
          <p:cNvSpPr/>
          <p:nvPr/>
        </p:nvSpPr>
        <p:spPr>
          <a:xfrm>
            <a:off x="6215040" y="1204920"/>
            <a:ext cx="6408720" cy="74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Gill Sans"/>
              </a:rPr>
              <a:t>National advisory group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Gill Sans"/>
              </a:rPr>
              <a:t>Meetings, focus groups, seminars, conference: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Gill Sans"/>
              </a:rPr>
              <a:t>Diverse student groups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Gill Sans"/>
              </a:rPr>
              <a:t>Community representatives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Gill Sans"/>
              </a:rPr>
              <a:t>Educationalists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Gill Sans"/>
              </a:rPr>
              <a:t>Government Depts, agencies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4" name="TextBox 5"/>
          <p:cNvSpPr/>
          <p:nvPr/>
        </p:nvSpPr>
        <p:spPr>
          <a:xfrm>
            <a:off x="0" y="0"/>
            <a:ext cx="12623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ffffff"/>
                </a:solidFill>
                <a:latin typeface="Gill Sans"/>
              </a:rPr>
              <a:t>Year of consultation on progress and on targets and actions for  2014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309600" y="339480"/>
            <a:ext cx="7416720" cy="837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Emerging areas for the new plan to address</a:t>
            </a: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Inequality still stark for some group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Disconnects in our education system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Outputs and outcomes vital, not just inpu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We need to foster more debate, dialogue on equa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Actions to deliver targets essential for prog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Content Placeholder 8"/>
          <p:cNvSpPr/>
          <p:nvPr/>
        </p:nvSpPr>
        <p:spPr>
          <a:xfrm>
            <a:off x="179280" y="1052640"/>
            <a:ext cx="5818320" cy="69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87" name="Picture 3" descr="equalitysign.jpg"/>
          <p:cNvPicPr/>
          <p:nvPr/>
        </p:nvPicPr>
        <p:blipFill>
          <a:blip r:embed="rId2"/>
          <a:stretch/>
        </p:blipFill>
        <p:spPr>
          <a:xfrm>
            <a:off x="8015400" y="1347840"/>
            <a:ext cx="460836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4" descr="https://encrypted-tbn1.gstatic.com/images?q=tbn:ANd9GcScaEcYOyGZAHJxdfQK5PU7RASQalOnajRjIeFGZZS1RROPKG7wBw"/>
          <p:cNvPicPr/>
          <p:nvPr/>
        </p:nvPicPr>
        <p:blipFill>
          <a:blip r:embed="rId2"/>
          <a:stretch/>
        </p:blipFill>
        <p:spPr>
          <a:xfrm>
            <a:off x="2254320" y="1303200"/>
            <a:ext cx="7343640" cy="472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sabelle Kane</dc:creator>
  <dc:description/>
  <dc:language>en-US</dc:language>
  <cp:lastModifiedBy>Mary-Liz Trant</cp:lastModifiedBy>
  <cp:lastPrinted>2013-04-15T14:52:53Z</cp:lastPrinted>
  <dcterms:modified xsi:type="dcterms:W3CDTF">2013-04-15T15:01:31Z</dcterms:modified>
  <cp:revision>53</cp:revision>
  <dc:subject/>
  <dc:title>Slide 1</dc:title>
</cp:coreProperties>
</file>