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63BB-9251-47B6-AD70-62681B69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C64-EC2F-48EA-BBED-76042ECC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C223-9523-4874-80FD-F72D6AE1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DB03-8DEF-47C9-A897-71D49AA1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56E1-9B00-4F4C-BDC0-6DCE1B6E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B09F-8F8F-43F5-A272-F90DFBF8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817B-9535-4756-B489-D16C520B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6BD4-0FAA-48E5-9237-A15E106B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D582-1994-45C2-B2B4-0E349846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BE8E-7806-47F4-BA4A-2226E898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47E6-74DA-46F3-8AB2-8121316E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E0B-20FF-4A40-8BF6-425D014E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B4A9-B6D0-4D17-BF1C-C6D30440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FB85-08E5-4DE1-B59D-F3BF7CA4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4A51-7C81-4E29-B378-332DBE33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30A0-EB3E-4652-A05E-910FA862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7903-97CE-4072-B960-4D609A29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D98A-4F21-462F-8475-C3D0CCB6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13A-5D94-4C7A-A144-79B65110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5A5-BB6D-43BB-A247-276A6C9E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39A-7406-45DC-9154-1EC791BB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1F6-BDFA-4368-95E9-DB6D5B78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E095-5AE4-4045-A078-D95ABB21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0B3-5045-499B-BD06-38208823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05DE-2DF6-4F2F-9CD7-79F4F68DDDE6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D5BB-7C7F-4FAF-9564-06E40CF5FB17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000" spc="-1" strike="noStrike">
                <a:solidFill>
                  <a:srgbClr val="006633"/>
                </a:solidFill>
                <a:latin typeface="Garamond"/>
              </a:rPr>
              <a:t>Recognition of prior learning: repor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Micheline Sch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Bologna-Seminar, Amsterdam, 11-12 december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006633"/>
                </a:solidFill>
                <a:latin typeface="Garamond"/>
              </a:rPr>
              <a:t>Theme 5: RPL and costs and benefits for all stakeholder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RPL and tailor made training programme = exception or ru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Transparant and accessible procedures (importance of language used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Theme for the next conference: Who is responsible for the RPL and for the funding of RPL-process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006633"/>
                </a:solidFill>
                <a:latin typeface="Garamond"/>
              </a:rPr>
              <a:t>General conclusions </a:t>
            </a:r>
            <a:br>
              <a:rPr sz="3800"/>
            </a:br>
            <a:r>
              <a:rPr b="0" lang="nl-BE" sz="3800" spc="-1" strike="noStrike">
                <a:solidFill>
                  <a:srgbClr val="006633"/>
                </a:solidFill>
                <a:latin typeface="Garamond"/>
              </a:rPr>
              <a:t>How can we make RPL happen?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Use a learning outcome approach </a:t>
            </a:r>
            <a:r>
              <a:rPr b="0" lang="nl-B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 Importance of building NQF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Build an overarching QF including qualifications at all levels of education and qualifications used in employment (all sectors of economic activity) and voluntary organis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Establish common principles and guidelines for RPL at national and inter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Build partnerships with all stakeholders through plat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Stimulate knowlegde centers and networks of RPL-provid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000" spc="-1" strike="noStrike">
                <a:solidFill>
                  <a:srgbClr val="006633"/>
                </a:solidFill>
                <a:latin typeface="Garamond"/>
              </a:rPr>
              <a:t>Recommendation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33"/>
                </a:solidFill>
                <a:latin typeface="Garamond"/>
              </a:rPr>
              <a:t>European principles for identifying and validating non-formal and informal learning (2004): amendment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Stakeholders should establish </a:t>
            </a:r>
            <a:r>
              <a:rPr b="0" i="1" lang="nl-BE" sz="2600" spc="-1" strike="noStrike">
                <a:solidFill>
                  <a:srgbClr val="000000"/>
                </a:solidFill>
                <a:latin typeface="Arial"/>
              </a:rPr>
              <a:t>compatible</a:t>
            </a: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 systems for valid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Systems should be underpinned by quality assurance </a:t>
            </a:r>
            <a:r>
              <a:rPr b="0" i="1" lang="nl-BE" sz="2600" spc="-1" strike="noStrike">
                <a:solidFill>
                  <a:srgbClr val="000000"/>
                </a:solidFill>
                <a:latin typeface="Arial"/>
              </a:rPr>
              <a:t>systems based on general 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600" spc="-1" strike="noStrike">
                <a:solidFill>
                  <a:srgbClr val="000000"/>
                </a:solidFill>
                <a:latin typeface="Arial"/>
              </a:rPr>
              <a:t>***National Qualification frameworks must be developed in order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200" spc="-1" strike="noStrike">
                <a:solidFill>
                  <a:srgbClr val="000000"/>
                </a:solidFill>
                <a:latin typeface="Arial"/>
              </a:rPr>
              <a:t>define the standards used  in RP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200" spc="-1" strike="noStrike">
                <a:solidFill>
                  <a:srgbClr val="000000"/>
                </a:solidFill>
                <a:latin typeface="Arial"/>
              </a:rPr>
              <a:t>establish the equivalence of RPL with initial training program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200" spc="-1" strike="noStrike">
                <a:solidFill>
                  <a:srgbClr val="000000"/>
                </a:solidFill>
                <a:latin typeface="Arial"/>
              </a:rPr>
              <a:t>guarantee RPL’s civil eff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006633"/>
                </a:solidFill>
                <a:latin typeface="Garamond"/>
              </a:rPr>
              <a:t>Bologna and Copenhagen processes: a closer cooperation for RP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Common tools for RPL </a:t>
            </a:r>
            <a:r>
              <a:rPr b="0" lang="nl-BE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 consolidate the respective approa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Bordeaux communiqué (26.11.2008) = first step </a:t>
            </a:r>
            <a:r>
              <a:rPr b="0" lang="nl-BE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 develop links between the Copenhagen and the Bologna process in order to strenghten the strategic framework for European cooperation in the field of education and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200" spc="-1" strike="noStrike">
                <a:solidFill>
                  <a:srgbClr val="006633"/>
                </a:solidFill>
                <a:latin typeface="Garamond"/>
              </a:rPr>
              <a:t>Political importance of RP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Ensuring the performances of the knowledge driven economy (new jobs and service job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Coping with aging population and mig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Improving human capital development (starting with literacy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Providing opportunities for the disadvantaged (special provisions for individuals with special need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RPL facilitates the processes of skills development and promotes L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006633"/>
                </a:solidFill>
                <a:latin typeface="Garamond"/>
              </a:rPr>
              <a:t>Increased awareness and acceptance of RP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A multitude of initiatives in different countri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Improving access to formal education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Alternative routes for labour market participation: access to jobs and profe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Identifying individual’s skil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RPL: formative (career guidance; social participation and citizenship) and summative (formal recognition; certific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Islands” of RPL </a:t>
            </a:r>
            <a:r>
              <a:rPr b="0" lang="nl-BE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 lack of coordination and compar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200" spc="-1" strike="noStrike">
                <a:solidFill>
                  <a:srgbClr val="006633"/>
                </a:solidFill>
                <a:latin typeface="Garamond"/>
              </a:rPr>
              <a:t>Building confidence and trust in RP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Work at the transparancy, comparability, compatibility of standards, criteria and proced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Improve the credibility  and legitimacy of RPL through inclusion of relevant stakehol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200" spc="-1" strike="noStrike">
                <a:solidFill>
                  <a:srgbClr val="006633"/>
                </a:solidFill>
                <a:latin typeface="Garamond"/>
              </a:rPr>
              <a:t>Quality Assurance of RPL = prior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Guarantee the quality of the validation independent of the system that identifies or awards the learning outcom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Realize international and national comparability, compatibility and transparancy of RPL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One system of QA for RPL processes at different levels of qualification and in different contex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Integrate QA of RPL in the QA of formal education (diploma=diplom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Enhance communication about RPL between education, training, learning and work, but also culture, sports and voluntary organisations,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200" spc="-1" strike="noStrike">
                <a:solidFill>
                  <a:srgbClr val="006633"/>
                </a:solidFill>
                <a:latin typeface="Garamond"/>
              </a:rPr>
              <a:t>Theme 1: Role of govern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Legal framework for RP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</a:rPr>
              <a:t>Introduce National Qualification Framework consistent with EQ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</a:rPr>
              <a:t>Formulate general principles for Quality Assurance in line with international guidelines but adapted to the national context and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In collaboration with all the stakeholders, define the respective roles and responsibilities at different stages of the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Intensive communication of the benefits of RPL by means of the NQ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Facilitate RPL in different organis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Financial incen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006633"/>
                </a:solidFill>
                <a:latin typeface="Garamond"/>
              </a:rPr>
              <a:t>Theme 2: Quality assurance &amp; role of stakeholders in H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Arial"/>
              </a:rPr>
              <a:t>Implement legal settings in their pract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Arial"/>
              </a:rPr>
              <a:t>Formulate qualifications in terms of learning outcomes and translate them in transparant and comparable standards for RP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Arial"/>
              </a:rPr>
              <a:t>Invest in agreements on common standards and procedures for access to learning programmes in different HEI’s </a:t>
            </a:r>
            <a:r>
              <a:rPr b="0" lang="nl-BE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100" spc="-1" strike="noStrike">
                <a:solidFill>
                  <a:srgbClr val="000000"/>
                </a:solidFill>
                <a:latin typeface="Arial"/>
              </a:rPr>
              <a:t> deliver standardised experience certificate for the same RPL-proced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Arial"/>
              </a:rPr>
              <a:t>Importance of bottom up approach in working on Q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Arial"/>
              </a:rPr>
              <a:t>Partnerships with labour market act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Arial"/>
              </a:rPr>
              <a:t>Building alternative, more flexible learning routes and short trajectori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Arial"/>
              </a:rPr>
              <a:t>Integrating work based learning rou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006633"/>
                </a:solidFill>
                <a:latin typeface="Garamond"/>
              </a:rPr>
              <a:t>Theme 3: Dealing with RPL and implementing effective procedur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Necessity of going through the different implementation phases in order to learn from each other’s experi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Importance of communication about the benefits of RP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Install cross border confidence through matching guidelines of different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006633"/>
                </a:solidFill>
                <a:latin typeface="Garamond"/>
              </a:rPr>
              <a:t>Theme 4: Quality codes for RPL procedures, including European contex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Arial"/>
              </a:rPr>
              <a:t>To install trust and confidence in RPL takes time and needs investments in procedures and guidelin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Standar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Subject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Guidelines for the candidates to make up portfol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Evidence-based, measurabl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Refle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Arial"/>
              </a:rPr>
              <a:t>Use client oriented approach as starting point and mainstream afterwar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Arial"/>
              </a:rPr>
              <a:t>RPL demands collaboration with social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Arial"/>
              </a:rPr>
              <a:t>Cost of the procedure for the individual and the RPL-organis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23:35:35Z</dcterms:created>
  <dc:creator>scheysmi</dc:creator>
  <dc:description/>
  <dc:language>en-US</dc:language>
  <cp:lastModifiedBy>dae</cp:lastModifiedBy>
  <dcterms:modified xsi:type="dcterms:W3CDTF">2008-12-13T13:45:02Z</dcterms:modified>
  <cp:revision>16</cp:revision>
  <dc:subject/>
  <dc:title>Recognition of prior learning: report</dc:title>
</cp:coreProperties>
</file>