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810-8229-4367-BE4F-C8665EF3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4A1-B1A5-4962-9A6F-0BE5BF9D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F48B4-3063-499D-9978-2A4A96E1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EFC2D-B4DB-4B40-9A5A-82C15451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3B9FF-45FB-4A9E-A78F-44C69901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286B-3CC6-40A3-94B9-F056CC1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4BD27-145C-4EE4-B8C5-19518E34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CA335-5E7B-44A1-9FDE-9DC76A3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4210E-0442-433C-9CE8-D6EF55CE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0B744-74A3-4AC7-AF81-7D2DCFE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67274-085F-4122-AFA9-F16E26DB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08428-E608-4FFD-83EB-9028FFD8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DAB-78FC-421D-A569-E9CE32DB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97483-5472-4453-90FD-EC232795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7D45D-1A40-4993-BD16-E3559DFD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A38B4-650F-4894-B149-C706965A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274D4-532F-423B-AD89-CFC5B5E4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A9CFC-A5A8-4324-8E0A-E1CFA13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2306D-4AEF-40FC-9696-2998D75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CB280-A539-4D51-9A85-287869D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DFD05-188D-454A-95DC-EBECFD2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7C941-8A2B-4976-9778-EBE8A9E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0DF0D-EAE8-4E91-9138-800D20B5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C55-370B-4A68-A819-2546765C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F1AD7-E9C8-4F81-9C9A-BDACC285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AE2B5-C29D-4C68-B85A-E4E38019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85592-71BE-45FF-892E-1016F2B3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6ED3C-9B4F-4283-93FD-ABC435F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3DF48-03DF-49C9-A6C7-7AFACA3D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14D4A-EAB1-4EA1-BE64-7D33DEE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61FFC-9A58-40DE-8150-0F372651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7F223-9654-492F-B0BF-419DA09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8054C-02D8-43EE-96F1-23627F4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F9E59-AEDD-4A29-A1D9-663D1DE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435-7FAC-43EF-B1D1-DC0A275F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9B5D1-8298-487D-81ED-DFFE952D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293C1-9171-4C91-9C36-91AC7441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B0ED0-AF3E-44C2-8614-84AFC2DA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B4DB6-C19A-407A-931F-6000D8F2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20D3A-1EFA-4D3B-876C-E1611FFC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563F4-BABA-4908-A4EF-DC8476BC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3BF94-B3DF-43CA-AABD-8F18266C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78592-3F74-4AFC-8117-A1B229B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BCE4F-BC39-468E-8900-D2ADA39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D4901-41DF-4E9F-B64A-7BA8C725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5BD3-1128-465D-9446-F7F19D86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455DB-A0AF-437F-A14A-D3F4899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F271C-A12E-47B2-9B8B-AFE4AE63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1CC3C-5D55-433D-A97F-9922C2C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AF6FD-A660-4D4D-9399-DAFA893B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E358-BA42-48F1-A4B8-19A09FA1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49859-9666-4DEA-A2E2-AAFE7018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7FBD9-29FB-4483-91EF-0452DE7B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B24CB-2EAC-49AB-94A6-0BEA1488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6DB73-DAAD-4E01-AD35-5FA23F68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5E73F-CCF7-4037-AA51-DC3F178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C3E1-8EFC-428C-8041-03BCF16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D855D-B8B7-4215-8D98-94CDA6F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5FC4F-3F2C-4C0E-A1D5-BD46A4A6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74BDD-FDAF-4006-B635-E0433B5E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78C58-0FD7-4884-829B-A6B2261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750F6-70D0-49EE-93C9-1BCCA51D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0B322-9657-4057-AC7A-7FBB0F85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77BCE-4415-4984-9920-6192B4DC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6F23C-F069-4DBF-B060-0C5379D1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CBB01-7BD2-4EE8-8F08-47C8D69C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B2580-6FB1-4AA2-9B19-025A7C7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2A03-FDF4-4057-B6B4-2A8A9676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183DD-5995-4BF6-9B01-E34A2E4E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27FD8-EC2C-49BD-9273-967DBD2B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6C346-62A0-4B93-A8DB-9AF608C9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6CCCF-E928-4264-B682-BC5256A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BDC03-5906-4FED-A3F4-44383A7A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C9346-7A56-4239-811A-0A4C231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F82C7-3F1D-47F0-9F77-61C4E66E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DEF5A-3E56-47C6-8037-8F0E3BB4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A0BC6-334A-40FE-9AF8-E78F5EB7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FB43C-3F96-4662-BE72-937D136D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9EB2-FBCF-447C-AC30-AE34453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067D3-DE46-4D34-83F0-04E7AD1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02025-CE2E-4DDA-A0BB-4BDA27F9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99125-471E-4B0A-AE42-DEFB2FF7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C3F23-E4C4-48FF-9327-AD1E4DA9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3FFC6-D264-41C4-93E0-53268270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E8D98-13D0-450C-A22B-314B97F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40FD9-4B79-4335-8C22-8DBD10D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D5585-535A-4F71-8E16-E82BB6FF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4405F-8C0B-45CD-A41F-97F3CE50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B5E96-8B12-4CC1-A11E-31FCC049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76AC-95AA-4B63-A033-BA1B8E98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CE4CE-2031-4F0C-B0FD-BD19DD31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5C3987-388F-470B-8E94-1AD6469C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F504F-D0F1-4C8C-8993-9AF1177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BC45F-27E5-4634-8C5B-74A71026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5E75D-165F-4300-A820-3C74E54D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D4EC0-5BDB-42DD-8A36-FAF46B7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A4A3F-78DC-4CE2-9BA2-411D2E5E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390A6-4496-429B-9249-ED40DB8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38FFC-1630-47C8-A58D-E647B80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9CD5D-2055-4773-891F-F00B55D9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2F38-AB9A-4925-8386-1111561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AF5C4-479F-4EBB-B2E4-5BCF9EA5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22602-F28D-487D-A7A4-08F223EA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75524-1DD1-4916-8CF8-1A1C1A68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E3F-3FCD-46EC-9589-8A2F078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F64A-6878-4EE9-9234-185CA0F8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A0C2-09F7-4421-B55D-B391996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6D9C-A590-4CB9-886A-DEA05DB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2803-39E1-4DF1-B317-8E2C3066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3257-82B2-4000-AF11-B84176F4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4AD3-7EEA-4778-AE2E-8E52E807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FA47-848E-42B9-9794-2EB9474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2EF1-690B-4A2A-8855-2B6006A1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E98F-C275-4666-A8ED-A1FC97DA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5A7E-7798-4C28-9806-322689D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4EB-180B-4503-8413-8531A4B3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524E-D9C9-48AB-9F3B-24C6FA89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05BF-E329-492B-9B6D-AE431B25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DC3E-81B8-4B5D-8503-E3B60E76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B4D3-6331-432A-B823-46EE49B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56FD-1F5F-48D3-8962-DA20DD2C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D228-1D9E-4C72-9DFA-AA6A40A0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0E72-7EA0-4A40-92EE-51F44411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8BBF-EC51-4778-9909-47A00867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907B-F03C-4F60-AB81-33EA8D87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15DA-3AE0-4875-B162-CFF9A39E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EDB-7884-4D35-B8CB-3DF486B0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CCFF-553E-4F8E-BD70-A323B04B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17C7-C01A-4B09-BF9E-C360638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02001-F08E-4893-8FE5-565F1D33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CC7F-9E42-4C3E-BA03-883C3B67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EAC0-6588-49C0-958E-D3A92A7B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6DCD-11EF-4676-BE60-769AD99B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AFB3-3589-4828-AFA0-8D95E86B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E27D-17FF-4055-9D8A-FB65D613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003B7-EEF3-4246-93B0-5EBD8016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EB215-DC0A-4E3D-8CBD-F06B8053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BBB-D6F7-4DCF-BF36-24C9D98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33C65-0A69-4D94-906A-BC3CA14F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21C5-0939-4AB8-BB8F-8DCA3131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D8E78-0F51-4A30-A380-8678149E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E0DA-CD20-4BE7-951A-2BDAF3DA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E983-6098-4E05-B90C-9229DA73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18CBA-DD64-4947-B3B2-F7BCB94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5228-5F2E-4EAB-A9D5-1034E353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AD51-352E-4135-8761-3180AB7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E185-4CDE-4464-B8BC-E2DFB966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611E-D7CB-4FE3-BAAC-1683B521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B24-76BE-4A77-B71B-22B722C2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F0DF9-00BD-445A-81E0-A3568B4E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53C9-0A0E-4507-BFBF-28332C58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73A5-0799-4B8D-8A59-1DE01A4B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BAD5B-FBFB-460A-8598-3D34765A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2CA89-5C5E-4BEF-9499-B04C76F2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AEB0-AC40-446A-BACE-CDD35CFB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15DC9-FF04-486A-A443-09F34FE3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CC477-7515-4B3A-8F3E-ABBC8AE6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6F87-48D8-4FE3-92FC-55D1838A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9DADB-BE01-43C2-B5D1-1645339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2D4-9B1A-4E17-A10A-6375704E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1FB88-6FDD-4A7E-80AF-2B41E92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91AE6-4472-42CD-9FC1-55D934D4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6D4D-9F2A-4C23-A650-28D3399C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A517D-16FB-4637-A53F-956A40AD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2CE3-0CF5-4706-8050-A4E3BD69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EA5ED-780C-4251-A92A-EC21355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8B44-4F5C-48F4-BFB9-29A35413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9D1C-EBED-418B-BE43-F13B18FC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54AA-2EF1-41AF-8DA7-F127F5DF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FE762-8BEF-49F1-A1A7-7C7E7C74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875-3E99-437C-841D-E5BCA27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6ADE9-AA80-45BC-9DF5-7370C99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196F-93B4-4AD7-9C03-FE1D123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A8A8-8060-4D80-9874-3A001814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B87BF-2422-4E11-97DA-330D75DC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3048-138F-4A06-BE29-5BFD2DD2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BF72-088C-434B-BF45-6E4C19B2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6213-7CA7-4F38-830C-D2F3A227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A35B-D446-4DBC-80A8-6A174E7C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87495-F437-4D60-AC27-989254DD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FC422-2E25-4505-A3A1-3DBBFC1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CA4-99F7-4DD9-AFFD-0E2DF5C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6C348-E9E4-4865-A63B-06D7013C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CF3AE-1753-4BEB-80C7-EF9FFAE4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9877-CB71-4B38-9828-7699F59E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C0B8B-928C-4576-AF93-665EBC75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00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F929B-1122-45B3-8E2D-E91783A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800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9B5A-613B-4A84-BA50-2B35002D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4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532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800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4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532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4EE3-3BAA-4532-A7C8-BD4DAA00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B6D64-BB7F-4281-82F5-FC2D968A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C6FEC-23E7-4866-8C57-74248A3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B70FE-03AC-487D-B34A-98625CA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EBA3-D9B3-4065-B861-0707F1130AAE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A87E-E5FE-443D-ACDC-DD12C62883DC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2C67-F08E-41B6-AC3C-2598522BF66D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C605-ED33-4A9B-8FD7-96560C0590F1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E14E-AAB8-4F8A-9BF1-1BECA9CE8CC4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008-70F2-4150-AA45-B2236CC71B00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51A5-3A45-4BF7-A57F-AD48E8C5DC27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B025-161A-42E9-8642-9E3096ADE17A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1544760" y="1298520"/>
            <a:ext cx="1731960" cy="349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OECD_285_50K_100p"/>
          <p:cNvPicPr/>
          <p:nvPr/>
        </p:nvPicPr>
        <p:blipFill>
          <a:blip r:embed="rId3"/>
          <a:stretch/>
        </p:blipFill>
        <p:spPr>
          <a:xfrm>
            <a:off x="117360" y="117360"/>
            <a:ext cx="854280" cy="86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name_EN_250"/>
          <p:cNvPicPr/>
          <p:nvPr/>
        </p:nvPicPr>
        <p:blipFill>
          <a:blip r:embed="rId4"/>
          <a:stretch/>
        </p:blipFill>
        <p:spPr>
          <a:xfrm>
            <a:off x="1042920" y="692280"/>
            <a:ext cx="2236680" cy="268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ERI5"/>
          <p:cNvPicPr/>
          <p:nvPr/>
        </p:nvPicPr>
        <p:blipFill>
          <a:blip r:embed="rId5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ERI5"/>
          <p:cNvPicPr/>
          <p:nvPr/>
        </p:nvPicPr>
        <p:blipFill>
          <a:blip r:embed="rId6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358040" y="6214680"/>
            <a:ext cx="8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3720-C6A0-4898-8F2C-705E1F116FC6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5D5-BA81-4464-AB2F-F6621D914F2E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E86C-0A45-4353-B6E2-843070EA2629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9BC2-5D8F-49BA-9E78-F17DF015F8B2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CA3-7DA8-4171-9F65-46DF021B888C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DD93-F840-4920-AE1F-0C3D37128313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AAA4-F1DB-451D-90D8-75820510E86E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8" descr="OECD_285_50K_100p"/>
          <p:cNvPicPr/>
          <p:nvPr/>
        </p:nvPicPr>
        <p:blipFill>
          <a:blip r:embed="rId2"/>
          <a:stretch/>
        </p:blipFill>
        <p:spPr>
          <a:xfrm>
            <a:off x="114480" y="115920"/>
            <a:ext cx="569880" cy="5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ERI5"/>
          <p:cNvPicPr/>
          <p:nvPr/>
        </p:nvPicPr>
        <p:blipFill>
          <a:blip r:embed="rId3"/>
          <a:stretch/>
        </p:blipFill>
        <p:spPr>
          <a:xfrm>
            <a:off x="0" y="557208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73c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3c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135684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857400" y="62146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7572240" y="6214680"/>
            <a:ext cx="11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C774-F0D6-40F5-86E6-02B0D2D21582}" type="slidenum">
              <a:rPr b="0" lang="en-US" sz="1400" spc="-1" strike="noStrike">
                <a:solidFill>
                  <a:srgbClr val="000000"/>
                </a:solidFill>
                <a:latin typeface="Helvetica 65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ecd.org/edu/universityfutures/2008conference" TargetMode="External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oecd.org/edu/internationalisation" TargetMode="External"/><Relationship Id="rId2" Type="http://schemas.openxmlformats.org/officeDocument/2006/relationships/hyperlink" Target="http://www.oecd.og/edu/universityfuture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29000" y="1714320"/>
            <a:ext cx="518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Introduction to the Guidelines for quality provision in in cross-border higher education: </a:t>
            </a:r>
            <a:br>
              <a:rPr sz="3200"/>
            </a:b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the contex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3500280" y="4142880"/>
            <a:ext cx="48578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Stéphan Vincent-Lancrin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Senior analyst,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Directorate for Education,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OECD Centre for Educational Research and Innovation (CERI)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693" name="TextBox 3"/>
          <p:cNvSpPr/>
          <p:nvPr/>
        </p:nvSpPr>
        <p:spPr>
          <a:xfrm>
            <a:off x="3103200" y="285840"/>
            <a:ext cx="60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eorgia"/>
              </a:rPr>
              <a:t>Quality Assurance in Transnational Education – From words to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Georgia"/>
              </a:rPr>
              <a:t>Bologna Seminar, ENQA/QAA, 1-2 December 2008, Lon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Content Placeholder 11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Number of foreign students from top sending countries (2006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8" name="Line 6"/>
          <p:cNvSpPr/>
          <p:nvPr/>
        </p:nvSpPr>
        <p:spPr>
          <a:xfrm flipV="1">
            <a:off x="1928880" y="1761840"/>
            <a:ext cx="0" cy="34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1409400" y="1714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3862080" y="1714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0"/>
          <p:cNvSpPr/>
          <p:nvPr/>
        </p:nvSpPr>
        <p:spPr>
          <a:xfrm>
            <a:off x="87120" y="65977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7"/>
          <p:cNvSpPr/>
          <p:nvPr/>
        </p:nvSpPr>
        <p:spPr>
          <a:xfrm flipV="1">
            <a:off x="8572680" y="22622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7934040" y="1714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6"/>
          <p:cNvSpPr/>
          <p:nvPr/>
        </p:nvSpPr>
        <p:spPr>
          <a:xfrm flipV="1">
            <a:off x="8572680" y="1785600"/>
            <a:ext cx="0" cy="34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 flipV="1">
            <a:off x="4429080" y="1857240"/>
            <a:ext cx="0" cy="345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Some examples of access widening thanks to cross-border higher educa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27" name="Content Placeholder 3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389800" cy="4829040"/>
          </a:xfrm>
          <a:prstGeom prst="rect">
            <a:avLst/>
          </a:prstGeom>
          <a:ln w="0">
            <a:noFill/>
          </a:ln>
        </p:spPr>
      </p:pic>
      <p:sp>
        <p:nvSpPr>
          <p:cNvPr id="728" name="TextBox 4"/>
          <p:cNvSpPr/>
          <p:nvPr/>
        </p:nvSpPr>
        <p:spPr>
          <a:xfrm>
            <a:off x="1506960" y="65008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urce: UNE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38188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Where do students from different continents go (%)?</a:t>
            </a:r>
            <a:br>
              <a:rPr sz="2400"/>
            </a:b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(within the OECD area) (2006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857160" y="1357200"/>
          <a:ext cx="7604280" cy="4881600"/>
        </p:xfrm>
        <a:graphic>
          <a:graphicData uri="http://schemas.openxmlformats.org/drawingml/2006/table">
            <a:tbl>
              <a:tblPr/>
              <a:tblGrid>
                <a:gridCol w="2109960"/>
                <a:gridCol w="1374840"/>
                <a:gridCol w="1373040"/>
                <a:gridCol w="1373040"/>
                <a:gridCol w="1373400"/>
              </a:tblGrid>
              <a:tr h="436680">
                <a:tc rowSpan="2">
                  <a:txBody>
                    <a:bodyPr lIns="126000" rIns="36000" tIns="36000" bIns="0" anchor="ctr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3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CD dest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-Pacif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0" rIns="0" tIns="0" bIns="0" anchor="b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0" rIns="0" tIns="0" bIns="0" anchor="b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0" rIns="0" tIns="0" bIns="0" anchor="b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b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b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0" rIns="0" tIns="0" bIns="0" anchor="b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0" rIns="0" tIns="0" bIns="0" anchor="b">
                      <a:noAutofit/>
                    </a:bodyPr>
                    <a:p>
                      <a:pPr marL="142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1" name="Text Box 77"/>
          <p:cNvSpPr/>
          <p:nvPr/>
        </p:nvSpPr>
        <p:spPr>
          <a:xfrm>
            <a:off x="469080" y="6381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rce: OE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822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Make-up of foreign students in the OECD (2006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297080" y="1268280"/>
          <a:ext cx="6703920" cy="4807080"/>
        </p:xfrm>
        <a:graphic>
          <a:graphicData uri="http://schemas.openxmlformats.org/drawingml/2006/table">
            <a:tbl>
              <a:tblPr/>
              <a:tblGrid>
                <a:gridCol w="1697040"/>
                <a:gridCol w="1143000"/>
                <a:gridCol w="1143000"/>
                <a:gridCol w="1143000"/>
                <a:gridCol w="1577880"/>
              </a:tblGrid>
              <a:tr h="438120">
                <a:tc rowSpan="2">
                  <a:txBody>
                    <a:bodyPr lIns="126000" rIns="36000" tIns="3600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3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-Pacif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126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26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126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126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6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126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12600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Text Box 84"/>
          <p:cNvSpPr/>
          <p:nvPr/>
        </p:nvSpPr>
        <p:spPr>
          <a:xfrm>
            <a:off x="469080" y="6381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rce: OE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419640" y="1341360"/>
            <a:ext cx="518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Programme and institution mobilit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3419280" y="2900520"/>
            <a:ext cx="485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International mobility of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Arial"/>
              </a:rPr>
              <a:t>programmes and institution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3cf"/>
                </a:solidFill>
                <a:latin typeface="Georgia"/>
              </a:rPr>
              <a:t>Educational programme and institution mobility is still limited in scale but grows rapidly, especially in the Asia-Pacific region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3cf"/>
                </a:solidFill>
                <a:latin typeface="Georgia"/>
              </a:rPr>
              <a:t>About 300 000 students enrolled in UK and Australian foreign programmes</a:t>
            </a: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3cf"/>
                </a:solidFill>
                <a:latin typeface="Georgia"/>
              </a:rPr>
              <a:t>30% of all international students enrolled in Australian institutions studied from their country in 2007 (against 24% in 1996 and 37% in 2001); all Australian universities engaged in cross-border operations</a:t>
            </a: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3cf"/>
                </a:solidFill>
                <a:latin typeface="Georgia"/>
              </a:rPr>
              <a:t>Singapore: more undergraduate students accessed a foreign programme from Singapore than studied abroad in 2000</a:t>
            </a: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3cf"/>
                </a:solidFill>
                <a:latin typeface="Georgia"/>
              </a:rPr>
              <a:t>China: 9-fold increase in foreign programmes between 1995 and 2004: 831 joint schools (126) and programmes (705) – only 4 more in 2007</a:t>
            </a: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Examples of « exporters »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6800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Australia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Monash, RMIT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UK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Liverpool (China), Nottingham (Malaysia, China), New Castle (Malaysia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US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Apollo, Laureate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NYU, Carnegie Mellon, MIT, etc.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Germany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German University in Egypt 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France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Sorbonne (Abu Dhabi), Egypt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Sweden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Karolinska Institute (China)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Examples of « importers »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6800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Dubai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Knowledge village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Qatar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Education city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Korea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IFEZ: global academic cluster (2005-2010)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3cf"/>
                </a:solidFill>
                <a:latin typeface="Georgia"/>
              </a:rPr>
              <a:t>Malaysia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Kuala Lumpur Education City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652640" y="1357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80000"/>
              </a:lnSpc>
              <a:spcBef>
                <a:spcPts val="425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Abu Dhabi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25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73cf"/>
                </a:solidFill>
                <a:latin typeface="Georgia"/>
              </a:rPr>
              <a:t>Sorbonne, NYU, etc.</a:t>
            </a:r>
            <a:endParaRPr b="0" lang="en-US" sz="17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China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lvl="1" marL="698400" indent="-268560">
              <a:lnSpc>
                <a:spcPct val="80000"/>
              </a:lnSpc>
              <a:spcBef>
                <a:spcPts val="425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73cf"/>
                </a:solidFill>
                <a:latin typeface="Georgia"/>
              </a:rPr>
              <a:t>Innovation China UK</a:t>
            </a:r>
            <a:endParaRPr b="0" lang="en-US" sz="17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Singapore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Vietnam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Portugal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73cf"/>
                </a:solidFill>
                <a:latin typeface="Georgia"/>
              </a:rPr>
              <a:t>Etc.</a:t>
            </a:r>
            <a:endParaRPr b="0" lang="en-US" sz="20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Example: Singapor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785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3cf"/>
                </a:solidFill>
                <a:latin typeface="Georgia"/>
              </a:rPr>
              <a:t>Branch campuse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71432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INSEAD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University of Chicago Graduate School of Business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Duke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ESSEC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SP Jain Centre of Management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Digipen Institute of Technolog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University of Nevada, Las Vegas (UNLV)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7855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73cf"/>
                </a:solidFill>
                <a:latin typeface="Georgia"/>
              </a:rPr>
              <a:t>Partnerships</a:t>
            </a:r>
            <a:endParaRPr b="0" lang="en-US" sz="24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644720" y="1500120"/>
            <a:ext cx="4041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Georgia Institute of Technolog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Massachusetts Institute of Technology (MIT)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The Wharton School of the University of Pennsylvania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Design Technology Institute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German Institute of Science &amp; Technolog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Shanghai Jiao Tong Universit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Stanford Universit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Waseda Universit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Indian Institute of Technology, Bomba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New York University School of Law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3cf"/>
                </a:solidFill>
                <a:latin typeface="Georgia"/>
              </a:rPr>
              <a:t>Cornell University </a:t>
            </a:r>
            <a:endParaRPr b="0" lang="en-US" sz="19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A variety of model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70074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42600" y="928800"/>
            <a:ext cx="83581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Trends in cross-border higher education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Student mobility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Programme and institution mobility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Drivers, rationales, country strategies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A variety of arrangements and objective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Multiplication of commercial arrangements in Asia – but non-commercial academic partnerships remain the norm in Europe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Public (or private not-for-profit) institutions have been the main drivers of commercial programme and institution mobility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A multiplicity of business models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Partnerships: franchise, twinning arrangement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Branch campuses, multi-campus institutions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Buying foreign institutions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Invited or not by country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419640" y="1341360"/>
            <a:ext cx="518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419280" y="2900520"/>
            <a:ext cx="485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Drivers, rationales, strategies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Rationales and drivers of cross-border higher educa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Decrease in travel and communication costs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Globalisation, migration and labour market opportunities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More demand from students and their families (and unmet demand in some emerging countries)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Policies at country and/or regional level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Source of funding for educational institutions and economic strategy for some countries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Institutional strategies for prestige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Benefits of cross-border higher educa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Cultural, political and geo-strategic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Academic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lvl="1" marL="683280" indent="-262800">
              <a:lnSpc>
                <a:spcPct val="7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Quality through benchmarking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683280" indent="-262800">
              <a:lnSpc>
                <a:spcPct val="7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More rapid awareness and adoption of new knowledge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683280" indent="-262800">
              <a:lnSpc>
                <a:spcPct val="7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Better trained staff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683280" indent="-262800">
              <a:lnSpc>
                <a:spcPct val="7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Maintaining capacity in some fields, for now and the future (ageing society, declining interest from students)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marL="31536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15360" indent="-315360">
              <a:lnSpc>
                <a:spcPct val="7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Economic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lvl="1" marL="683280" indent="-262800">
              <a:lnSpc>
                <a:spcPct val="7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More educated (and thus productive) human resources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683280" indent="-262800">
              <a:lnSpc>
                <a:spcPct val="7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Attracting highly skilled workers (knowledge economy)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lvl="1" marL="683280" indent="-262800">
              <a:lnSpc>
                <a:spcPct val="70000"/>
              </a:lnSpc>
              <a:spcBef>
                <a:spcPts val="55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3cf"/>
                </a:solidFill>
                <a:latin typeface="Georgia"/>
              </a:rPr>
              <a:t>Generating export revenues</a:t>
            </a: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Some challenge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Quality and recognition, hence the Guidelines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But also: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Equity of access and financing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lvl="1" marL="653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73cf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Brain drain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Decrease of aid to developing countries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Culture and language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624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73cf"/>
                </a:solidFill>
                <a:latin typeface="Georgia"/>
              </a:rPr>
              <a:t>Reaping the benefits</a:t>
            </a: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  <a:p>
            <a:pPr lvl="1" marL="653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Line 2"/>
          <p:cNvSpPr/>
          <p:nvPr/>
        </p:nvSpPr>
        <p:spPr>
          <a:xfrm>
            <a:off x="4572000" y="836640"/>
            <a:ext cx="0" cy="4968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1042920" y="4437000"/>
            <a:ext cx="770580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1266840" y="333360"/>
            <a:ext cx="2922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EXPORT strag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5369760" y="333360"/>
            <a:ext cx="27730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IMPORT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5419080" y="205740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7"/>
          <p:cNvSpPr/>
          <p:nvPr/>
        </p:nvSpPr>
        <p:spPr>
          <a:xfrm>
            <a:off x="965520" y="136224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venu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1218960" y="2965320"/>
            <a:ext cx="27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kill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9"/>
          <p:cNvSpPr/>
          <p:nvPr/>
        </p:nvSpPr>
        <p:spPr>
          <a:xfrm flipV="1">
            <a:off x="539640" y="764640"/>
            <a:ext cx="0" cy="504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0"/>
          <p:cNvSpPr/>
          <p:nvPr/>
        </p:nvSpPr>
        <p:spPr>
          <a:xfrm rot="10800000">
            <a:off x="0" y="1484280"/>
            <a:ext cx="54612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Intensity of economic rat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2774880" y="510696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utual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5492160" y="2728800"/>
            <a:ext cx="220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: Malaysia, Singapour,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onk Kong-China, China,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onesia, Oman, Dub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1332000" y="1844640"/>
            <a:ext cx="30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: Australia, New Zealand, UK (non-EU), US (undergraduates), Malay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1258920" y="350028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: Germany, France, UK (EU), US (postgradu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Next week: 8-9 December 2008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OECD/France international conference: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« Higher education to 2030: what futures for quality access in the era of globalisation? », CNAM, Paris, including sessions on the future of quality assurance and the future of TNE: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oecd.org/edu/universityfutures/2008conference</a:t>
            </a: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 rot="416400">
            <a:off x="2386080" y="1082160"/>
            <a:ext cx="3619440" cy="486756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  <a:ea typeface="MS PGothic"/>
              </a:rPr>
              <a:t>OECD work on internationalisation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79" name="Picture 4" descr="Cover"/>
          <p:cNvPicPr/>
          <p:nvPr/>
        </p:nvPicPr>
        <p:blipFill>
          <a:blip r:embed="rId2"/>
          <a:stretch/>
        </p:blipFill>
        <p:spPr>
          <a:xfrm>
            <a:off x="214200" y="1143000"/>
            <a:ext cx="334800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0" name="Picture 6" descr=""/>
          <p:cNvPicPr/>
          <p:nvPr/>
        </p:nvPicPr>
        <p:blipFill>
          <a:blip r:embed="rId3"/>
          <a:stretch/>
        </p:blipFill>
        <p:spPr>
          <a:xfrm rot="20783400">
            <a:off x="799920" y="2887560"/>
            <a:ext cx="2535120" cy="3643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1" name="Picture 5" descr=""/>
          <p:cNvPicPr/>
          <p:nvPr/>
        </p:nvPicPr>
        <p:blipFill>
          <a:blip r:embed="rId4"/>
          <a:stretch/>
        </p:blipFill>
        <p:spPr>
          <a:xfrm rot="21339000">
            <a:off x="2049480" y="2392200"/>
            <a:ext cx="2751120" cy="39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2" name="Picture 7" descr=""/>
          <p:cNvPicPr/>
          <p:nvPr/>
        </p:nvPicPr>
        <p:blipFill>
          <a:blip r:embed="rId5"/>
          <a:stretch/>
        </p:blipFill>
        <p:spPr>
          <a:xfrm>
            <a:off x="4786200" y="771480"/>
            <a:ext cx="4110120" cy="591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394920" y="314172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3cf"/>
                </a:solidFill>
                <a:latin typeface="Georgia"/>
              </a:rPr>
              <a:t>Stephan.Vincent-Lancrin@oecd.org</a:t>
            </a:r>
            <a:endParaRPr b="0" lang="en-US" sz="3600" spc="-1" strike="noStrike">
              <a:solidFill>
                <a:srgbClr val="0073cf"/>
              </a:solidFill>
              <a:latin typeface="Georgia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468360" y="4581360"/>
            <a:ext cx="828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ecd.org/edu/international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ecd.og/edu/universityfu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Cross-border higher educa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Internationalisation / Globalisation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Cross-border mobility: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Students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Academics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Programmes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Institutions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73c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3cf"/>
                </a:solidFill>
                <a:latin typeface="Georgia"/>
              </a:rPr>
              <a:t>Projects (research, etc.)</a:t>
            </a:r>
            <a:endParaRPr b="0" lang="en-US" sz="28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Context of the Guideline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Growth and diversification of cross-border higher education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Emergence of trade in higher education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3cf"/>
                </a:solidFill>
                <a:latin typeface="Georgia"/>
              </a:rPr>
              <a:t>Insufficient coverage of cross-border activities by QA arrangements</a:t>
            </a: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19640" y="1341360"/>
            <a:ext cx="518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Student mobilit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419280" y="2900520"/>
            <a:ext cx="485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"/>
              </a:rPr>
              <a:t>International mobility of student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73cf"/>
                </a:solidFill>
                <a:latin typeface="Georgia"/>
              </a:rPr>
              <a:t>OECD countries receive about 85% of the ca. 3 million foreign students in the world in 2006</a:t>
            </a: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73cf"/>
                </a:solidFill>
                <a:latin typeface="Georgia"/>
                <a:ea typeface="MS PGothic"/>
              </a:rPr>
              <a:t>The number of foreign students within OECD has grown quickly over the past decades and years (by 54% between 2000 and 2006)</a:t>
            </a: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73cf"/>
                </a:solidFill>
                <a:latin typeface="Georgia"/>
              </a:rPr>
              <a:t>Two thirds of foreign students within the OECD area come from non-OECD countries</a:t>
            </a: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73c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73cf"/>
                </a:solidFill>
                <a:latin typeface="Georgia"/>
              </a:rPr>
              <a:t>Some of these foreign students are not mobile students (but the bulk of them are mobile)</a:t>
            </a: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73c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Growth in the number of foreign students within the OECD  (2000-2006, 2000=100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5" name="Content Placeholder 3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8893080" cy="471024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Number of foreign students in OECD countries (2006)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163800" y="6473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"/>
          <p:cNvSpPr/>
          <p:nvPr/>
        </p:nvSpPr>
        <p:spPr>
          <a:xfrm flipV="1">
            <a:off x="2124000" y="1844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1313640" y="172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9"/>
          <p:cNvSpPr/>
          <p:nvPr/>
        </p:nvSpPr>
        <p:spPr>
          <a:xfrm flipV="1">
            <a:off x="8786880" y="19288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8288280" y="1571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2000160" y="135720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high concentration on few host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Percentage of foreign students in total tertiary enrolments in OECD countries (2006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15" name="Content Placeholder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21844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2:44:24Z</dcterms:created>
  <dc:creator>Vincent-Lancrin_S</dc:creator>
  <dc:description/>
  <dc:language>en-US</dc:language>
  <cp:lastModifiedBy>Vincent-Lancrin_S</cp:lastModifiedBy>
  <dcterms:modified xsi:type="dcterms:W3CDTF">2008-12-01T08:53:52Z</dcterms:modified>
  <cp:revision>57</cp:revision>
  <dc:subject/>
  <dc:title>Trends and policy instruments in cross-border higher education</dc:title>
</cp:coreProperties>
</file>