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052E8-B890-4013-8B4B-35CEFA0F7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4A07A-DD0C-4200-90A8-2B2113FF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0DB0F-78B6-485A-B65F-53EE7CE14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C6FD4-048F-4162-A3D8-E0BC32A65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A8395-29FF-4B0A-9274-C06AE3CA3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996B2-6B89-4CEE-8D07-299513E60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C37F9-AC67-41F3-93BE-4BC493E6B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6FB4F-6727-4EC4-B5D6-BC08AE35F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469A5-2CF7-4F40-BDDA-C4859CB2D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A8686-B770-4343-9004-F1A4D8BBE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CCB96-0DED-4A21-93C5-98E6D6B06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84B1-8A8F-415D-846C-A2AB9BA6E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2746E-F2BC-4103-B4DD-D642D629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831EB-BE62-4A72-BCC7-D783BAF0F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2AD12-ED88-4DEF-B468-B4B8E3755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70491-21D2-4EE1-B4DE-4A6C93C43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57E2-75AB-4A69-9D49-600B4F90A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05065-D9BB-4DC8-9B8E-64732EBF8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D1284-3270-41BA-A0F5-861B6599C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84F4-CEBB-4A5E-AB19-268941F89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6018E-9C1F-401C-BE68-DE62DA284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9273-713D-4D12-BD98-4BFF472F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C5713-14CF-4DAE-8289-D601DEA1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09F13-63C0-45DA-8A24-4983FDCA5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7346-EA6A-4FCA-AC99-BBEEE2A8871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078E-4E8F-4482-A5BA-3C1C4FCBEE9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1752120"/>
            <a:ext cx="78487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ea typeface="Tahoma"/>
              </a:rPr>
              <a:t>International guidelines: </a:t>
            </a:r>
            <a:br>
              <a:rPr sz="3200"/>
            </a:br>
            <a:r>
              <a:rPr b="1" lang="en-US" sz="3200" spc="-1" strike="noStrike">
                <a:solidFill>
                  <a:srgbClr val="333399"/>
                </a:solidFill>
                <a:latin typeface="Tahoma"/>
                <a:ea typeface="Tahoma"/>
              </a:rPr>
              <a:t>Similarities and Criticisms</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600200" y="5105160"/>
            <a:ext cx="7238880" cy="11430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Dr. Antony Stella, Audit Director</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ustralian Universities Quality Agency</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mp; APQN Board Member</a:t>
            </a:r>
            <a:endParaRPr b="0" lang="en-US" sz="2800" spc="-1" strike="noStrike">
              <a:solidFill>
                <a:srgbClr val="000000"/>
              </a:solidFill>
              <a:latin typeface="Tahoma"/>
            </a:endParaRPr>
          </a:p>
        </p:txBody>
      </p:sp>
      <p:sp>
        <p:nvSpPr>
          <p:cNvPr id="4" name="PlaceHolder 3"/>
          <p:cNvSpPr>
            <a:spLocks noGrp="1"/>
          </p:cNvSpPr>
          <p:nvPr>
            <p:ph type="sldNum" idx="6"/>
          </p:nvPr>
        </p:nvSpPr>
        <p:spPr/>
        <p:txBody>
          <a:bodyPr/>
          <a:p>
            <a:fld id="{990EF1BB-6116-4137-8384-7CBBDF2A00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5. Role of HEIs</a:t>
            </a:r>
            <a:endParaRPr b="0" lang="en-US" sz="3000" spc="-1" strike="noStrike">
              <a:solidFill>
                <a:srgbClr val="333399"/>
              </a:solidFill>
              <a:latin typeface="Tahoma"/>
            </a:endParaRPr>
          </a:p>
        </p:txBody>
      </p:sp>
      <p:sp>
        <p:nvSpPr>
          <p:cNvPr id="118" name="PlaceHolder 2"/>
          <p:cNvSpPr>
            <a:spLocks noGrp="1"/>
          </p:cNvSpPr>
          <p:nvPr>
            <p:ph/>
          </p:nvPr>
        </p:nvSpPr>
        <p:spPr>
          <a:xfrm>
            <a:off x="609480" y="2017800"/>
            <a:ext cx="8345520" cy="4535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especting the autonomy, identity and integrity of HEIs.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pplying standards, which have been subject to consultation with stakeholders and contributing to both quality improvement and accountability.</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1 Use of internal QA procedures</a:t>
            </a:r>
            <a:endParaRPr b="0" lang="en-US" sz="2800" spc="-1" strike="noStrike">
              <a:solidFill>
                <a:srgbClr val="000000"/>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2 Development of external quality assurance processes: </a:t>
            </a:r>
            <a:r>
              <a:rPr b="0" lang="en-AU" sz="2800" spc="-1" strike="noStrike">
                <a:solidFill>
                  <a:srgbClr val="000000"/>
                </a:solidFill>
                <a:latin typeface="Tahoma"/>
              </a:rPr>
              <a:t>The aims ….be determined…by all those responsible (including higher education institution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45F32AB-C6CB-4E0D-A5FB-5CB2EE33CC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6.  </a:t>
            </a:r>
            <a:r>
              <a:rPr b="1" lang="en-AU" sz="3000" spc="-1" strike="noStrike">
                <a:solidFill>
                  <a:srgbClr val="333399"/>
                </a:solidFill>
                <a:latin typeface="Tahoma"/>
              </a:rPr>
              <a:t>Documenting Requirements </a:t>
            </a:r>
            <a:endParaRPr b="0" lang="en-US" sz="3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ocumenting clearly what the agency expects of the institutio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2 Development of external quality assurance processes: </a:t>
            </a:r>
            <a:r>
              <a:rPr b="0" lang="en-AU" sz="2800" spc="-1" strike="noStrike">
                <a:solidFill>
                  <a:srgbClr val="000000"/>
                </a:solidFill>
                <a:latin typeface="Tahoma"/>
              </a:rPr>
              <a:t>….and should be published with a description of the procedures to be use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7 Periodic reviews: </a:t>
            </a:r>
            <a:r>
              <a:rPr b="0" lang="en-AU" sz="2800" spc="-1" strike="noStrike">
                <a:solidFill>
                  <a:srgbClr val="000000"/>
                </a:solidFill>
                <a:latin typeface="Tahoma"/>
              </a:rPr>
              <a:t>….the review procedures to be used should be clearly defined and published in advance.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D290325-F84F-4D6F-973B-30D56E8B4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33399"/>
                </a:solidFill>
                <a:latin typeface="Tahoma"/>
              </a:rPr>
              <a:t>7. Requirements for self evaluation</a:t>
            </a:r>
            <a:endParaRPr b="0" lang="en-US" sz="3000" spc="-1" strike="noStrike">
              <a:solidFill>
                <a:srgbClr val="333399"/>
              </a:solidFill>
              <a:latin typeface="Tahoma"/>
            </a:endParaRPr>
          </a:p>
        </p:txBody>
      </p:sp>
      <p:sp>
        <p:nvSpPr>
          <p:cNvPr id="122"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ocumenting clearly guidelines for the self evaluation proces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1 Use of internal quality assurance procedu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2 Development of external quality assurance processes: </a:t>
            </a:r>
            <a:r>
              <a:rPr b="0" lang="en-AU" sz="2800" spc="-1" strike="noStrike">
                <a:solidFill>
                  <a:srgbClr val="000000"/>
                </a:solidFill>
                <a:latin typeface="Tahoma"/>
              </a:rPr>
              <a:t>The aims and objectives of quality assurance processes should be determined before the processes themselves are developed, …and should be published with a description of the procedures to be us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07B5036-6F1D-44FC-A347-A8A411A43F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8. Evaluation Process</a:t>
            </a:r>
            <a:endParaRPr b="0" lang="en-US" sz="3000" spc="-1" strike="noStrike">
              <a:solidFill>
                <a:srgbClr val="333399"/>
              </a:solidFill>
              <a:latin typeface="Tahoma"/>
            </a:endParaRPr>
          </a:p>
        </p:txBody>
      </p:sp>
      <p:sp>
        <p:nvSpPr>
          <p:cNvPr id="124" name="PlaceHolder 2"/>
          <p:cNvSpPr>
            <a:spLocks noGrp="1"/>
          </p:cNvSpPr>
          <p:nvPr>
            <p:ph/>
          </p:nvPr>
        </p:nvSpPr>
        <p:spPr>
          <a:xfrm>
            <a:off x="609480" y="2017800"/>
            <a:ext cx="834552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nstituting review committees in accordance with the guidelines of the agency, and including at least one external reviewer from another country or jurisdiction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3.7 External QA criteria and processes used by the agencies …</a:t>
            </a:r>
            <a:r>
              <a:rPr b="0" lang="en-AU" sz="2800" spc="-1" strike="noStrike">
                <a:solidFill>
                  <a:srgbClr val="000000"/>
                </a:solidFill>
                <a:latin typeface="Tahoma"/>
              </a:rPr>
              <a:t>pre-defined and publicly available…include self-assessment, external assessment by experts, and site visits…publication of a report, and a follow-up procedur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F53C6D6-7607-4B17-8688-525A15F426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9. Decisions</a:t>
            </a:r>
            <a:endParaRPr b="0" lang="en-US" sz="3000" spc="-1" strike="noStrike">
              <a:solidFill>
                <a:srgbClr val="333399"/>
              </a:solidFill>
              <a:latin typeface="Tahoma"/>
            </a:endParaRPr>
          </a:p>
        </p:txBody>
      </p:sp>
      <p:sp>
        <p:nvSpPr>
          <p:cNvPr id="126"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vincing independent, impartial, rigorous, thorough, fair and consistent decision-making, and making consistent decisions.</a:t>
            </a:r>
            <a:endParaRPr b="0" lang="en-US" sz="2800" spc="-1" strike="noStrike">
              <a:solidFill>
                <a:srgbClr val="000000"/>
              </a:solidFill>
              <a:latin typeface="Tahom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2.3 Criteria for decisions: </a:t>
            </a:r>
            <a:r>
              <a:rPr b="0" lang="en-AU" sz="2800" spc="-1" strike="noStrike">
                <a:solidFill>
                  <a:srgbClr val="000000"/>
                </a:solidFill>
                <a:latin typeface="Tahoma"/>
              </a:rPr>
              <a:t>Any formal decisions made as a result of an external quality assurance activity should be based on explicit published criteria that are applied consistently.</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3.6 Independence: </a:t>
            </a:r>
            <a:r>
              <a:rPr b="0" lang="en-AU" sz="2800" spc="-1" strike="noStrike">
                <a:solidFill>
                  <a:srgbClr val="000000"/>
                </a:solidFill>
                <a:latin typeface="Tahoma"/>
              </a:rPr>
              <a:t>…that the conclusions and recommendations made in their reports cannot be influenced by third partie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CCBEDB9-55C5-440A-8D0D-8C913FDC5D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10. Appeals</a:t>
            </a:r>
            <a:endParaRPr b="0" lang="en-US" sz="30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oviding an appropriate method for appeals against its decisions</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0" lang="en-AU" sz="2800" spc="-1" strike="noStrike">
                <a:solidFill>
                  <a:srgbClr val="000000"/>
                </a:solidFill>
                <a:latin typeface="Tahoma"/>
              </a:rPr>
              <a:t>3.7 …conclusions which have formal consequences should have an appeals procedur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FC96512-2F78-4046-871C-5150148608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11. Collaboration</a:t>
            </a:r>
            <a:endParaRPr b="0" lang="en-US" sz="30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ng with other agenc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hange of good practi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acity develo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t proj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 exchange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748289F-7E60-4EEC-9074-777D86C5D5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12. CBHE</a:t>
            </a:r>
            <a:endParaRPr b="0" lang="en-US" sz="30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stablishing policies relating to both imported and exported higher education that are the same as those for domestic providers and domestic provis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nsidering relevant guidelines issued by international agencies and other associations on CBH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nsulting appropriate local agencies in the exporting or importing countries, where possible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F41C1E-DF68-486B-86A8-5AEBA8BB4A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6170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GGPs 11 &amp; 12 and UNESCO-OECD Guidelines </a:t>
            </a:r>
            <a:endParaRPr b="0" lang="en-US" sz="28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BHE in all modes in the scope of QA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trengthening the network initiatives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llaboration between sending and receiving countries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dissemination</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dherence to ‘Code of Good Practice’</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mutual recognition agreements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operation with other stakeholder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nternational orientation of the QA processes </a:t>
            </a:r>
            <a:endParaRPr b="0" lang="en-US" sz="2800" spc="-1" strike="noStrike">
              <a:solidFill>
                <a:srgbClr val="000000"/>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DAEB3AB-2C9C-4387-867B-928BF29EF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Commonalities…</a:t>
            </a:r>
            <a:endParaRPr b="0" lang="en-US" sz="30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nspire good practic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ovide common denominators of good practi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im to promote mutual trus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spire to improve transparency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pplicable to all QA agencie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rrespective of their structure, function and siz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he national system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ll stages of developmen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D70323A-F240-4EF0-90FD-F324B9FBEB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International Guidelines…</a:t>
            </a:r>
            <a:endParaRPr b="0" lang="en-US" sz="30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tion in context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uralities in interpretation</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come: diversities in implementation</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we build on commonalities?</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and how?</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understand… </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learn from each other…</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sharing good practices and lessons lear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5D30A37-9F5C-4EB0-B4AD-A0CC1A10E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Commonalities…</a:t>
            </a:r>
            <a:endParaRPr b="0" lang="en-US" sz="3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ecognise diversi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ecognise the primacy of national system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entral place to institutional autonom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QA is the responsibility of HE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cknowledge that QA is a generic te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o not include detailed procedu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ovide only example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F5183FC-0EB5-4C2B-A755-44B596246C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Emphases on…</a:t>
            </a:r>
            <a:endParaRPr b="0" lang="en-US" sz="30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arity in aims, processes, procedures</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be determined in advance</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consultation with the sector</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ublicly available</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ansparency, consistency</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bjectivity, independence</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cumenting and report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4570E14-6127-4B86-B6B2-A4FF14535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Criticisms…</a:t>
            </a:r>
            <a:endParaRPr b="0" lang="en-US" sz="3000" spc="-1" strike="noStrike">
              <a:solidFill>
                <a:srgbClr val="333399"/>
              </a:solidFill>
              <a:latin typeface="Tahoma"/>
            </a:endParaRPr>
          </a:p>
        </p:txBody>
      </p:sp>
      <p:sp>
        <p:nvSpPr>
          <p:cNvPr id="142" name="PlaceHolder 2"/>
          <p:cNvSpPr>
            <a:spLocks noGrp="1"/>
          </p:cNvSpPr>
          <p:nvPr>
            <p:ph/>
          </p:nvPr>
        </p:nvSpPr>
        <p:spPr>
          <a:xfrm>
            <a:off x="380520" y="2017800"/>
            <a:ext cx="8574120" cy="4611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ressed at extremely high levels of generalit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o not provide specific tools to take ac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o broad and ambitious (not realistic) to help practitioners convince the government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o not adequately empower the policy makers to implement good practice in the sector</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n the long run might lead ‘trade language’ to creep into academic discussion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rst steps to regul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wards a compliance culture? (eg link with EQ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5E40C35-972A-4C70-9975-7CDCD8C176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Criticisms</a:t>
            </a:r>
            <a:endParaRPr b="0" lang="en-US" sz="3000" spc="-1" strike="noStrike">
              <a:solidFill>
                <a:srgbClr val="333399"/>
              </a:solidFill>
              <a:latin typeface="Tahoma"/>
            </a:endParaRPr>
          </a:p>
        </p:txBody>
      </p:sp>
      <p:sp>
        <p:nvSpPr>
          <p:cNvPr id="144" name="PlaceHolder 2"/>
          <p:cNvSpPr>
            <a:spLocks noGrp="1"/>
          </p:cNvSpPr>
          <p:nvPr>
            <p:ph/>
          </p:nvPr>
        </p:nvSpPr>
        <p:spPr>
          <a:xfrm>
            <a:off x="533160" y="2017440"/>
            <a:ext cx="8421480" cy="4840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ome comments are from non-supporters of QA and they question the central role to QA agenci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ack of understanding of the spirit and consequent counter question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Networking and cooperation – who will bear the cos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riation in definition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terms are not understood (eg joint assessment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ome problems are not specific to Q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are philosophical question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29974D5-B23E-470E-B112-69EEC391B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Big Questions?</a:t>
            </a:r>
            <a:endParaRPr b="0" lang="en-US" sz="30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understanding of the purposes of the international guidelines? (provide broad principles vs specific tool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ve those purposes been achieved?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gaps? (eg stakeholder involvement, mutual understand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next stag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BE8FC4F-4D9F-427C-B267-C237E01CB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Book Antiqua"/>
              </a:rPr>
              <a:t>Thank You</a:t>
            </a:r>
            <a:endParaRPr b="0" lang="en-US" sz="4800" spc="-1" strike="noStrike">
              <a:solidFill>
                <a:srgbClr val="333399"/>
              </a:solidFill>
              <a:latin typeface="Tahoma"/>
            </a:endParaRPr>
          </a:p>
        </p:txBody>
      </p:sp>
      <p:sp>
        <p:nvSpPr>
          <p:cNvPr id="3" name="PlaceHolder 2"/>
          <p:cNvSpPr>
            <a:spLocks noGrp="1"/>
          </p:cNvSpPr>
          <p:nvPr>
            <p:ph type="sldNum" idx="6"/>
          </p:nvPr>
        </p:nvSpPr>
        <p:spPr/>
        <p:txBody>
          <a:bodyPr/>
          <a:p>
            <a:fld id="{99B8883E-3E54-43BF-B1B8-E36D73CE83E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International Guidelines…</a:t>
            </a:r>
            <a:endParaRPr b="0" lang="en-US" sz="3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chmarking project between ACQUIN (Accreditation, Certification and Quality Assurance Institute), AUQA (Australian Universities Quality Agency) and HETAC (Higher Education and Training Awards Council) – INQAAHE GGP &amp; ESG 2006-07</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ping of three QA agencies – QAA (UK), NZUAAU, AUQA – INQAAHE GGP - 2008</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A4F09E1-6ACC-40A5-94D3-5BF9A6A817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Purposes of the project…</a:t>
            </a:r>
            <a:endParaRPr b="0" lang="en-US" sz="3000" spc="-1" strike="noStrike">
              <a:solidFill>
                <a:srgbClr val="333399"/>
              </a:solidFill>
              <a:latin typeface="Tahoma"/>
            </a:endParaRPr>
          </a:p>
        </p:txBody>
      </p:sp>
      <p:sp>
        <p:nvSpPr>
          <p:cNvPr id="106"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 opportunity to share experience and learn from each other</a:t>
            </a:r>
            <a:endParaRPr b="0" lang="en-US" sz="2800" spc="-1" strike="noStrike">
              <a:solidFill>
                <a:srgbClr val="000000"/>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ransnational guidelines such as ESG and GGP of INQAAHE offered a framework within which such experiences could be shared. </a:t>
            </a:r>
            <a:endParaRPr b="0" lang="en-US" sz="2800" spc="-1" strike="noStrike">
              <a:solidFill>
                <a:srgbClr val="000000"/>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While the national systems, organisational contexts and operational environments are different for ACQUIN, AUQA and HETAC, it is possible to identify some common strands in the conduct of their own self-reviews and the external evaluations. </a:t>
            </a:r>
            <a:endParaRPr b="0" lang="en-US" sz="2800" spc="-1" strike="noStrike">
              <a:solidFill>
                <a:srgbClr val="000000"/>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C2DB56-D43E-4201-93C2-50F47302B0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609120"/>
            <a:ext cx="7419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1. Governance – INQAAHE GGP</a:t>
            </a:r>
            <a:endParaRPr b="0" lang="en-US" sz="3000" spc="-1" strike="noStrike">
              <a:solidFill>
                <a:srgbClr val="333399"/>
              </a:solidFill>
              <a:latin typeface="Tahoma"/>
            </a:endParaRPr>
          </a:p>
        </p:txBody>
      </p:sp>
      <p:sp>
        <p:nvSpPr>
          <p:cNvPr id="108"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larity in objectiv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ystematic approach to achieving th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Ownership and governance structure appropriate for the objectiv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BF8EEBD-729B-46DB-B369-F502432918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17400"/>
            <a:ext cx="757224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Governance - ESG</a:t>
            </a:r>
            <a:endParaRPr b="0" lang="en-US" sz="3000" spc="-1" strike="noStrike">
              <a:solidFill>
                <a:srgbClr val="333399"/>
              </a:solidFill>
              <a:latin typeface="Tahoma"/>
            </a:endParaRPr>
          </a:p>
        </p:txBody>
      </p:sp>
      <p:sp>
        <p:nvSpPr>
          <p:cNvPr id="110" name="PlaceHolder 2"/>
          <p:cNvSpPr>
            <a:spLocks noGrp="1"/>
          </p:cNvSpPr>
          <p:nvPr>
            <p:ph/>
          </p:nvPr>
        </p:nvSpPr>
        <p:spPr>
          <a:xfrm>
            <a:off x="456840" y="2209320"/>
            <a:ext cx="8497800" cy="3922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2.2 Development of external QA processes…aims and objectives of QA should be predetermined </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2.4 Processes fit for purpose </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3.2 Official status: Formal recognition as agencies with responsibilities for external quality assurance </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3.3 Activities: Agencies should undertake external quality assurance activities on a regular basis.</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3.5 Mission statement: clear and explicit goals and objectives contained in a publicly available statement</a:t>
            </a:r>
            <a:endParaRPr b="0" lang="en-US" sz="2800" spc="-1" strike="noStrike">
              <a:solidFill>
                <a:srgbClr val="000000"/>
              </a:solidFill>
              <a:latin typeface="Tahoma"/>
            </a:endParaRPr>
          </a:p>
          <a:p>
            <a:pPr lvl="1" marL="705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D28F269-E584-47B1-BF11-CAF4E2C55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rPr>
              <a:t>2. Resources</a:t>
            </a:r>
            <a:endParaRPr b="0" lang="en-US" sz="30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equate human and financial resourc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4 of ES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A4BAC79-8855-49F4-B008-8B01DD32B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99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ahoma"/>
                <a:ea typeface="Tahoma"/>
              </a:rPr>
              <a:t>3. Quality of QA</a:t>
            </a:r>
            <a:endParaRPr b="0" lang="en-US" sz="3000" spc="-1" strike="noStrike">
              <a:solidFill>
                <a:srgbClr val="333399"/>
              </a:solidFill>
              <a:latin typeface="Tahoma"/>
            </a:endParaRPr>
          </a:p>
        </p:txBody>
      </p:sp>
      <p:sp>
        <p:nvSpPr>
          <p:cNvPr id="114"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Ensuring continuous quality assurance of the activities of the agency itself through internal self review and external reviews at regular intervals </a:t>
            </a:r>
            <a:endParaRPr b="0" lang="en-US" sz="3200" spc="-1" strike="noStrike">
              <a:solidFill>
                <a:srgbClr val="000000"/>
              </a:solidFill>
              <a:latin typeface="Tahoma"/>
            </a:endParaRPr>
          </a:p>
          <a:p>
            <a:pPr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7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3.8 Accountability procedur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60D4C2D-DF24-4B3C-9D34-FEEDF7528D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333399"/>
                </a:solidFill>
                <a:latin typeface="Tahoma"/>
              </a:rPr>
              <a:t>4. Reporting public information</a:t>
            </a:r>
            <a:endParaRPr b="0" lang="en-US" sz="3000" spc="-1" strike="noStrike">
              <a:solidFill>
                <a:srgbClr val="333399"/>
              </a:solidFill>
              <a:latin typeface="Tahoma"/>
            </a:endParaRPr>
          </a:p>
        </p:txBody>
      </p:sp>
      <p:sp>
        <p:nvSpPr>
          <p:cNvPr id="116" name="PlaceHolder 2"/>
          <p:cNvSpPr>
            <a:spLocks noGrp="1"/>
          </p:cNvSpPr>
          <p:nvPr>
            <p:ph/>
          </p:nvPr>
        </p:nvSpPr>
        <p:spPr>
          <a:xfrm>
            <a:off x="837720" y="2017440"/>
            <a:ext cx="8116920" cy="4840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nforming and responding to the public; demonstrating public accountability by reporting openly on review decisions; and reporting on its own performance.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	</a:t>
            </a:r>
            <a:r>
              <a:rPr b="1" lang="en-AU" sz="2800" spc="-1" strike="noStrike">
                <a:solidFill>
                  <a:srgbClr val="000000"/>
                </a:solidFill>
                <a:latin typeface="Tahoma"/>
              </a:rPr>
              <a:t>3.7 External quality assurance criteria and processes used by the agencies: </a:t>
            </a:r>
            <a:r>
              <a:rPr b="0" lang="en-AU" sz="2800" spc="-1" strike="noStrike">
                <a:solidFill>
                  <a:srgbClr val="000000"/>
                </a:solidFill>
                <a:latin typeface="Tahoma"/>
              </a:rPr>
              <a:t>… These processes will normally be expected to include:…publication of a report, including any decisions, recommendations or other formal outcom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3FB2E8-D57A-4C5F-997B-33060BA0F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2T08:35:10Z</dcterms:created>
  <dc:creator>Ananth. M</dc:creator>
  <dc:description/>
  <dc:language>en-US</dc:language>
  <cp:lastModifiedBy>c.campbell</cp:lastModifiedBy>
  <dcterms:modified xsi:type="dcterms:W3CDTF">2008-12-02T08:46:31Z</dcterms:modified>
  <cp:revision>49</cp:revision>
  <dc:subject/>
  <dc:title>Quality Assurance Frameworks for Traditional Providers in Higher Education in the Asia-Pacific Region</dc:title>
</cp:coreProperties>
</file>