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4524-D12A-4BA5-A525-D7C4AEF61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F650-2953-48F5-A505-C53FF9F12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0FBC-21AD-4FFF-BFFF-E3B0F8CB3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0651-8F93-4C0E-B3C8-A46C9FF79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726B6-E42D-4AC8-83DD-F776A6C72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E62E9-72A0-403E-8525-D3DC96B1C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0716F-EF06-487E-BC4F-7B13D8DD2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2BA5C-1A84-4E37-8064-A38CDF52A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5B55A-377F-47AC-A94C-752C181D5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990720" y="18284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3230F-A6B6-43DB-BF3B-16644ECD1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1A2E7-5F4F-4A23-9EF1-902398B77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2CC0-61CC-40FD-8622-FA42C5991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4601A-446F-43ED-B014-3DC7654CE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DACAA-4AFB-4317-91FA-A2C2384DA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571F3-B38A-448E-B323-68D859BE1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7633D-1486-4023-A423-EC78FA836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7933D-5EF0-4D16-857E-11084B42C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71B9-D9FD-441A-B9FC-6552603CE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5255-9902-44A6-AACD-B7FBBD0D7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C44E-28DB-46D2-A8C6-5D95E5A4D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90720" y="18284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BE0F-3146-4FE1-BE0F-4C884B3FA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D43F-4E38-4F7E-9206-AE6CC3C91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D570-F1A9-4DF2-81CA-0811779BB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B4AA-A918-4FE2-8A17-B4962D6DE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0718A-8EA7-4EF0-862F-F5961E65094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300F8-3A49-4DF3-8F05-7B042B5D8B0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95280" y="17521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  <a:ea typeface="Tahoma"/>
              </a:rPr>
              <a:t>TNE in the Asia-Pacific and the Impact of UNESCO-OECD Guidelin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00200" y="51051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Dr. Antony Stella, Audit Direc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Australian Universities Quality Ag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&amp; APQN Board Me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3172C-C36C-446E-94DA-EEC861B1B66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333399"/>
                </a:solidFill>
                <a:latin typeface="Tahoma"/>
              </a:rPr>
              <a:t>TNE in Asia-Pacific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Increasing volume of T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hanging ration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EE0A-8BF8-4226-B9C4-F71356CD558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333399"/>
                </a:solidFill>
                <a:latin typeface="Tahoma"/>
              </a:rPr>
              <a:t>Changing rationale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e9650"/>
                </a:solidFill>
                <a:latin typeface="Tahoma"/>
              </a:rPr>
              <a:t>Aid and scholarship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e9650"/>
                </a:solidFill>
                <a:latin typeface="Tahoma"/>
              </a:rPr>
              <a:t>Capacity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e9650"/>
                </a:solidFill>
                <a:latin typeface="Tahoma"/>
              </a:rPr>
              <a:t>Mutual understa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ahoma"/>
              </a:rPr>
              <a:t>Using spare capa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ahoma"/>
              </a:rPr>
              <a:t>Full cost recov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ahoma"/>
              </a:rPr>
              <a:t>Revenue gener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D427-AC6D-4F2A-B361-E693D171911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ahoma"/>
              </a:rPr>
              <a:t>Views on TNE…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2017800"/>
            <a:ext cx="826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ahoma"/>
              </a:rPr>
              <a:t>View 1: TNE should be promoted in all forms – profit or no-profit - for academic reason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ahoma"/>
              </a:rPr>
              <a:t>View 2: TNE is a disadvantage to developing countries and should be strictly regulat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ahoma"/>
              </a:rPr>
              <a:t>View 3: Trade in TNE is assuming a significant dimension. A facilitative framework that will promote good trade in TNE is essentia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7270-FFF9-4F83-9258-DE3CC6A8A7A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ahoma"/>
              </a:rPr>
              <a:t>Disadvantages…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Lack of capacity of the developing countri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to participate effectively in the global trad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Economic and revenue-generation rationales of CB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threat to national sovereignty and cultur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uni-directional flow of CBE activ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detrimental to the developmental strategi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D2B2-A4E1-498B-910C-74924F9EB3F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ahoma"/>
              </a:rPr>
              <a:t>In summary…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vide between exporting and importing count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formation gaps and mistrust in Q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QN is making a difference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mbers expressed interest in good practices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ESCO-OECD Guidelines facilitated that discu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721B-C65B-46F5-A9C6-636C800B71C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ahoma"/>
              </a:rPr>
              <a:t>Why UNESCO-OECD Guidelines?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480" y="2017800"/>
            <a:ext cx="8345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CBHE in all modes in the scope of Q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strengthening the network initiativ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information dissemin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adherence to ‘Code of Good Practice’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mutual recognition agreem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cooperation with other stakehold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international orientation of the QA process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Underlying principle:  promote mutual trust, dialogue, sharing of responsibilities, and cooperation among all stakehold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D867-4215-4D43-8377-7357D0A4359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ahoma"/>
              </a:rPr>
              <a:t>APQN Actions…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orkshop for memb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ol-Kit in two stages with UNESCO-Bangko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ine Course with IIE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source material translation – Chine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llow-up through the Secretari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606F-3ED5-4395-BADA-41DF65D922F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ahoma"/>
              </a:rPr>
              <a:t>UNESCO-OECD Guidelines…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ahoma"/>
              </a:rPr>
              <a:t>Awarenes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Most are familiar with the Guideli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Majority through conferences of APQN, INQAAHE and UNESC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ahoma"/>
              </a:rPr>
              <a:t>Imple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various initiatives – diversity in interpretation and approach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Some areas need a lot more at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4257-9065-40A1-9DAB-2DA2ED75B70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ahoma"/>
              </a:rPr>
              <a:t>Actions taken by members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included the Guidelines in the official web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distributed the Guidelines as e-docu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translated the Guidelines into the local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printed brochures and distributed to appropriate aud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informed the stakeholders through other national initiativ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used other conferences as platforms for discu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A4B8-EA99-4950-AD32-1DC6EC3B495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ahoma"/>
              </a:rPr>
              <a:t>Alignment …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International dimension in Q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membership in the governing bod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membership in advisory bod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membership in the review pa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involvement in the development of procedures and guidelines for Q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participation in meetings and worksh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regular/formal information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staff trai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F2C0-A087-44F7-811D-456566D965E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19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ahoma"/>
              </a:rPr>
              <a:t>The Landscape…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1240" y="2017800"/>
            <a:ext cx="758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ltural, linguistic, social, political and economic plura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growing econom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ing attention to HE and its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ing regional co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5354-65AA-4A30-A8B3-50FA822272F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ahoma"/>
              </a:rPr>
              <a:t>Alignment…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017800"/>
            <a:ext cx="826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review of procedures by another peer QA ag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participation in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bilateral comparative analysis of QA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review against the Guidelines for Good Practices of INQAAH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benchmarking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mal and informal link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E8B4-4F01-4C01-B1D3-1B6D54C7851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ahoma"/>
              </a:rPr>
              <a:t>Relevance…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positive attitud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support for the Guideli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found the Guidelines relevant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some good practic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requires more attention to capacity building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requires more support for implementing the Guidelin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BCC0-55A0-4C05-B93E-9865A59D86F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ahoma"/>
              </a:rPr>
              <a:t>Future Directions…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Guidelines need not be revised at this st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encourage imple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compile practical information on good practi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compile possible pitfalls in CBHE/T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provide information on QA procedures in other langu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D7CD-D6D8-4544-994E-E280D05AF22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99"/>
                </a:solidFill>
                <a:latin typeface="Book Antiqua"/>
              </a:rPr>
              <a:t>Thank You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00400-D0BD-412D-9722-DACE46FACFB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9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ahoma"/>
                <a:ea typeface="Tahoma"/>
              </a:rPr>
              <a:t>Regional Initiatives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79320" indent="-5792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APQ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79320" indent="-5792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ASE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79320" indent="-5792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A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79320" indent="-5792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AU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79320" indent="-5792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SEAM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79320" indent="-5792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UNESC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79320" indent="-5792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UMAP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30B4-194E-4AB3-BC85-040DE029514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ahoma"/>
              </a:rPr>
              <a:t>Asia Pacific Quality Network (APQN)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Membership as at 30 November 2008: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24 Full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9 Intermediate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5 Associate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21 Institutional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7 Obser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Formally established in 2004 – Meet every year – World Bank DGF for 2005-2007 – GIQAC funding in 2008 - www.apqn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E407-1D80-4401-A9BC-FDA74117AB8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ahoma"/>
              </a:rPr>
              <a:t>Mission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nhance the quality of higher education in Asia and the Pacific region through strengthening the work of quality assurance agencies and extending the cooperation between them.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B972-A9B0-4BD1-9ED1-9BC125FDB03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333399"/>
                </a:solidFill>
                <a:latin typeface="Tahoma"/>
              </a:rPr>
              <a:t>The Purposes of APQN…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ahoma"/>
              </a:rPr>
              <a:t>to promote good practice in Q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ahoma"/>
              </a:rPr>
              <a:t>to facilitate research in the region into the practice of quality management 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ahoma"/>
              </a:rPr>
              <a:t>to provide advice and expertise to assist the development of new QA ag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ahoma"/>
              </a:rPr>
              <a:t>to facilitate links between quality assurance agencies and acceptance of each others’ decisions and judg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ahoma"/>
              </a:rPr>
              <a:t>to assist members of APQN to determine standards of institutions operating across national bord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CF32-FF23-47B5-8B6A-D725DFCBF83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ahoma"/>
              </a:rPr>
              <a:t>APQN…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2017800"/>
            <a:ext cx="8650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ahoma"/>
              </a:rPr>
              <a:t>to permit better-informed international recognition of qualifications throughout the reg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ahoma"/>
              </a:rPr>
              <a:t>to assist in the development and use of credit transfer schemes to enhance the mobility of students between institutions both within and across national bord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ahoma"/>
              </a:rPr>
              <a:t>to enable members of APQN to be alert to dubious accrediting practices and organis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ahoma"/>
              </a:rPr>
              <a:t>where appropriate, represent the region and promote the interests of the region, e.g. vis-à-vis other networks and international organis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ECBA-39BF-41DA-8CEC-819B54318BE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ahoma"/>
              </a:rPr>
              <a:t>QA Developments in Asia Pacific…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Survey of APQN members in Kula Lumpur, 200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Survey of APEC Economies, 200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UNESCO report on the implementation of the Guidelines, 2007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Survey of the Brisbane Communiqué invitees – 2007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APQN conference in Tokyo - 2008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9872-F1F8-48C7-8168-7E6991AAFA2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600" y="617400"/>
            <a:ext cx="757224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ahoma"/>
              </a:rPr>
              <a:t>QA in Asia-Pacific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49780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lvl="1" marL="660960" indent="-25416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two-thirds of QA agencies are recent initiativ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uneven development in the national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on-going changes in fairly stabilized QA system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regional co-operation in QA is str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9650"/>
                </a:solidFill>
                <a:latin typeface="Tahoma"/>
                <a:ea typeface="Tahoma"/>
              </a:rPr>
              <a:t>information exchange among QA agenci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9650"/>
                </a:solidFill>
                <a:latin typeface="Tahoma"/>
                <a:ea typeface="Tahoma"/>
              </a:rPr>
              <a:t>dialogue on issues of common inter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9650"/>
                </a:solidFill>
                <a:latin typeface="Tahoma"/>
                <a:ea typeface="Tahoma"/>
              </a:rPr>
              <a:t>mutual trust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9650"/>
                </a:solidFill>
                <a:latin typeface="Tahoma"/>
                <a:ea typeface="Tahoma"/>
              </a:rPr>
              <a:t>co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QA of TNE is still not adequately co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ahoma"/>
              </a:rPr>
              <a:t>ministries have a regulatory rol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ahoma"/>
              </a:rPr>
              <a:t>national policy frameworks var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5E14-67BD-4AE3-8FDD-0143D08B14B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2T08:35:10Z</dcterms:created>
  <dc:creator>Ananth. M</dc:creator>
  <dc:description/>
  <dc:language>en-US</dc:language>
  <cp:lastModifiedBy>c.campbell</cp:lastModifiedBy>
  <dcterms:modified xsi:type="dcterms:W3CDTF">2008-12-01T08:56:33Z</dcterms:modified>
  <cp:revision>48</cp:revision>
  <dc:subject/>
  <dc:title>Quality Assurance Frameworks for Traditional Providers in Higher Education in the Asia-Pacific Region</dc:title>
</cp:coreProperties>
</file>