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wmf" ContentType="image/x-wmf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0.jpeg" ContentType="image/jpeg"/>
  <Override PartName="/ppt/media/image2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19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2994-452F-40F0-A452-E507A843B7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211A-2352-426D-A00E-7A9DDDD831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407B-E188-473E-839B-6A9DDBBF94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38D1-7520-476E-A489-37498F4D02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8615-5C95-4D1E-BB63-ABDC076AE5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981-7728-4516-A864-859108B468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F8AC-53CE-40B1-9AF9-597FF2B34D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F8AD-39DE-4BCE-B053-EA84210827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D825-5DE3-4376-9903-638F3EDD69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A9E-54D5-4BA8-94EC-5F1623ECD4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80CB-8583-4DCA-A9EC-66E1DB60B0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6116-76EA-449C-8844-8B0D3158A1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4D76-BF98-4CFE-B56B-3CA8BA658B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86AC-AA99-42DB-8030-9EB86A93CF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38D-A6FD-4D8A-8552-C2B0C7BFCD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621-5B70-4E2F-B78E-3DF55790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F34-BFAC-458C-8448-D8B1A51B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3F8-4D8A-4A15-A9EA-6BB1622C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89E-F6A4-4B9B-B0FB-3A970B09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8A7-C7D5-475D-96A7-A154969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654-2CCF-4495-B498-B51DAF74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075-033A-4CF7-9E2A-6D42D09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131-735B-43C3-8AE6-D7D4FFA2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204-B13B-4E0E-B949-B8F53C07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3DE-E44C-43DA-A05E-CF710582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891-A046-4927-AA43-90BAE90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5AA-6ACA-4948-B42F-661FDA4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A804-4092-420C-BF62-0C070BA85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coimagenes.com/banco.php?LangID=es&amp;RollID=cd84&amp;FrameID=cd84f7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12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coimagenes.com/banco.php?LangID=es&amp;RollID=cd675&amp;FrameID=cd675f133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26920" y="83664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04960" y="5006880"/>
            <a:ext cx="57862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6a83"/>
                </a:solidFill>
                <a:latin typeface="Verdana"/>
              </a:rPr>
              <a:t>GEMMA RAURET DALMA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6a83"/>
                </a:solidFill>
                <a:latin typeface="Verdana"/>
              </a:rPr>
              <a:t>Directora ANE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428760" y="2571840"/>
            <a:ext cx="8286480" cy="1773000"/>
          </a:xfrm>
          <a:prstGeom prst="rect">
            <a:avLst/>
          </a:prstGeom>
          <a:solidFill>
            <a:srgbClr val="8ea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gional developments and implementation in the regional networks of the UNESCO-OECD Guidelines – lessons learn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The case of RI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1190520" y="576360"/>
            <a:ext cx="69836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456a83"/>
                </a:solidFill>
                <a:latin typeface="Verdana"/>
              </a:rPr>
              <a:t>QUALITY ASSURANCE IN TRANSNATIONAL EDUCATION (tne) – From words to 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56a83"/>
                </a:solidFill>
                <a:latin typeface="Verdana"/>
              </a:rPr>
              <a:t>Bologna Seminar organised by ENQA and hosted by QA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56a83"/>
                </a:solidFill>
                <a:latin typeface="Verdana"/>
              </a:rPr>
              <a:t>London, 1-2 December 200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7"/>
          <p:cNvSpPr/>
          <p:nvPr/>
        </p:nvSpPr>
        <p:spPr>
          <a:xfrm>
            <a:off x="1403280" y="928800"/>
            <a:ext cx="688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Verdana"/>
              </a:rPr>
              <a:t>Central-American Accreditation Council (C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1508040" y="150012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Verdana"/>
              </a:rPr>
              <a:t>Miss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2232000" y="571680"/>
            <a:ext cx="6697800" cy="0"/>
          </a:xfrm>
          <a:prstGeom prst="line">
            <a:avLst/>
          </a:prstGeom>
          <a:ln w="2844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1258920" y="2000160"/>
            <a:ext cx="7456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To contribute to the on-going quality, relevance and integration of Central-American Higher Education through accreditation, the formal recognition of organisations for accrediting either institutions or programmes in every country or at the regional leve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Verdana"/>
              </a:rPr>
              <a:t>The CCA has been recognised by the Ministers of Education of the eight countries, acting as a full-competence and supranational body responsible for accrediting agen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The recognition body at the subregional lies on the Central-American Integration Secretariat (SIC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42920" y="6429240"/>
            <a:ext cx="63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*Source: Ernesto Villanueva, CONEAU (200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CCAorigen_pa"/>
          <p:cNvPicPr/>
          <p:nvPr/>
        </p:nvPicPr>
        <p:blipFill>
          <a:blip r:embed="rId2"/>
          <a:stretch/>
        </p:blipFill>
        <p:spPr>
          <a:xfrm>
            <a:off x="179280" y="4917960"/>
            <a:ext cx="1008000" cy="330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CAorigen_be"/>
          <p:cNvPicPr/>
          <p:nvPr/>
        </p:nvPicPr>
        <p:blipFill>
          <a:blip r:embed="rId3"/>
          <a:stretch/>
        </p:blipFill>
        <p:spPr>
          <a:xfrm>
            <a:off x="179280" y="2917800"/>
            <a:ext cx="100800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CCAorigen_cr"/>
          <p:cNvPicPr/>
          <p:nvPr/>
        </p:nvPicPr>
        <p:blipFill>
          <a:blip r:embed="rId4"/>
          <a:stretch/>
        </p:blipFill>
        <p:spPr>
          <a:xfrm>
            <a:off x="179280" y="4505400"/>
            <a:ext cx="1008000" cy="330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CCAorigen_es"/>
          <p:cNvPicPr/>
          <p:nvPr/>
        </p:nvPicPr>
        <p:blipFill>
          <a:blip r:embed="rId5"/>
          <a:stretch/>
        </p:blipFill>
        <p:spPr>
          <a:xfrm>
            <a:off x="179280" y="3710160"/>
            <a:ext cx="1008000" cy="33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CAorigen_gu"/>
          <p:cNvPicPr/>
          <p:nvPr/>
        </p:nvPicPr>
        <p:blipFill>
          <a:blip r:embed="rId6"/>
          <a:stretch/>
        </p:blipFill>
        <p:spPr>
          <a:xfrm>
            <a:off x="179280" y="2514600"/>
            <a:ext cx="1008000" cy="33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CCAorigen_ho"/>
          <p:cNvPicPr/>
          <p:nvPr/>
        </p:nvPicPr>
        <p:blipFill>
          <a:blip r:embed="rId7"/>
          <a:stretch/>
        </p:blipFill>
        <p:spPr>
          <a:xfrm>
            <a:off x="179280" y="3306600"/>
            <a:ext cx="1008000" cy="330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CCAorigen_ni"/>
          <p:cNvPicPr/>
          <p:nvPr/>
        </p:nvPicPr>
        <p:blipFill>
          <a:blip r:embed="rId8"/>
          <a:stretch/>
        </p:blipFill>
        <p:spPr>
          <a:xfrm>
            <a:off x="179280" y="4113360"/>
            <a:ext cx="100800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imagotipo"/>
          <p:cNvPicPr/>
          <p:nvPr/>
        </p:nvPicPr>
        <p:blipFill>
          <a:blip r:embed="rId9"/>
          <a:stretch/>
        </p:blipFill>
        <p:spPr>
          <a:xfrm>
            <a:off x="133200" y="1989000"/>
            <a:ext cx="1008360" cy="525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8"/>
          <p:cNvSpPr/>
          <p:nvPr/>
        </p:nvSpPr>
        <p:spPr>
          <a:xfrm>
            <a:off x="1128960" y="182520"/>
            <a:ext cx="75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Transnational QA criteria and guidelines at the subregional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6"/>
          <p:cNvSpPr/>
          <p:nvPr/>
        </p:nvSpPr>
        <p:spPr>
          <a:xfrm>
            <a:off x="2232000" y="571680"/>
            <a:ext cx="6697800" cy="0"/>
          </a:xfrm>
          <a:prstGeom prst="line">
            <a:avLst/>
          </a:prstGeom>
          <a:ln w="2844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2649960" y="182520"/>
            <a:ext cx="59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6a83"/>
                </a:solidFill>
                <a:latin typeface="Verdana"/>
              </a:rPr>
              <a:t>QA enhancement for agencies: the CINTAS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573200" y="1071720"/>
            <a:ext cx="68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56a83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456a83"/>
                </a:solidFill>
                <a:latin typeface="Verdana"/>
              </a:rPr>
              <a:t>CINTAS</a:t>
            </a:r>
            <a:r>
              <a:rPr b="0" lang="en-GB" sz="2000" spc="-1" strike="noStrike">
                <a:solidFill>
                  <a:srgbClr val="456a83"/>
                </a:solidFill>
                <a:latin typeface="Verdana"/>
              </a:rPr>
              <a:t> project was designed by ANECA for RIACES. It focuses on the development of Internal Quality Assurance Systems of the agen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33" descr="Acebo (Illex aquifolium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1357200"/>
            <a:ext cx="1152360" cy="8859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Text Box 4"/>
          <p:cNvSpPr/>
          <p:nvPr/>
        </p:nvSpPr>
        <p:spPr>
          <a:xfrm>
            <a:off x="928800" y="2786040"/>
            <a:ext cx="7643880" cy="31546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56a83"/>
                </a:solidFill>
                <a:latin typeface="Verdana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168120">
              <a:lnSpc>
                <a:spcPct val="150000"/>
              </a:lnSpc>
              <a:spcBef>
                <a:spcPts val="1250"/>
              </a:spcBef>
              <a:buClr>
                <a:srgbClr val="747c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Supporting the QA / accreditation agencies in developing their own procedures of </a:t>
            </a:r>
            <a:r>
              <a:rPr b="1" lang="en-GB" sz="2000" spc="-1" strike="noStrike">
                <a:solidFill>
                  <a:srgbClr val="456a83"/>
                </a:solidFill>
                <a:latin typeface="Verdana"/>
              </a:rPr>
              <a:t>internal quality assurance syst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5320" indent="-168120">
              <a:lnSpc>
                <a:spcPct val="150000"/>
              </a:lnSpc>
              <a:spcBef>
                <a:spcPts val="1250"/>
              </a:spcBef>
              <a:buClr>
                <a:srgbClr val="747c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Building a shared </a:t>
            </a:r>
            <a:r>
              <a:rPr b="1" lang="en-GB" sz="2000" spc="-1" strike="noStrike">
                <a:solidFill>
                  <a:srgbClr val="456a83"/>
                </a:solidFill>
                <a:latin typeface="Verdana"/>
              </a:rPr>
              <a:t>reference framework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 for quality assurance to be used within the RIACES contex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7907400" y="2357280"/>
            <a:ext cx="950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5589720"/>
            <a:ext cx="9144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836720" y="1432080"/>
            <a:ext cx="66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6a83"/>
                </a:solidFill>
                <a:latin typeface="Verdana"/>
              </a:rPr>
              <a:t>CINTAS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2050920" y="1844640"/>
            <a:ext cx="1008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547640" y="2076480"/>
            <a:ext cx="7066080" cy="422748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9"/>
          <p:cNvSpPr/>
          <p:nvPr/>
        </p:nvSpPr>
        <p:spPr>
          <a:xfrm>
            <a:off x="3970440" y="2060640"/>
            <a:ext cx="2330280" cy="9367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084560" y="234936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RIACES Guideli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3348000" y="5563440"/>
            <a:ext cx="3456000" cy="55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cc0066"/>
                </a:solidFill>
                <a:latin typeface="Verdana"/>
              </a:rPr>
              <a:t>Internal quality assuran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66"/>
                </a:solidFill>
                <a:latin typeface="Verdana"/>
              </a:rPr>
              <a:t>Systems of the a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1547640" y="2136600"/>
            <a:ext cx="2232360" cy="831240"/>
          </a:xfrm>
          <a:prstGeom prst="foldedCorner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ffff"/>
                </a:solidFill>
                <a:latin typeface="Verdana"/>
              </a:rPr>
              <a:t>Recommendations and internatio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ffff"/>
                </a:solidFill>
                <a:latin typeface="Verdana"/>
              </a:rPr>
              <a:t>experien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ffff"/>
                </a:solidFill>
                <a:latin typeface="Verdana"/>
              </a:rPr>
              <a:t>On quality assu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2374920" y="692280"/>
            <a:ext cx="6697800" cy="0"/>
          </a:xfrm>
          <a:prstGeom prst="line">
            <a:avLst/>
          </a:prstGeom>
          <a:ln w="2844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2721240" y="182520"/>
            <a:ext cx="59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6a83"/>
                </a:solidFill>
                <a:latin typeface="Verdana"/>
              </a:rPr>
              <a:t>QA enhancement for agencies: the CINTAS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554880" y="2205000"/>
            <a:ext cx="1871640" cy="459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National legal fra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3203640" y="4005360"/>
            <a:ext cx="3600360" cy="1224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3778200" y="4149720"/>
            <a:ext cx="237636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Internal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Assurance Projec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of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CINT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31760" y="4103640"/>
            <a:ext cx="2654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56a83"/>
                </a:solidFill>
                <a:latin typeface="Verdana"/>
              </a:rPr>
              <a:t>CINTAS Steering Group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56a83"/>
                </a:solidFill>
                <a:latin typeface="Verdana"/>
              </a:rPr>
              <a:t>ANECA, Sp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56a83"/>
                </a:solidFill>
                <a:latin typeface="Verdana"/>
              </a:rPr>
              <a:t>CNA, Colomb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56a83"/>
                </a:solidFill>
                <a:latin typeface="Verdana"/>
              </a:rPr>
              <a:t>CONEAU, Argenti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56a83"/>
                </a:solidFill>
                <a:latin typeface="Verdana"/>
              </a:rPr>
              <a:t>JAN, Cub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5" descr="logo aneca color (para portadas)"/>
          <p:cNvPicPr/>
          <p:nvPr/>
        </p:nvPicPr>
        <p:blipFill>
          <a:blip r:embed="rId3"/>
          <a:stretch/>
        </p:blipFill>
        <p:spPr>
          <a:xfrm>
            <a:off x="2286000" y="4357800"/>
            <a:ext cx="428760" cy="360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4"/>
          <a:stretch/>
        </p:blipFill>
        <p:spPr>
          <a:xfrm>
            <a:off x="266760" y="3724200"/>
            <a:ext cx="396720" cy="392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"/>
          <p:cNvPicPr/>
          <p:nvPr/>
        </p:nvPicPr>
        <p:blipFill>
          <a:blip r:embed="rId5"/>
          <a:stretch/>
        </p:blipFill>
        <p:spPr>
          <a:xfrm>
            <a:off x="2214720" y="5111640"/>
            <a:ext cx="1130040" cy="204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"/>
          <p:cNvPicPr/>
          <p:nvPr/>
        </p:nvPicPr>
        <p:blipFill>
          <a:blip r:embed="rId6"/>
          <a:stretch/>
        </p:blipFill>
        <p:spPr>
          <a:xfrm>
            <a:off x="2233440" y="4786200"/>
            <a:ext cx="552600" cy="2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62"/>
          <p:cNvSpPr/>
          <p:nvPr/>
        </p:nvSpPr>
        <p:spPr>
          <a:xfrm>
            <a:off x="0" y="623736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59"/>
          <p:cNvSpPr/>
          <p:nvPr/>
        </p:nvSpPr>
        <p:spPr>
          <a:xfrm>
            <a:off x="7502400" y="2556000"/>
            <a:ext cx="178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56a83"/>
                </a:solidFill>
                <a:latin typeface="Verdana"/>
              </a:rPr>
              <a:t>Flow-chart of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1164"/>
          <p:cNvSpPr/>
          <p:nvPr/>
        </p:nvSpPr>
        <p:spPr>
          <a:xfrm>
            <a:off x="7358040" y="1413000"/>
            <a:ext cx="0" cy="388764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65"/>
          <p:cNvSpPr/>
          <p:nvPr/>
        </p:nvSpPr>
        <p:spPr>
          <a:xfrm>
            <a:off x="2401920" y="1131840"/>
            <a:ext cx="3903480" cy="459000"/>
          </a:xfrm>
          <a:prstGeom prst="rect">
            <a:avLst/>
          </a:prstGeom>
          <a:noFill/>
          <a:ln w="936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2092f"/>
                </a:solidFill>
                <a:latin typeface="Verdana"/>
              </a:rPr>
              <a:t>RIACES Board of Directors approves the proposal of the projec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166"/>
          <p:cNvSpPr/>
          <p:nvPr/>
        </p:nvSpPr>
        <p:spPr>
          <a:xfrm>
            <a:off x="1143000" y="476280"/>
            <a:ext cx="6286680" cy="459000"/>
          </a:xfrm>
          <a:prstGeom prst="rect">
            <a:avLst/>
          </a:prstGeom>
          <a:solidFill>
            <a:srgbClr val="759cb7"/>
          </a:solidFill>
          <a:ln w="936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RIACES General Assembly (Montevideo, 2007) approves implementing the project and entrusts ANECA the design of the projec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167"/>
          <p:cNvSpPr/>
          <p:nvPr/>
        </p:nvSpPr>
        <p:spPr>
          <a:xfrm>
            <a:off x="2371680" y="1787400"/>
            <a:ext cx="3978360" cy="459000"/>
          </a:xfrm>
          <a:prstGeom prst="rect">
            <a:avLst/>
          </a:prstGeom>
          <a:noFill/>
          <a:ln w="936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2092f"/>
                </a:solidFill>
                <a:latin typeface="Verdana"/>
              </a:rPr>
              <a:t>ANECA designs  the project and the </a:t>
            </a:r>
            <a:r>
              <a:rPr b="1" i="1" lang="es-ES" sz="1200" spc="-1" strike="noStrike">
                <a:solidFill>
                  <a:srgbClr val="62092f"/>
                </a:solidFill>
                <a:latin typeface="Verdana"/>
              </a:rPr>
              <a:t>Manual for the Internal Quality Assurance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168"/>
          <p:cNvSpPr/>
          <p:nvPr/>
        </p:nvSpPr>
        <p:spPr>
          <a:xfrm>
            <a:off x="2371680" y="2530440"/>
            <a:ext cx="3978360" cy="459000"/>
          </a:xfrm>
          <a:prstGeom prst="rect">
            <a:avLst/>
          </a:prstGeom>
          <a:noFill/>
          <a:ln w="936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2092f"/>
                </a:solidFill>
                <a:latin typeface="Verdana"/>
              </a:rPr>
              <a:t>RIACES’ Board of Directors approves  CINTAS project (Madrid June 2007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7" name="AutoShape 1169"/>
          <p:cNvCxnSpPr>
            <a:stCxn id="165" idx="2"/>
            <a:endCxn id="166" idx="0"/>
          </p:cNvCxnSpPr>
          <p:nvPr/>
        </p:nvCxnSpPr>
        <p:spPr>
          <a:xfrm flipH="1">
            <a:off x="4360680" y="2249640"/>
            <a:ext cx="216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Text Box 1170"/>
          <p:cNvSpPr/>
          <p:nvPr/>
        </p:nvSpPr>
        <p:spPr>
          <a:xfrm>
            <a:off x="2371680" y="3284640"/>
            <a:ext cx="4057560" cy="459000"/>
          </a:xfrm>
          <a:prstGeom prst="rect">
            <a:avLst/>
          </a:prstGeom>
          <a:noFill/>
          <a:ln w="936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2092f"/>
                </a:solidFill>
                <a:latin typeface="Verdana"/>
              </a:rPr>
              <a:t>CINTAS Commission is set up and defines the stages of the project (Bogotá Nov. 200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171"/>
          <p:cNvSpPr/>
          <p:nvPr/>
        </p:nvSpPr>
        <p:spPr>
          <a:xfrm>
            <a:off x="1444680" y="3940200"/>
            <a:ext cx="5832360" cy="497160"/>
          </a:xfrm>
          <a:prstGeom prst="rect">
            <a:avLst/>
          </a:prstGeom>
          <a:noFill/>
          <a:ln w="936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2092f"/>
                </a:solidFill>
                <a:latin typeface="Verdana"/>
              </a:rPr>
              <a:t>The project is submitted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2092f"/>
                </a:solidFill>
                <a:latin typeface="Verdana"/>
              </a:rPr>
              <a:t>Participation commitment of the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0" name="AutoShape 1172"/>
          <p:cNvCxnSpPr>
            <a:stCxn id="168" idx="2"/>
            <a:endCxn id="169" idx="0"/>
          </p:cNvCxnSpPr>
          <p:nvPr/>
        </p:nvCxnSpPr>
        <p:spPr>
          <a:xfrm flipH="1">
            <a:off x="4360680" y="3750840"/>
            <a:ext cx="4032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1173"/>
          <p:cNvCxnSpPr/>
          <p:nvPr/>
        </p:nvCxnSpPr>
        <p:spPr>
          <a:xfrm flipH="1">
            <a:off x="4284360" y="2992320"/>
            <a:ext cx="3240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Text Box 1174"/>
          <p:cNvSpPr/>
          <p:nvPr/>
        </p:nvSpPr>
        <p:spPr>
          <a:xfrm>
            <a:off x="2371680" y="4632480"/>
            <a:ext cx="3978360" cy="276480"/>
          </a:xfrm>
          <a:prstGeom prst="rect">
            <a:avLst/>
          </a:prstGeom>
          <a:noFill/>
          <a:ln w="936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2092f"/>
                </a:solidFill>
                <a:latin typeface="Verdana"/>
              </a:rPr>
              <a:t>Training Seminars- worksh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3" name="AutoShape 1175"/>
          <p:cNvCxnSpPr>
            <a:stCxn id="169" idx="2"/>
            <a:endCxn id="172" idx="0"/>
          </p:cNvCxnSpPr>
          <p:nvPr/>
        </p:nvCxnSpPr>
        <p:spPr>
          <a:xfrm>
            <a:off x="4360680" y="444312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Text Box 1176"/>
          <p:cNvSpPr/>
          <p:nvPr/>
        </p:nvSpPr>
        <p:spPr>
          <a:xfrm>
            <a:off x="2371680" y="5915160"/>
            <a:ext cx="4032360" cy="459000"/>
          </a:xfrm>
          <a:prstGeom prst="rect">
            <a:avLst/>
          </a:prstGeom>
          <a:noFill/>
          <a:ln w="936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2092f"/>
                </a:solidFill>
                <a:latin typeface="Verdana"/>
              </a:rPr>
              <a:t>Support and follow-up actions the implementation of IQ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5" name="AutoShape 1182"/>
          <p:cNvCxnSpPr>
            <a:stCxn id="163" idx="2"/>
            <a:endCxn id="165" idx="0"/>
          </p:cNvCxnSpPr>
          <p:nvPr/>
        </p:nvCxnSpPr>
        <p:spPr>
          <a:xfrm>
            <a:off x="4354560" y="1593720"/>
            <a:ext cx="72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1183"/>
          <p:cNvCxnSpPr>
            <a:endCxn id="163" idx="0"/>
          </p:cNvCxnSpPr>
          <p:nvPr/>
        </p:nvCxnSpPr>
        <p:spPr>
          <a:xfrm flipH="1">
            <a:off x="4354200" y="938160"/>
            <a:ext cx="21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Text Box 1184"/>
          <p:cNvSpPr/>
          <p:nvPr/>
        </p:nvSpPr>
        <p:spPr>
          <a:xfrm>
            <a:off x="2378160" y="5106960"/>
            <a:ext cx="3978360" cy="459000"/>
          </a:xfrm>
          <a:prstGeom prst="rect">
            <a:avLst/>
          </a:prstGeom>
          <a:noFill/>
          <a:ln w="936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2092f"/>
                </a:solidFill>
                <a:latin typeface="Verdana"/>
              </a:rPr>
              <a:t>The participating agencies prepare the  Internal Quality Assurance Manual (IQA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8" name="AutoShape 1185"/>
          <p:cNvCxnSpPr>
            <a:stCxn id="172" idx="2"/>
            <a:endCxn id="177" idx="0"/>
          </p:cNvCxnSpPr>
          <p:nvPr/>
        </p:nvCxnSpPr>
        <p:spPr>
          <a:xfrm>
            <a:off x="4359960" y="4916160"/>
            <a:ext cx="684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1186"/>
          <p:cNvCxnSpPr>
            <a:stCxn id="177" idx="2"/>
            <a:endCxn id="174" idx="0"/>
          </p:cNvCxnSpPr>
          <p:nvPr/>
        </p:nvCxnSpPr>
        <p:spPr>
          <a:xfrm>
            <a:off x="4366080" y="5568840"/>
            <a:ext cx="20880" cy="34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www.sitacyl.es/adjuntos/02_07_31_860.jpg"/>
          <p:cNvPicPr/>
          <p:nvPr/>
        </p:nvPicPr>
        <p:blipFill>
          <a:blip r:embed="rId2"/>
          <a:stretch/>
        </p:blipFill>
        <p:spPr>
          <a:xfrm>
            <a:off x="5032440" y="2286000"/>
            <a:ext cx="3921120" cy="235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" descr=""/>
          <p:cNvPicPr/>
          <p:nvPr/>
        </p:nvPicPr>
        <p:blipFill>
          <a:blip r:embed="rId3"/>
          <a:stretch/>
        </p:blipFill>
        <p:spPr>
          <a:xfrm>
            <a:off x="214200" y="1143000"/>
            <a:ext cx="3546720" cy="44290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6"/>
          <p:cNvGrpSpPr/>
          <p:nvPr/>
        </p:nvGrpSpPr>
        <p:grpSpPr>
          <a:xfrm>
            <a:off x="3744720" y="1144080"/>
            <a:ext cx="4183560" cy="2285280"/>
            <a:chOff x="3744720" y="1144080"/>
            <a:chExt cx="4183560" cy="2285280"/>
          </a:xfrm>
        </p:grpSpPr>
        <p:sp>
          <p:nvSpPr>
            <p:cNvPr id="183" name="AutoShape 7"/>
            <p:cNvSpPr/>
            <p:nvPr/>
          </p:nvSpPr>
          <p:spPr>
            <a:xfrm rot="1342200">
              <a:off x="3725280" y="1919880"/>
              <a:ext cx="4222080" cy="7336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 rot="1342200">
              <a:off x="4052160" y="2217240"/>
              <a:ext cx="39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56a83"/>
                  </a:solidFill>
                  <a:latin typeface="Verdana"/>
                </a:rPr>
                <a:t>BOLOGNA DECLARATION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2786040" y="4643280"/>
            <a:ext cx="3574800" cy="1071360"/>
            <a:chOff x="2786040" y="4643280"/>
            <a:chExt cx="3574800" cy="1071360"/>
          </a:xfrm>
        </p:grpSpPr>
        <p:sp>
          <p:nvSpPr>
            <p:cNvPr id="186" name="AutoShape 17"/>
            <p:cNvSpPr/>
            <p:nvPr/>
          </p:nvSpPr>
          <p:spPr>
            <a:xfrm rot="10800000">
              <a:off x="2842560" y="4643280"/>
              <a:ext cx="3518280" cy="10713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 rot="10800000">
              <a:off x="2786040" y="4982040"/>
              <a:ext cx="32914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8" name="Text Box 20"/>
          <p:cNvSpPr/>
          <p:nvPr/>
        </p:nvSpPr>
        <p:spPr>
          <a:xfrm>
            <a:off x="3714840" y="50198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Verdana"/>
              </a:rPr>
              <a:t>ALC-UE HE ARE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7020000" y="6237360"/>
            <a:ext cx="7920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25"/>
          <p:cNvSpPr/>
          <p:nvPr/>
        </p:nvSpPr>
        <p:spPr>
          <a:xfrm rot="19464000">
            <a:off x="2979000" y="3247200"/>
            <a:ext cx="26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Verdana"/>
              </a:rPr>
              <a:t>Bridging the g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7236000" y="1628640"/>
            <a:ext cx="7920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900000" y="2852640"/>
            <a:ext cx="7056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53809f"/>
                </a:solidFill>
                <a:latin typeface="Verdana"/>
              </a:rPr>
              <a:t>www.aneca.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3809f"/>
                </a:solidFill>
                <a:latin typeface="Verdana"/>
              </a:rPr>
              <a:t>direccion@aneca.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1333440" y="1628640"/>
            <a:ext cx="64072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Verdana"/>
                <a:ea typeface="Lucida Sans Unicode"/>
              </a:rPr>
              <a:t>Thank you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5"/>
          <p:cNvSpPr/>
          <p:nvPr/>
        </p:nvSpPr>
        <p:spPr>
          <a:xfrm flipH="1">
            <a:off x="1116000" y="2678040"/>
            <a:ext cx="6480" cy="3343320"/>
          </a:xfrm>
          <a:prstGeom prst="line">
            <a:avLst/>
          </a:prstGeom>
          <a:ln w="5724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571760" y="2714760"/>
            <a:ext cx="742932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56a83"/>
                </a:solidFill>
                <a:latin typeface="Tahoma"/>
              </a:rPr>
              <a:t>The setting and the sc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56a83"/>
                </a:solidFill>
                <a:latin typeface="Tahoma"/>
              </a:rPr>
              <a:t>Transnational QA criteria and guidelines at the subreg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56a83"/>
                </a:solidFill>
                <a:latin typeface="Tahoma"/>
              </a:rPr>
              <a:t>RIACES: perspectives for QA enhancement for agencies: CINTAS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Oval 7"/>
          <p:cNvSpPr/>
          <p:nvPr/>
        </p:nvSpPr>
        <p:spPr>
          <a:xfrm>
            <a:off x="1027080" y="2928960"/>
            <a:ext cx="247680" cy="236520"/>
          </a:xfrm>
          <a:prstGeom prst="ellipse">
            <a:avLst/>
          </a:prstGeom>
          <a:solidFill>
            <a:srgbClr val="bcc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3375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1027080" y="3697200"/>
            <a:ext cx="247680" cy="236520"/>
          </a:xfrm>
          <a:prstGeom prst="ellipse">
            <a:avLst/>
          </a:prstGeom>
          <a:solidFill>
            <a:srgbClr val="bcc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3375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285840" y="1143000"/>
            <a:ext cx="7924680" cy="1523880"/>
          </a:xfrm>
          <a:prstGeom prst="rect">
            <a:avLst/>
          </a:prstGeom>
          <a:solidFill>
            <a:srgbClr val="bcc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marL="1146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33752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146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33752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-642960" y="1500120"/>
            <a:ext cx="84200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20" descr="Economí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1557360"/>
            <a:ext cx="1297080" cy="865080"/>
          </a:xfrm>
          <a:prstGeom prst="rect">
            <a:avLst/>
          </a:prstGeom>
          <a:ln w="0">
            <a:noFill/>
          </a:ln>
        </p:spPr>
      </p:pic>
      <p:sp>
        <p:nvSpPr>
          <p:cNvPr id="59" name="Oval 21"/>
          <p:cNvSpPr/>
          <p:nvPr/>
        </p:nvSpPr>
        <p:spPr>
          <a:xfrm>
            <a:off x="1025640" y="4705200"/>
            <a:ext cx="247680" cy="236520"/>
          </a:xfrm>
          <a:prstGeom prst="ellipse">
            <a:avLst/>
          </a:prstGeom>
          <a:solidFill>
            <a:srgbClr val="bcc5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3375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9" descr=""/>
          <p:cNvPicPr/>
          <p:nvPr/>
        </p:nvPicPr>
        <p:blipFill>
          <a:blip r:embed="rId2"/>
          <a:stretch/>
        </p:blipFill>
        <p:spPr>
          <a:xfrm>
            <a:off x="4000680" y="1500120"/>
            <a:ext cx="5072040" cy="5072040"/>
          </a:xfrm>
          <a:prstGeom prst="rect">
            <a:avLst/>
          </a:prstGeom>
          <a:ln w="0">
            <a:noFill/>
          </a:ln>
        </p:spPr>
      </p:pic>
      <p:sp>
        <p:nvSpPr>
          <p:cNvPr id="61" name="19 Flecha derecha"/>
          <p:cNvSpPr/>
          <p:nvPr/>
        </p:nvSpPr>
        <p:spPr>
          <a:xfrm rot="3596400">
            <a:off x="4465800" y="954720"/>
            <a:ext cx="928800" cy="28548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20 Flecha derecha"/>
          <p:cNvSpPr/>
          <p:nvPr/>
        </p:nvSpPr>
        <p:spPr>
          <a:xfrm rot="19341600">
            <a:off x="4633560" y="504000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21 Flecha derecha"/>
          <p:cNvSpPr/>
          <p:nvPr/>
        </p:nvSpPr>
        <p:spPr>
          <a:xfrm rot="7183200">
            <a:off x="4389840" y="46886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14200" y="1146240"/>
            <a:ext cx="385776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66"/>
                </a:solidFill>
                <a:latin typeface="Verdana"/>
              </a:rPr>
              <a:t>Different academic flows intra- and inter-subreg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South-Ame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Central-Ame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Andean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68360" y="5000760"/>
            <a:ext cx="2503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56a83"/>
                </a:solidFill>
                <a:latin typeface="Verdana"/>
              </a:rPr>
              <a:t>North-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56a83"/>
                </a:solidFill>
                <a:latin typeface="Verdana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32000" y="571680"/>
            <a:ext cx="6697800" cy="0"/>
          </a:xfrm>
          <a:prstGeom prst="line">
            <a:avLst/>
          </a:prstGeom>
          <a:ln w="2844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455640" y="68400"/>
            <a:ext cx="52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d9aaa"/>
                </a:solidFill>
                <a:latin typeface="Verdana"/>
              </a:rPr>
              <a:t>Latin-America: the setting and the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1116000" y="3860640"/>
            <a:ext cx="647640" cy="1081080"/>
          </a:xfrm>
          <a:prstGeom prst="downArrow">
            <a:avLst>
              <a:gd name="adj1" fmla="val 50000"/>
              <a:gd name="adj2" fmla="val 417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17"/>
          <p:cNvSpPr/>
          <p:nvPr/>
        </p:nvSpPr>
        <p:spPr>
          <a:xfrm rot="4323000">
            <a:off x="2555640" y="2457360"/>
            <a:ext cx="431640" cy="358920"/>
          </a:xfrm>
          <a:custGeom>
            <a:avLst/>
            <a:gdLst>
              <a:gd name="textAreaLeft" fmla="*/ 75600 w 431640"/>
              <a:gd name="textAreaRight" fmla="*/ 313200 w 4316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18"/>
          <p:cNvSpPr/>
          <p:nvPr/>
        </p:nvSpPr>
        <p:spPr>
          <a:xfrm rot="6809400">
            <a:off x="2374200" y="3249360"/>
            <a:ext cx="432000" cy="358920"/>
          </a:xfrm>
          <a:custGeom>
            <a:avLst/>
            <a:gdLst>
              <a:gd name="textAreaLeft" fmla="*/ 75600 w 432000"/>
              <a:gd name="textAreaRight" fmla="*/ 313200 w 43200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142920" y="3141720"/>
            <a:ext cx="468360" cy="431640"/>
          </a:xfrm>
          <a:custGeom>
            <a:avLst/>
            <a:gdLst>
              <a:gd name="textAreaLeft" fmla="*/ 81720 w 468360"/>
              <a:gd name="textAreaRight" fmla="*/ 339480 w 468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24"/>
          <p:cNvSpPr/>
          <p:nvPr/>
        </p:nvSpPr>
        <p:spPr>
          <a:xfrm>
            <a:off x="108000" y="2492280"/>
            <a:ext cx="468360" cy="432000"/>
          </a:xfrm>
          <a:custGeom>
            <a:avLst/>
            <a:gdLst>
              <a:gd name="textAreaLeft" fmla="*/ 81720 w 468360"/>
              <a:gd name="textAreaRight" fmla="*/ 339480 w 468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426360" y="985680"/>
            <a:ext cx="2074680" cy="4136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embers of RIA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429080" y="6595920"/>
            <a:ext cx="42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Verdana"/>
              </a:rPr>
              <a:t>*Source: RIACES (www.riaces.net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72960" y="1428840"/>
            <a:ext cx="791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Verdana"/>
              </a:rPr>
              <a:t>Different multilateral initiatives to shape a political integrity at the regional and trans-regional lev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11280" y="981000"/>
            <a:ext cx="83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Wingdings 2"/>
                <a:ea typeface="Wingdings 2"/>
              </a:rPr>
              <a:t>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Verdana"/>
              </a:rPr>
              <a:t>POLITICAL WILL TOWARDS QA AND ACCREDITATION OF 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285840" y="2286000"/>
            <a:ext cx="335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Verdana"/>
              </a:rPr>
              <a:t>Ibero-American Summits</a:t>
            </a: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. Organización </a:t>
            </a:r>
            <a:r>
              <a:rPr b="0" lang="es-ES" sz="2000" spc="-1" strike="noStrike">
                <a:solidFill>
                  <a:srgbClr val="336699"/>
                </a:solidFill>
                <a:latin typeface="Verdana"/>
              </a:rPr>
              <a:t>de Estados Iberoamericanos (OE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643280" y="2286000"/>
            <a:ext cx="4071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The building of the </a:t>
            </a:r>
            <a:r>
              <a:rPr b="1" lang="en-GB" sz="2000" spc="-1" strike="noStrike">
                <a:solidFill>
                  <a:srgbClr val="336699"/>
                </a:solidFill>
                <a:latin typeface="Verdana"/>
              </a:rPr>
              <a:t>Ibero-American Knowledge Area</a:t>
            </a: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. Princi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Gradual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Priorisation of meas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Articulation of poli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Correspons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Solida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Mutual benef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6"/>
          <p:cNvSpPr/>
          <p:nvPr/>
        </p:nvSpPr>
        <p:spPr>
          <a:xfrm>
            <a:off x="2232000" y="571680"/>
            <a:ext cx="6697800" cy="0"/>
          </a:xfrm>
          <a:prstGeom prst="line">
            <a:avLst/>
          </a:prstGeom>
          <a:ln w="2844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310920" y="68400"/>
            <a:ext cx="52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d9aaa"/>
                </a:solidFill>
                <a:latin typeface="Verdana"/>
              </a:rPr>
              <a:t>Latin-America: the setting and the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3618000" y="3178080"/>
            <a:ext cx="739800" cy="393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1"/>
          <p:cNvSpPr/>
          <p:nvPr/>
        </p:nvSpPr>
        <p:spPr>
          <a:xfrm>
            <a:off x="214200" y="3736800"/>
            <a:ext cx="41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Verdana"/>
              </a:rPr>
              <a:t>17th Ibero-American Summit, Chile 2007:</a:t>
            </a: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36699"/>
                </a:solidFill>
                <a:latin typeface="Verdana"/>
              </a:rPr>
              <a:t>Student Mobility Programme “Pablo Neruda”</a:t>
            </a: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Verdana"/>
              </a:rPr>
              <a:t>Enhancing co-operation and integration focusing on student mobility at the postgraduat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160200" y="1059840"/>
            <a:ext cx="884088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Verdana"/>
                <a:ea typeface="Times New Roman"/>
              </a:rPr>
              <a:t>Various solutions to face QA provision in trans-border HE:</a:t>
            </a:r>
            <a:r>
              <a:rPr b="1" lang="en-US" sz="2000" spc="-1" strike="noStrike">
                <a:solidFill>
                  <a:srgbClr val="456a83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456a83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456a83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456a83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6a83"/>
                </a:solidFill>
                <a:latin typeface="Verdana"/>
                <a:ea typeface="Times New Roman"/>
              </a:rPr>
              <a:t>OECD-UNESCO Guidelines for Quality Provision in Cross-Border Higher Education: </a:t>
            </a:r>
            <a:r>
              <a:rPr b="0" lang="en-US" sz="1600" spc="-1" strike="noStrike">
                <a:solidFill>
                  <a:srgbClr val="456a83"/>
                </a:solidFill>
                <a:latin typeface="Verdana"/>
                <a:ea typeface="Times New Roman"/>
              </a:rPr>
              <a:t>CONEAU, Argentina – 2007. Co-ordination: IESALC-UNESC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456a83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456a83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6a83"/>
                </a:solidFill>
                <a:latin typeface="Verdana"/>
                <a:ea typeface="Times New Roman"/>
              </a:rPr>
              <a:t>INQAAHE Guidelines of Good Practice in Quality Assuran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56a83"/>
                </a:solidFill>
                <a:latin typeface="Verdana"/>
                <a:ea typeface="Times New Roman"/>
              </a:rPr>
              <a:t>CNAP, Chile - 2006. Co-ordination: INQAA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6a83"/>
                </a:solidFill>
                <a:latin typeface="Verdana"/>
                <a:ea typeface="Times New Roman"/>
              </a:rPr>
              <a:t>European Standards and Guidelines for Quality Assurance of Higher </a:t>
            </a:r>
            <a:r>
              <a:rPr b="0" lang="en-US" sz="1600" spc="-1" strike="noStrike">
                <a:solidFill>
                  <a:srgbClr val="456a83"/>
                </a:solidFill>
                <a:latin typeface="Verdana"/>
                <a:ea typeface="Times New Roman"/>
              </a:rPr>
              <a:t>Education: ANECA, Spain – 2007. Co-ordination: ENQ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81080" y="1771560"/>
            <a:ext cx="1224000" cy="45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476360" y="1700280"/>
            <a:ext cx="12970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179280" y="3265560"/>
            <a:ext cx="2871720" cy="52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250920" y="4700520"/>
            <a:ext cx="2857320" cy="514440"/>
          </a:xfrm>
          <a:prstGeom prst="rect">
            <a:avLst/>
          </a:prstGeom>
          <a:ln w="0">
            <a:noFill/>
          </a:ln>
        </p:spPr>
      </p:pic>
      <p:sp>
        <p:nvSpPr>
          <p:cNvPr id="88" name="Line 4"/>
          <p:cNvSpPr/>
          <p:nvPr/>
        </p:nvSpPr>
        <p:spPr>
          <a:xfrm>
            <a:off x="2340000" y="765000"/>
            <a:ext cx="6697800" cy="0"/>
          </a:xfrm>
          <a:prstGeom prst="line">
            <a:avLst/>
          </a:prstGeom>
          <a:ln w="2844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020760" y="260280"/>
            <a:ext cx="52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d9aaa"/>
                </a:solidFill>
                <a:latin typeface="Verdana"/>
              </a:rPr>
              <a:t>Latin-America: the setting and the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58760" y="1571760"/>
            <a:ext cx="248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66"/>
                </a:solidFill>
                <a:latin typeface="Verdana"/>
              </a:rPr>
              <a:t>Stages for the definition of QA mechanisms and practices involved in evaluation and accreditation processes</a:t>
            </a:r>
            <a:r>
              <a:rPr b="1" lang="en-GB" sz="1200" spc="-1" strike="noStrike" baseline="30000">
                <a:solidFill>
                  <a:srgbClr val="993366"/>
                </a:solidFill>
                <a:latin typeface="Verdana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187280" y="7048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Wingdings 2"/>
                <a:ea typeface="Wingdings 2"/>
              </a:rPr>
              <a:t>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REGIONAL SCHE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643120" y="1287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Verdana"/>
              </a:rPr>
              <a:t>Networks of a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6500880" y="857160"/>
            <a:ext cx="264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Verdana"/>
              </a:rPr>
              <a:t>RIACES – Ibero-American Network of Accreditation Agenci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2643120" y="227016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Verdana"/>
              </a:rPr>
              <a:t>Harmonisation and convergence o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Verdana"/>
              </a:rPr>
              <a:t>evaluation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2643120" y="336384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Verdana"/>
              </a:rPr>
              <a:t>Requirements for the harmonisation and convergence of expert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2616120" y="52354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33"/>
                </a:solidFill>
                <a:latin typeface="Verdana"/>
              </a:rPr>
              <a:t>International review of a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6500880" y="1785960"/>
            <a:ext cx="25718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Verdana"/>
              </a:rPr>
              <a:t>MEXA 2002-  (Experimental  Programme Accreditation Mechanism for Bachelor Degrees Recognition within the MERCOSUR countries plus Bolivia and Ch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Verdana"/>
              </a:rPr>
              <a:t>RANA – 2007 (National Accreditation Agencies Networ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500880" y="492912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Verdana"/>
              </a:rPr>
              <a:t>Central-America: CCA Accreditation Agency accrediting QA-agencies at the sub-regional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5857920" y="1000080"/>
            <a:ext cx="428760" cy="52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imagotipo"/>
          <p:cNvPicPr/>
          <p:nvPr/>
        </p:nvPicPr>
        <p:blipFill>
          <a:blip r:embed="rId3"/>
          <a:stretch/>
        </p:blipFill>
        <p:spPr>
          <a:xfrm>
            <a:off x="5778360" y="5143680"/>
            <a:ext cx="650880" cy="339480"/>
          </a:xfrm>
          <a:prstGeom prst="rect">
            <a:avLst/>
          </a:prstGeom>
          <a:ln w="0">
            <a:noFill/>
          </a:ln>
        </p:spPr>
      </p:pic>
      <p:sp>
        <p:nvSpPr>
          <p:cNvPr id="101" name="Line 6"/>
          <p:cNvSpPr/>
          <p:nvPr/>
        </p:nvSpPr>
        <p:spPr>
          <a:xfrm>
            <a:off x="2232000" y="571680"/>
            <a:ext cx="6697800" cy="0"/>
          </a:xfrm>
          <a:prstGeom prst="line">
            <a:avLst/>
          </a:prstGeom>
          <a:ln w="2844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239640" y="68400"/>
            <a:ext cx="52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d9aaa"/>
                </a:solidFill>
                <a:latin typeface="Verdana"/>
              </a:rPr>
              <a:t>Latin-America: the setting and the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4"/>
          <a:stretch/>
        </p:blipFill>
        <p:spPr>
          <a:xfrm>
            <a:off x="5715000" y="2000160"/>
            <a:ext cx="681120" cy="405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42920" y="6429240"/>
            <a:ext cx="63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*Source: Ernesto Villanueva, CONEAU (200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1214280"/>
            <a:ext cx="164304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33"/>
                </a:solidFill>
                <a:latin typeface="Verdana"/>
              </a:rPr>
              <a:t>Fe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5728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Association of QA and accreditation agencies for 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Independent of govern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33"/>
                </a:solidFill>
                <a:latin typeface="Verdana"/>
              </a:rPr>
              <a:t>Goals</a:t>
            </a:r>
            <a:r>
              <a:rPr b="0" lang="en-GB" sz="2000" spc="-1" strike="noStrike">
                <a:solidFill>
                  <a:srgbClr val="660033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Promoting Ibero-American co-operation and exchange of good-practices on QA and accreditation of 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Promoting QA enhancement in the count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33"/>
                </a:solidFill>
                <a:latin typeface="Verdana"/>
              </a:rPr>
              <a:t>Strategic trends of the networ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030a0"/>
                </a:solidFill>
                <a:latin typeface="Verdana"/>
              </a:rPr>
              <a:t>S</a:t>
            </a: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trengthening the role played by agencies within the net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Developing QA mechanisms at the regional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Establishing a regional information off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Developing the technical profile of the staff throug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Developing the technical training for evalua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spcBef>
                <a:spcPts val="561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668680" y="285840"/>
            <a:ext cx="1119240" cy="110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3957480" y="973080"/>
            <a:ext cx="39992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69920" y="1143000"/>
            <a:ext cx="6888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Verdana"/>
              </a:rPr>
              <a:t>RIACES as a reference framework: the manual for self-evaluation of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5295960" y="36360"/>
            <a:ext cx="797040" cy="785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6224760" y="509760"/>
            <a:ext cx="2847960" cy="31248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2374920" y="965160"/>
            <a:ext cx="6697800" cy="0"/>
          </a:xfrm>
          <a:prstGeom prst="line">
            <a:avLst/>
          </a:prstGeom>
          <a:ln w="2844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42920" y="2133720"/>
            <a:ext cx="8786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20000"/>
              </a:lnSpc>
              <a:spcBef>
                <a:spcPts val="56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To provide with basic elements for designing and conducting </a:t>
            </a: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self-evaluation </a:t>
            </a: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procedures to the evaluation and accreditation </a:t>
            </a: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20000"/>
              </a:lnSpc>
              <a:spcBef>
                <a:spcPts val="56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Verdana"/>
              </a:rPr>
              <a:t>To establish the reference framework –the </a:t>
            </a: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evaluation standards</a:t>
            </a:r>
            <a:r>
              <a:rPr b="0" lang="en-GB" sz="1800" spc="-1" strike="noStrike">
                <a:solidFill>
                  <a:srgbClr val="660033"/>
                </a:solidFill>
                <a:latin typeface="Verdana"/>
              </a:rPr>
              <a:t>– for the development of </a:t>
            </a: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self-evaluation</a:t>
            </a:r>
            <a:r>
              <a:rPr b="0" lang="en-GB" sz="1800" spc="-1" strike="noStrike">
                <a:solidFill>
                  <a:srgbClr val="660033"/>
                </a:solidFill>
                <a:latin typeface="Verdana"/>
              </a:rPr>
              <a:t> proced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20000"/>
              </a:lnSpc>
              <a:spcBef>
                <a:spcPts val="56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To provide with a </a:t>
            </a: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minimum structure</a:t>
            </a: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 to elaborate a </a:t>
            </a: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self-evaluation</a:t>
            </a:r>
            <a:r>
              <a:rPr b="0" lang="en-GB" sz="1800" spc="-1" strike="noStrike">
                <a:solidFill>
                  <a:srgbClr val="456a83"/>
                </a:solidFill>
                <a:latin typeface="Verdana"/>
              </a:rPr>
              <a:t> report to the agency, as well as support information for the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20000"/>
              </a:lnSpc>
              <a:spcBef>
                <a:spcPts val="56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33"/>
                </a:solidFill>
                <a:latin typeface="Verdana"/>
              </a:rPr>
              <a:t>To prepare basic </a:t>
            </a: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orientations</a:t>
            </a:r>
            <a:r>
              <a:rPr b="0" lang="en-GB" sz="1800" spc="-1" strike="noStrike">
                <a:solidFill>
                  <a:srgbClr val="660033"/>
                </a:solidFill>
                <a:latin typeface="Verdana"/>
              </a:rPr>
              <a:t>  towards the </a:t>
            </a: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external review</a:t>
            </a:r>
            <a:r>
              <a:rPr b="0" lang="en-GB" sz="1800" spc="-1" strike="noStrike">
                <a:solidFill>
                  <a:srgbClr val="660033"/>
                </a:solidFill>
                <a:latin typeface="Verdana"/>
              </a:rPr>
              <a:t> of the agency including the procedure, standards and central features of the review of the international panel and the preparation of the final re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928800" y="642960"/>
            <a:ext cx="10713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7"/>
          <p:cNvSpPr/>
          <p:nvPr/>
        </p:nvSpPr>
        <p:spPr>
          <a:xfrm>
            <a:off x="1042920" y="81432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Verdana"/>
              </a:rPr>
              <a:t>MERCOSUR*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99"/>
                </a:solidFill>
                <a:latin typeface="Verdana"/>
              </a:rPr>
              <a:t>http://www.mercosur.int/MSWEB/portal%20intermediario/ES/index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500040" y="196992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Verdana"/>
              </a:rPr>
              <a:t>MEXA</a:t>
            </a:r>
            <a:r>
              <a:rPr b="0" lang="es-ES" sz="1800" spc="-1" strike="noStrike">
                <a:solidFill>
                  <a:srgbClr val="336699"/>
                </a:solidFill>
                <a:latin typeface="Verdana"/>
              </a:rPr>
              <a:t>- (</a:t>
            </a:r>
            <a:r>
              <a:rPr b="0" lang="en-GB" sz="1800" spc="-1" strike="noStrike">
                <a:solidFill>
                  <a:srgbClr val="336699"/>
                </a:solidFill>
                <a:latin typeface="Verdana"/>
              </a:rPr>
              <a:t>Experimental  Programme Accreditation Mechanism for the Recognition of Bachelor Degrees within the MERCOSUR countries plus Bolivia and Chile</a:t>
            </a:r>
            <a:r>
              <a:rPr b="0" lang="es-ES" sz="18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Verdana"/>
              </a:rPr>
              <a:t>RANA</a:t>
            </a:r>
            <a:r>
              <a:rPr b="0" lang="es-ES" sz="1800" spc="-1" strike="noStrike">
                <a:solidFill>
                  <a:srgbClr val="336699"/>
                </a:solidFill>
                <a:latin typeface="Verdana"/>
              </a:rPr>
              <a:t> – 2007 (National Accreditation Agencies Networ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2232000" y="571680"/>
            <a:ext cx="6697800" cy="0"/>
          </a:xfrm>
          <a:prstGeom prst="line">
            <a:avLst/>
          </a:prstGeom>
          <a:ln w="28440">
            <a:solidFill>
              <a:srgbClr val="456a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500040" y="3446640"/>
            <a:ext cx="82152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Aft>
                <a:spcPts val="601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Verdana"/>
              </a:rPr>
              <a:t>Agencies advanced in the convergence of evaluation standards through an effort towards harmonization of the evaluation processes in the ar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Aft>
                <a:spcPts val="601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Verdana"/>
              </a:rPr>
              <a:t>Accreditation is based upon a set of quality standards shared by the countries involv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Aft>
                <a:spcPts val="601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Verdana"/>
              </a:rPr>
              <a:t>Accreditation is programme-oriented and focuses on graduate mobil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Aft>
                <a:spcPts val="601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Verdana"/>
              </a:rPr>
              <a:t>This project has been possible because a three-fold legitimating process which involves: governments, agencies and discipl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7981920" y="714240"/>
            <a:ext cx="1019160" cy="1428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142920" y="6429240"/>
            <a:ext cx="63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*Source: Ernesto Villanueva, CONEAU (200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128960" y="115920"/>
            <a:ext cx="75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56a83"/>
                </a:solidFill>
                <a:latin typeface="Verdana"/>
              </a:rPr>
              <a:t>Transnational QA criteria and guidelines at the subregional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9:47:08Z</dcterms:created>
  <dc:creator>mbecerro</dc:creator>
  <dc:description/>
  <dc:language>en-US</dc:language>
  <cp:lastModifiedBy>emilio carrasco</cp:lastModifiedBy>
  <dcterms:modified xsi:type="dcterms:W3CDTF">2008-11-30T07:46:59Z</dcterms:modified>
  <cp:revision>349</cp:revision>
  <dc:subject/>
  <dc:title>AGENCIA NACIONAL DE EVALUACIÓN DE LA CALIDAD Y ACREDITACIÓN</dc:title>
</cp:coreProperties>
</file>