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E25-D83B-4987-B80B-54D22F3D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668-B98F-46AD-86D6-FD2761BD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FE2-1F89-4F0A-9C47-2D4A9746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E22-ECDB-41E5-8C85-5868B490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25F-8471-458C-B3FB-18B73D0D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819-A085-4A0D-A20F-5F0BD0B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FF1-B696-4B28-988B-8E3C7259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E76-284D-4A52-8CC0-8E3D127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23C-1BD1-43E0-BAFB-F6CC53A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27E-9503-4A9C-9EB8-921BCA2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323-D27C-4929-90B2-62A22E8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49E-F272-4D6F-959E-3B2C292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939-B793-44B9-8A68-FEF08CEA0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 ASSURANCE IN TRANSNATIONAL EDUCA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WORDS TO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QA SEMINAR LO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DECEMBER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TY ISSU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MASTER REALLY SCIENTIF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ON BETWEEN TEACHING AND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RMITY WITH INTERNATIONA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MARKET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DFE-F4D0-4F7C-A008-1EFF51C37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TY ISSU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 OF THE MASTE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THE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WORK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S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2DB-5266-4B20-8D1A-D698A6377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TY ISSUE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TEACHING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VISA, ACCOMMODATIO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ASSURANC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NG AND CONTI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1A7-DD7C-49E2-83B5-62EFB94627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TY ISSUE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SEVERAL STANDARDS, GUIDELINES AND GOOD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NERAL (UNESCO/OECD) OR MORE SPECIFIC (ES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DS, A LOT OF WORD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OM WORDS TO ACTIO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14C-4BC6-4E3E-86BF-8BCF91CEA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609480"/>
            <a:ext cx="74152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L QUALITY ASSURANCE IN EML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489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RD MEETINGS (OCT, FEBR, JUNE) / MEETINGS OF TEACHERS (J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QUALITY ASSURANCE COMMITTEE / QA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WITH STUDENTS AND ALUM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A87-914B-4958-AC6C-B46AE9AF1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L QUA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URANCE IN EML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025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 FOR ALL COURSES (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T THE END OF THE EX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TINGS WITH STUDENTS BY QA OFFI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TINGS WITH STUDENTS BY LOCAL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26F-EEE4-4C64-8869-4E12BAE463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QUALITY ASSURANCE: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BEFORE, DURING AND 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FORE ARRIVAL OF STUDENTS: WHAT WE OFFER, WHAT WE WANT, SELEC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RING THE ACADEMIC YEAR: EVALUATIONS PER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TER GRADUATION: EVALUATIONS AT THE END OF THE YEAR (GRADUATE) AND SOME YEARS LATER (ALUM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7C9-E24F-4E03-AAB3-FAD461B67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1.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LEAR SELECTI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LEAR SELEC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ESELECTION B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INAL SELECTION AND RANKING BY JOINT SELECTION COMMITTEE (5 LOCAL COORDIN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031-4FBC-4BD0-8EFD-0D71E2CB9F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2. EVALUATION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ER COURS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QUESTIONS AB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ENT OF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VERALL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ORKLOAD PER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EN QUESTION (REMARKS, SUGGES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B31-FD12-4B74-9229-152ABD983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2. EVALUATION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ER COURS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PORT BY QA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O BE DISCUSSED IN BOARD MEETINGS AND MEETINGS OF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PARE 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 COURSE: EARLIER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 COURSE: DIFFER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E28-679F-4D1E-B393-A4BE80F85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QUALITY ASSURANCE: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 NEVER ENDING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L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956-B957-4AE0-92A4-E096E3E1F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COURSE TORT LAW (ROTTERDAM)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2005/2006 AND 2006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42920" y="1844640"/>
          <a:ext cx="705816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44640"/>
                    <a:ext cx="70581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AF2-CCEE-4119-8642-A1396FC754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COURSE PUBLIC LAW (2006/2007)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ROTTERDAM, BOLOGNA, HAMB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71640" y="2060640"/>
          <a:ext cx="705636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7056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313-470F-457B-B6E9-837AF56A30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ALL AVERAGES 1st TERM 2006/2007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'DAM, BOLOGNA, HAMBURG,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26920" y="2060640"/>
          <a:ext cx="770580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705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68F-9551-4479-B7A8-E611E85F18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2. EVALUATION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ER COURSE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SCUSS HIGH SCORES AS ‘BEST PRACTIC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SCUSS LOW SC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ING TOGETHER TEACHERS PER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9B3-76B7-4681-82F2-AA43D0F6A1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3. EVALUATIONS AFTER GRAD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T THE END OF THE YEAR (AS A GRADU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E YEARS LATER (AS AN ALUM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EA2-DC06-4461-9A32-7D44A4234C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0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 SELECTION: SEEMS TO BE 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VALUATIONS PER COURSE: COMPARISON AND COMPETITION BETWEEN TEACHING CENTERS IMPROVES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 EVALUATIONS AFTER GRADUATION (GRADUATE / ALUMNI): TO BE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BBB-151B-42E6-8499-2F0CFC7ACF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BE AFRAID OF ANY COMMENTS BY STUDENTS, ALUMNI, ACCREDITATION ORGANIZATIONS, ETC. – WELCOME IT ALL TO IMPROV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RECOGNITION OF ACCREDITATION DECISIONS IS NEEDED,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F75-0FEA-4255-9BFC-8C9D3D5B88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QUALITY ASSURANCE: A NEVER ENDING STOR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ROM WORDS TO ACTIO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69A-234E-43C5-87D9-A8F52F67E8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FO &amp;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SITE: WWW.EML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: SCHREUDERS@FRG.EUR.N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60E-8F8F-459F-B591-A8F6BF8858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025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CHER SCHREU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ASMUS UNIVERSITY ROT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ASMUS MUNDUS ASSISTANT COORDINATOR EML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68D-1A8B-475E-BA8C-C06D265738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342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ASMUS MUNDUS MASTERS COURSE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W &amp; ECONOM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EM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3499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OR: ROTTER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: BOLOGNA, HAIFA, HAMBURG, GENT,  MANCHESTER, AIX/MARSEILLE, VI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7FD-1107-4B64-832F-47D9344109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NUMBER OF 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1943280"/>
                <a:gridCol w="1942560"/>
                <a:gridCol w="1942920"/>
                <a:gridCol w="194328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/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/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/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/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028-41BA-4E79-AAC3-90E717E2D6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SELECTION BY COORDINATOR: TOP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NAL SELECTION BY JOINT SELECTION COMMITTEE: 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MISSION: 100 - 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ARTING THE PROGRAMME: 80 -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ADUATING: APPROX.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BD7-B071-4C68-8855-B6FE039645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828800"/>
          <a:ext cx="8265960" cy="3567240"/>
        </p:xfrm>
        <a:graphic>
          <a:graphicData uri="http://schemas.openxmlformats.org/drawingml/2006/table">
            <a:tbl>
              <a:tblPr/>
              <a:tblGrid>
                <a:gridCol w="1231920"/>
                <a:gridCol w="2044800"/>
                <a:gridCol w="2590560"/>
                <a:gridCol w="2398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O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TTERD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MBU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O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MBU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r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X/MARSEILLE, BOLOGNA, HAIFA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MBURG, MANCHESTER, ROTTERDAM, VIEN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A10-D641-4D9F-898E-AB4591FD9D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: 4 COURSES (20 E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: 4 COURSES (20 E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: 2 COURSES + THESIS (20 E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: 10 COURSES + THESIS (60 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F4B-2B90-48FC-9841-1282FBFC12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LITY CONTROL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QUALITY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ATIONS AT NATION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(IN ALL PARTNER COUNTRIES, WITH DIFFERENT REQUIREMENT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ASMUS MUNDUS (SELECTION; TWO REPORTS PER YEAR; SPECIFIC REQUIREMENTS A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QUALITY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CENTR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MLE PROGRAM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997-CD20-4AE7-81B5-2E2572B4B2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5:59:20Z</dcterms:created>
  <dc:creator>schreuders</dc:creator>
  <dc:description/>
  <dc:language>en-US</dc:language>
  <cp:lastModifiedBy>w2ktest</cp:lastModifiedBy>
  <dcterms:modified xsi:type="dcterms:W3CDTF">2008-12-02T02:21:40Z</dcterms:modified>
  <cp:revision>84</cp:revision>
  <dc:subject/>
  <dc:title> QUALITY ASSURANCE AND JOINT DEGREES</dc:title>
</cp:coreProperties>
</file>