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53B-CDBD-4277-8D82-B683363E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746-D607-4E56-85E8-78AD8BC5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68F-1A03-4030-AA55-7A01983E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416-9223-48B9-BB03-785D6892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7898-6C21-4931-B8BC-221E757F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1E15-CE04-4A37-B2CA-55FB34D0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2BE1-DD4C-4D33-BEAE-5664AE7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80F6-16F9-4908-A82F-D4398158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9C55-DAEE-42F3-A408-B6F1B46B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4961-245D-4CE4-A815-420DF646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8CB5-68E7-4371-80F6-3025308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21C-357F-47EB-B9CE-302EF9D7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0AB9-578E-40E3-8AA5-EC4DC6CD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2E90-4CEF-499F-9CBF-AE13CEAA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ACC3-9667-497D-B8AF-E61470CB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848-78BC-4AC2-9587-185C1CC6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46E7-6904-4BBC-8C01-EBD8EFA0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7C4-9ADE-447A-AFDE-C96F951C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8FE-6D53-4DE8-9120-680C407C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817-6757-4123-827D-6141F761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661-DB02-4CAA-BAC8-1C4595C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CEA-F095-4040-AE55-6ACC1D37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B80-6704-4B54-A299-D686675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ED6-6EA5-4DC8-ACE6-26AAD3EB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FB2-F32F-4D34-971A-EA87D65C254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3785-0736-4D7F-BF91-82D25409022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791480" cy="27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The context – trends in society and reflections on public responsibility in higher education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Alexander Shishl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15560"/>
            <a:ext cx="77929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Convention on the Recognition of Qualifications concerning Higher Education in the European Reg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neral principles of the recogn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equate access for holders of qual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 discrimination for applic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information on national higher educ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niversal Diploma Sup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56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Bologna process of building the European Area of Higher Education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members of the higher education commun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ment in higher education gover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priate studying and living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Public responsibility: the laws and the mone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ublic responsibil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g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state’s expenditures on education(%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1989000"/>
          <a:ext cx="6985080" cy="398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89000"/>
                    <a:ext cx="698508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Public responsibility: obligatory and optional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lu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omin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ement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ublic responsibility in higher education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inp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 create the framework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 provide with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 support private initi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outp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ective ec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cratic and tolerant socie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responsibilit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8720" y="1774800"/>
          <a:ext cx="7273800" cy="47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774800"/>
                    <a:ext cx="72738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ublic demand and public respon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people ne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government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education: the value and the pr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necessary level of education to be a success in lif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58920" y="1844640"/>
          <a:ext cx="7200720" cy="45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720072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arents’ readiness to pay for their children getting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58920" y="1989000"/>
          <a:ext cx="7272360" cy="455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7272360" cy="45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amount of higher school students in Russia in 1995/1996 (thousand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2060640"/>
          <a:ext cx="7705800" cy="45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77058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amount of higher school students in Russia in 2002/2003 (thousand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00000" y="2060640"/>
          <a:ext cx="7488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7488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expenditures on education (% of GDP) in 200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1844640"/>
          <a:ext cx="7056360" cy="464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44640"/>
                    <a:ext cx="70563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ublic responsibility in higher education: International background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7:24:43Z</dcterms:created>
  <dc:creator>Igor A.Shishlov</dc:creator>
  <dc:description/>
  <dc:language>en-US</dc:language>
  <cp:lastModifiedBy>VUKASOVIC</cp:lastModifiedBy>
  <dcterms:modified xsi:type="dcterms:W3CDTF">2004-09-22T06:09:41Z</dcterms:modified>
  <cp:revision>29</cp:revision>
  <dc:subject/>
  <dc:title>What is the necessary level of education to be a success in lif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63307051</vt:r8>
  </property>
  <property fmtid="{D5CDD505-2E9C-101B-9397-08002B2CF9AE}" pid="3" name="_AuthorEmail">
    <vt:lpwstr>Martina.VUKASOVIC@coe.int</vt:lpwstr>
  </property>
  <property fmtid="{D5CDD505-2E9C-101B-9397-08002B2CF9AE}" pid="4" name="_AuthorEmailDisplayName">
    <vt:lpwstr>VUKASOVIC Martina</vt:lpwstr>
  </property>
  <property fmtid="{D5CDD505-2E9C-101B-9397-08002B2CF9AE}" pid="5" name="_EmailSubject">
    <vt:lpwstr>To Per Nyborg</vt:lpwstr>
  </property>
</Properties>
</file>