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64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6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66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208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452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64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208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452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66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6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64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6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66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6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64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0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867280" y="914400"/>
            <a:ext cx="2743200" cy="42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057400" y="8827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111132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541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2743200" cy="42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484280"/>
            <a:ext cx="8915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  <a:ea typeface="Times New Roman"/>
              </a:rPr>
              <a:t>The public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33cc"/>
                </a:solidFill>
                <a:latin typeface="Arial"/>
                <a:ea typeface="Times New Roman"/>
              </a:rPr>
              <a:t>of higher education in Europe</a:t>
            </a:r>
            <a:r>
              <a:rPr b="1" lang="en-GB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preparation for the labour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Council of Europe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Strasbourg, 23 Sept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Dr Guy H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uropea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760" y="1484280"/>
            <a:ext cx="89312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Employability aspects in the Bologna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Bologna Declaration: a social, not an academic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ducation policies also driven by eco/social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</a:rPr>
              <a:t>Increased awareness of employability as a concer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</a:rPr>
              <a:t>higher education throughout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Bologna’s emphasis on employability is largely welco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nd nostrified a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 powerfull source of change/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Bologna agenda overlaps with EU’s Lisb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</a:rPr>
              <a:t>In EU, strong links to the European 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760" y="1484280"/>
            <a:ext cx="893124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Employability aspects in the Bologna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The debate has focused mainly on 3 asp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employability in Bachelor-level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cademic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“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and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professiona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employability on </a:t>
            </a:r>
            <a:r>
              <a:rPr b="1" lang="fr-FR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European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industry not involved in Bologna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Priorities: Bologna </a:t>
            </a:r>
            <a:r>
              <a:rPr b="1" lang="fr-FR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and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Lisb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degrees with validaty in Eu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a framework of reference for qua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qualifications with 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uropea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 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quality assurance/accred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760" y="1484280"/>
            <a:ext cx="8931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Lessons learnt &amp; sugges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for policy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HE is ever more integrated with economic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s a key factor of competi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mployability should be taken into account, alo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other dimensions, for all HE learning curricula/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this is in line with the role of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no contradiction with other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for all types of HE and H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both for content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2760" y="1484280"/>
            <a:ext cx="89312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Lessons learnt &amp; sugges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for policy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The relevance of HE should be assessed with referenc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the European, not just the local 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mployability should be assessed with regard to al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of professional life, including self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HEI should </a:t>
            </a:r>
            <a:r>
              <a:rPr b="1" lang="fr-FR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always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seek </a:t>
            </a:r>
            <a:r>
              <a:rPr b="1" lang="fr-FR" sz="24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sustainable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employment,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 mere response to short term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760" y="1469880"/>
            <a:ext cx="8931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Lessons learnt &amp; sugges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Times New Roman"/>
              </a:rPr>
              <a:t>for policy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ll initial and LLL courses should consider employab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but there are various ways in which HE qualif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be </a:t>
            </a:r>
            <a:r>
              <a:rPr b="0" lang="fr-FR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"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relevant to the labour market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Main challenge to come (for Bologna and Lisb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a coherent EQF serving as a common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quality assurance/accreditation tools cr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enough trust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- on this basis, more effective cross-recogni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qualifications at all levels (incl. short HE and Ph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18:15Z</dcterms:created>
  <dc:creator>Ingrid Nymoen</dc:creator>
  <dc:description/>
  <dc:language>en-US</dc:language>
  <cp:lastModifiedBy>VUKASOVIC</cp:lastModifiedBy>
  <dcterms:modified xsi:type="dcterms:W3CDTF">2004-09-08T10:00:13Z</dcterms:modified>
  <cp:revision>20</cp:revision>
  <dc:subject/>
  <dc:title>PowerPoint-presentasj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1862234</vt:r8>
  </property>
  <property fmtid="{D5CDD505-2E9C-101B-9397-08002B2CF9AE}" pid="3" name="_AuthorEmail">
    <vt:lpwstr>Martina.VUKASOVIC@coe.int</vt:lpwstr>
  </property>
  <property fmtid="{D5CDD505-2E9C-101B-9397-08002B2CF9AE}" pid="4" name="_AuthorEmailDisplayName">
    <vt:lpwstr>VUKASOVIC Martina</vt:lpwstr>
  </property>
  <property fmtid="{D5CDD505-2E9C-101B-9397-08002B2CF9AE}" pid="5" name="_EmailSubject">
    <vt:lpwstr>To Per Nyborg</vt:lpwstr>
  </property>
  <property fmtid="{D5CDD505-2E9C-101B-9397-08002B2CF9AE}" pid="6" name="_PreviousAdHocReviewCycleID">
    <vt:r8>-1434397724</vt:r8>
  </property>
</Properties>
</file>