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72288"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09CBF8-9643-4F65-8D06-0159906573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A157D-9EC4-43F6-8E51-9BCD75138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1BA221-706D-484B-ACC1-CC1260BF92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68CE7E-18A8-49F2-B19A-0AD1B6C2D7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366BB-A68C-4DF2-9FA5-B321335C0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EB90F-7D64-4DA3-852A-B958CE3DF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D0CAC-6B79-4F39-8547-4FF638BFD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2B0A2-39EF-458F-8F2B-1E0DDEB47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80190-7D51-4C54-8DD0-CAD1C0094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363C4-B442-49CC-BAED-24C799A72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DC53A-3BAE-4CAA-8383-BEA68D345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4C8AB-6E80-414A-806E-1673CD1B5D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2B77F-5877-4BB2-BA2A-9D7F77DE52C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2133360"/>
            <a:ext cx="7924680" cy="1523880"/>
          </a:xfrm>
          <a:prstGeom prst="rect">
            <a:avLst/>
          </a:prstGeom>
          <a:noFill/>
          <a:ln w="76320">
            <a:solidFill>
              <a:srgbClr val="000099"/>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Britannic Bold"/>
              </a:rPr>
              <a:t>New Trends and New Providers in Higher Education</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4114800"/>
            <a:ext cx="6400800" cy="137160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uncil of Europe Conference on Public Responsibility for Higher Education and Research</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3-24 September 2004, Strasbourg</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rPr>
              <a:t>Stephen Adam, University of Westminste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globe" descr=""/>
          <p:cNvPicPr/>
          <p:nvPr/>
        </p:nvPicPr>
        <p:blipFill>
          <a:blip r:embed="rId1"/>
          <a:stretch/>
        </p:blipFill>
        <p:spPr>
          <a:xfrm>
            <a:off x="3657600" y="1143000"/>
            <a:ext cx="5181480" cy="4905360"/>
          </a:xfrm>
          <a:prstGeom prst="rect">
            <a:avLst/>
          </a:prstGeom>
          <a:ln w="0">
            <a:noFill/>
          </a:ln>
        </p:spPr>
      </p:pic>
      <p:sp>
        <p:nvSpPr>
          <p:cNvPr id="44" name=""/>
          <p:cNvSpPr/>
          <p:nvPr/>
        </p:nvSpPr>
        <p:spPr>
          <a:xfrm>
            <a:off x="380880" y="304920"/>
            <a:ext cx="8458200" cy="82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CUS:</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000" spc="-1" strike="noStrike">
                <a:solidFill>
                  <a:srgbClr val="000000"/>
                </a:solidFill>
                <a:latin typeface="Times New Roman"/>
              </a:rPr>
              <a:t>CHALLENGES OF TRANSNATIONAL </a:t>
            </a:r>
            <a:r>
              <a:rPr b="1" lang="en-US" sz="2000" spc="-1" strike="noStrike">
                <a:solidFill>
                  <a:srgbClr val="000000"/>
                </a:solidFill>
                <a:latin typeface="Times New Roman"/>
              </a:rPr>
              <a:t>	</a:t>
            </a:r>
            <a:r>
              <a:rPr b="1" lang="en-US" sz="2000" spc="-1" strike="noStrike">
                <a:solidFill>
                  <a:srgbClr val="000000"/>
                </a:solidFill>
                <a:latin typeface="Times New Roman"/>
              </a:rPr>
              <a:t>EDUCATION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borderless education) FOR PUBLIC RESPONSIBILITY</a:t>
            </a:r>
            <a:endParaRPr b="0" lang="en-US" sz="2000" spc="-1" strike="noStrike">
              <a:solidFill>
                <a:srgbClr val="000000"/>
              </a:solidFill>
              <a:latin typeface="Times New Roman"/>
            </a:endParaRPr>
          </a:p>
        </p:txBody>
      </p:sp>
      <p:sp>
        <p:nvSpPr>
          <p:cNvPr id="45" name=""/>
          <p:cNvSpPr/>
          <p:nvPr/>
        </p:nvSpPr>
        <p:spPr>
          <a:xfrm>
            <a:off x="380880" y="2133720"/>
            <a:ext cx="2362320" cy="761760"/>
          </a:xfrm>
          <a:custGeom>
            <a:avLst/>
            <a:gdLst>
              <a:gd name="textAreaLeft" fmla="*/ 369000 w 2362320"/>
              <a:gd name="textAreaRight" fmla="*/ 2149560 w 2362320"/>
              <a:gd name="textAreaTop" fmla="*/ 210960 h 761760"/>
              <a:gd name="textAreaBottom" fmla="*/ 550800 h 761760"/>
            </a:gdLst>
            <a:ahLst/>
            <a:rect l="textAreaLeft" t="textAreaTop" r="textAreaRight" b="textAreaBottom"/>
            <a:pathLst>
              <a:path w="21600" h="21600">
                <a:moveTo>
                  <a:pt x="3375" y="5985"/>
                </a:moveTo>
                <a:lnTo>
                  <a:pt x="17231" y="5985"/>
                </a:lnTo>
                <a:lnTo>
                  <a:pt x="17231" y="0"/>
                </a:lnTo>
                <a:lnTo>
                  <a:pt x="21600" y="10800"/>
                </a:lnTo>
                <a:lnTo>
                  <a:pt x="17231" y="21600"/>
                </a:lnTo>
                <a:lnTo>
                  <a:pt x="17231" y="15615"/>
                </a:lnTo>
                <a:lnTo>
                  <a:pt x="3375" y="15615"/>
                </a:lnTo>
                <a:close/>
              </a:path>
              <a:path w="21600" h="21600">
                <a:moveTo>
                  <a:pt x="0" y="5985"/>
                </a:moveTo>
                <a:lnTo>
                  <a:pt x="675" y="5985"/>
                </a:lnTo>
                <a:lnTo>
                  <a:pt x="675" y="15615"/>
                </a:lnTo>
                <a:lnTo>
                  <a:pt x="0" y="15615"/>
                </a:lnTo>
                <a:close/>
              </a:path>
              <a:path w="21600" h="21600">
                <a:moveTo>
                  <a:pt x="1350" y="5985"/>
                </a:moveTo>
                <a:lnTo>
                  <a:pt x="2700" y="5985"/>
                </a:lnTo>
                <a:lnTo>
                  <a:pt x="2700" y="15615"/>
                </a:lnTo>
                <a:lnTo>
                  <a:pt x="1350" y="1561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CAL</a:t>
            </a:r>
            <a:endParaRPr b="0" lang="en-US" sz="1600" spc="-1" strike="noStrike">
              <a:solidFill>
                <a:srgbClr val="000000"/>
              </a:solidFill>
              <a:latin typeface="Times New Roman"/>
            </a:endParaRPr>
          </a:p>
        </p:txBody>
      </p:sp>
      <p:sp>
        <p:nvSpPr>
          <p:cNvPr id="46" name=""/>
          <p:cNvSpPr/>
          <p:nvPr/>
        </p:nvSpPr>
        <p:spPr>
          <a:xfrm>
            <a:off x="380880" y="3124080"/>
            <a:ext cx="2438640" cy="838440"/>
          </a:xfrm>
          <a:custGeom>
            <a:avLst/>
            <a:gdLst>
              <a:gd name="textAreaLeft" fmla="*/ 380880 w 2438640"/>
              <a:gd name="textAreaRight" fmla="*/ 2247480 w 2438640"/>
              <a:gd name="textAreaTop" fmla="*/ 255600 h 838440"/>
              <a:gd name="textAreaBottom" fmla="*/ 582840 h 838440"/>
            </a:gdLst>
            <a:ahLst/>
            <a:rect l="textAreaLeft" t="textAreaTop" r="textAreaRight" b="textAreaBottom"/>
            <a:pathLst>
              <a:path w="21600" h="21600">
                <a:moveTo>
                  <a:pt x="3375" y="6582"/>
                </a:moveTo>
                <a:lnTo>
                  <a:pt x="17259" y="6582"/>
                </a:lnTo>
                <a:lnTo>
                  <a:pt x="17259" y="0"/>
                </a:lnTo>
                <a:lnTo>
                  <a:pt x="21600" y="10800"/>
                </a:lnTo>
                <a:lnTo>
                  <a:pt x="17259" y="21600"/>
                </a:lnTo>
                <a:lnTo>
                  <a:pt x="17259" y="15018"/>
                </a:lnTo>
                <a:lnTo>
                  <a:pt x="3375" y="15018"/>
                </a:lnTo>
                <a:close/>
              </a:path>
              <a:path w="21600" h="21600">
                <a:moveTo>
                  <a:pt x="0" y="6582"/>
                </a:moveTo>
                <a:lnTo>
                  <a:pt x="675" y="6582"/>
                </a:lnTo>
                <a:lnTo>
                  <a:pt x="675" y="15018"/>
                </a:lnTo>
                <a:lnTo>
                  <a:pt x="0" y="15018"/>
                </a:lnTo>
                <a:close/>
              </a:path>
              <a:path w="21600" h="21600">
                <a:moveTo>
                  <a:pt x="1350" y="6582"/>
                </a:moveTo>
                <a:lnTo>
                  <a:pt x="2700" y="6582"/>
                </a:lnTo>
                <a:lnTo>
                  <a:pt x="2700" y="15018"/>
                </a:lnTo>
                <a:lnTo>
                  <a:pt x="1350" y="15018"/>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ATIONAL</a:t>
            </a:r>
            <a:endParaRPr b="0" lang="en-US" sz="1600" spc="-1" strike="noStrike">
              <a:solidFill>
                <a:srgbClr val="000000"/>
              </a:solidFill>
              <a:latin typeface="Times New Roman"/>
            </a:endParaRPr>
          </a:p>
        </p:txBody>
      </p:sp>
      <p:sp>
        <p:nvSpPr>
          <p:cNvPr id="47" name=""/>
          <p:cNvSpPr/>
          <p:nvPr/>
        </p:nvSpPr>
        <p:spPr>
          <a:xfrm>
            <a:off x="457200" y="4267080"/>
            <a:ext cx="2362320" cy="685800"/>
          </a:xfrm>
          <a:custGeom>
            <a:avLst/>
            <a:gdLst>
              <a:gd name="textAreaLeft" fmla="*/ 369000 w 2362320"/>
              <a:gd name="textAreaRight" fmla="*/ 2115720 w 2362320"/>
              <a:gd name="textAreaTop" fmla="*/ 162720 h 685800"/>
              <a:gd name="textAreaBottom" fmla="*/ 523080 h 685800"/>
            </a:gdLst>
            <a:ahLst/>
            <a:rect l="textAreaLeft" t="textAreaTop" r="textAreaRight" b="textAreaBottom"/>
            <a:pathLst>
              <a:path w="21600" h="21600">
                <a:moveTo>
                  <a:pt x="3375" y="5123"/>
                </a:moveTo>
                <a:lnTo>
                  <a:pt x="17308" y="5123"/>
                </a:lnTo>
                <a:lnTo>
                  <a:pt x="17308" y="0"/>
                </a:lnTo>
                <a:lnTo>
                  <a:pt x="21600" y="10800"/>
                </a:lnTo>
                <a:lnTo>
                  <a:pt x="17308" y="21600"/>
                </a:lnTo>
                <a:lnTo>
                  <a:pt x="17308" y="16477"/>
                </a:lnTo>
                <a:lnTo>
                  <a:pt x="3375" y="16477"/>
                </a:lnTo>
                <a:close/>
              </a:path>
              <a:path w="21600" h="21600">
                <a:moveTo>
                  <a:pt x="0" y="5123"/>
                </a:moveTo>
                <a:lnTo>
                  <a:pt x="675" y="5123"/>
                </a:lnTo>
                <a:lnTo>
                  <a:pt x="675" y="16477"/>
                </a:lnTo>
                <a:lnTo>
                  <a:pt x="0" y="16477"/>
                </a:lnTo>
                <a:close/>
              </a:path>
              <a:path w="21600" h="21600">
                <a:moveTo>
                  <a:pt x="1350" y="5123"/>
                </a:moveTo>
                <a:lnTo>
                  <a:pt x="2700" y="5123"/>
                </a:lnTo>
                <a:lnTo>
                  <a:pt x="2700" y="16477"/>
                </a:lnTo>
                <a:lnTo>
                  <a:pt x="1350" y="16477"/>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NATIONAL</a:t>
            </a:r>
            <a:endParaRPr b="0" lang="en-US" sz="1600" spc="-1" strike="noStrike">
              <a:solidFill>
                <a:srgbClr val="000000"/>
              </a:solidFill>
              <a:latin typeface="Times New Roman"/>
            </a:endParaRPr>
          </a:p>
        </p:txBody>
      </p:sp>
      <p:sp>
        <p:nvSpPr>
          <p:cNvPr id="48" name=""/>
          <p:cNvSpPr/>
          <p:nvPr/>
        </p:nvSpPr>
        <p:spPr>
          <a:xfrm>
            <a:off x="457200" y="6019920"/>
            <a:ext cx="83217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TRANSNATIONAL EDUCATION - Education unconfined by national borders, which often bypasses state authority and challenges preconceived notions about the provision and regulations of learnin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609120"/>
            <a:ext cx="7772400" cy="838440"/>
          </a:xfrm>
          <a:prstGeom prst="rect">
            <a:avLst/>
          </a:prstGeom>
          <a:noFill/>
          <a:ln w="9360">
            <a:solidFill>
              <a:srgbClr val="0066ff"/>
            </a:solidFill>
            <a:miter/>
          </a:ln>
        </p:spPr>
        <p:txBody>
          <a:bodyPr lIns="90000" rIns="90000" tIns="46800" bIns="46800" anchor="ctr">
            <a:noAutofit/>
          </a:bodyPr>
          <a:p>
            <a:pPr marL="90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imes New Roman"/>
              </a:rPr>
              <a:t>1)</a:t>
            </a:r>
            <a:r>
              <a:rPr b="1" lang="en-US" sz="2800" spc="-1" strike="noStrike">
                <a:solidFill>
                  <a:srgbClr val="0066ff"/>
                </a:solidFill>
                <a:latin typeface="Times New Roman"/>
              </a:rPr>
              <a:t>	</a:t>
            </a:r>
            <a:r>
              <a:rPr b="1" lang="en-US" sz="2800" spc="-1" strike="noStrike">
                <a:solidFill>
                  <a:srgbClr val="0066ff"/>
                </a:solidFill>
                <a:latin typeface="Britannic Bold"/>
              </a:rPr>
              <a:t>LOCAL</a:t>
            </a:r>
            <a:r>
              <a:rPr b="1" lang="en-US" sz="2400" spc="-1" strike="noStrike">
                <a:solidFill>
                  <a:srgbClr val="0066ff"/>
                </a:solidFill>
                <a:latin typeface="Times New Roman"/>
              </a:rPr>
              <a:t>: </a:t>
            </a:r>
            <a:r>
              <a:rPr b="1" lang="en-US" sz="2000" spc="-1" strike="noStrike">
                <a:solidFill>
                  <a:srgbClr val="0066ff"/>
                </a:solidFill>
                <a:latin typeface="Times New Roman"/>
              </a:rPr>
              <a:t>trends impacting on Higher Education Institutions</a:t>
            </a:r>
            <a:endParaRPr b="0" lang="en-US" sz="2000" spc="-1" strike="noStrike">
              <a:solidFill>
                <a:srgbClr val="000000"/>
              </a:solidFill>
              <a:latin typeface="Times New Roman"/>
            </a:endParaRPr>
          </a:p>
        </p:txBody>
      </p:sp>
      <p:sp>
        <p:nvSpPr>
          <p:cNvPr id="50" name="PlaceHolder 2"/>
          <p:cNvSpPr>
            <a:spLocks noGrp="1"/>
          </p:cNvSpPr>
          <p:nvPr>
            <p:ph/>
          </p:nvPr>
        </p:nvSpPr>
        <p:spPr>
          <a:xfrm>
            <a:off x="380520" y="1676520"/>
            <a:ext cx="861084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ing national environment:</a:t>
            </a:r>
            <a:endParaRPr b="0" lang="en-US" sz="2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nancial pressures, increasing competition (TNE), diversification of students</a:t>
            </a:r>
            <a:endParaRPr b="0" lang="en-US" sz="1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creasing institutional autonomy:</a:t>
            </a:r>
            <a:endParaRPr b="0" lang="en-US" sz="2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le, nature, organisation, administration, autonomy, good governance</a:t>
            </a:r>
            <a:endParaRPr b="0" lang="en-US" sz="1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ganisation and expression of the curricula:</a:t>
            </a:r>
            <a:endParaRPr b="0" lang="en-US" sz="2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arning outcomes, credits, student-centred learning. distance learning</a:t>
            </a:r>
            <a:endParaRPr b="0" lang="en-US" sz="1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net + new technologies:</a:t>
            </a:r>
            <a:endParaRPr b="0" lang="en-US" sz="2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ating/plagiarism, new assessment methods and control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NEW TRENDS &amp; NEW PROVIDERS IMPACT AT THE LOCAL LEVEL +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AISE IMPORTANT QUESTIONS ABOUT THE RESPONSIBILITIES OF ALL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TAKEHOLDERS IN HIGHER EDUCATION  - CASCADE EFFECT!</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609120"/>
            <a:ext cx="8229600" cy="1143000"/>
          </a:xfrm>
          <a:prstGeom prst="rect">
            <a:avLst/>
          </a:prstGeom>
          <a:noFill/>
          <a:ln w="9360">
            <a:solidFill>
              <a:srgbClr val="0066ff"/>
            </a:solidFill>
            <a:miter/>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imes New Roman"/>
              </a:rPr>
              <a:t>2)</a:t>
            </a:r>
            <a:r>
              <a:rPr b="1" lang="en-US" sz="2800" spc="-1" strike="noStrike">
                <a:solidFill>
                  <a:srgbClr val="0066ff"/>
                </a:solidFill>
                <a:latin typeface="Times New Roman"/>
              </a:rPr>
              <a:t>	</a:t>
            </a:r>
            <a:r>
              <a:rPr b="1" lang="en-US" sz="2800" spc="-1" strike="noStrike">
                <a:solidFill>
                  <a:srgbClr val="0066ff"/>
                </a:solidFill>
                <a:latin typeface="Britannic Bold"/>
              </a:rPr>
              <a:t>NATIONAL</a:t>
            </a:r>
            <a:r>
              <a:rPr b="1" lang="en-US" sz="2800" spc="-1" strike="noStrike">
                <a:solidFill>
                  <a:srgbClr val="0066ff"/>
                </a:solidFill>
                <a:latin typeface="Times New Roman"/>
              </a:rPr>
              <a:t>: </a:t>
            </a:r>
            <a:r>
              <a:rPr b="1" lang="en-US" sz="2000" spc="-1" strike="noStrike">
                <a:solidFill>
                  <a:srgbClr val="0066ff"/>
                </a:solidFill>
                <a:latin typeface="Times New Roman"/>
              </a:rPr>
              <a:t>trends impacting on ministries, competent authorities and agencies responsible for higher education</a:t>
            </a:r>
            <a:endParaRPr b="0" lang="en-US" sz="2000" spc="-1" strike="noStrike">
              <a:solidFill>
                <a:srgbClr val="000000"/>
              </a:solidFill>
              <a:latin typeface="Times New Roman"/>
            </a:endParaRPr>
          </a:p>
        </p:txBody>
      </p:sp>
      <p:sp>
        <p:nvSpPr>
          <p:cNvPr id="52" name="PlaceHolder 2"/>
          <p:cNvSpPr>
            <a:spLocks noGrp="1"/>
          </p:cNvSpPr>
          <p:nvPr>
            <p:ph/>
          </p:nvPr>
        </p:nvSpPr>
        <p:spPr>
          <a:xfrm>
            <a:off x="228240" y="1981080"/>
            <a:ext cx="8915400" cy="457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New style’ qualifications frameworks:</a:t>
            </a:r>
            <a:endParaRPr b="0" lang="en-US" sz="24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aboration of comparable and compatible qualifications (</a:t>
            </a:r>
            <a:r>
              <a:rPr b="0" i="1" lang="en-US" sz="1800" spc="-1" strike="noStrike">
                <a:solidFill>
                  <a:srgbClr val="000000"/>
                </a:solidFill>
                <a:latin typeface="Times New Roman"/>
              </a:rPr>
              <a:t>Berlin Communiqué</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of levels, level/qualifications indicators, learning outcomes, benchmarks, etc.</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ment of the over-arching European Framework of Qualification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public responsibility relates to national and the emerging over-arching European Framework of Qualifications</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rderless education:</a:t>
            </a:r>
            <a:endParaRPr b="0" lang="en-US" sz="24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vent of corporate, for-profit, not-for-profit, franchise and branch campuse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NE produces complex effects on different sectors and cycle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itive and negative impacts + schizophrenic reaction (import/export)</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acts on national education systems + domestic quality assurance</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HOW SHOULD PUBLIC AUTHORITIES TREAT THESE DEVELOPMENTS?</a:t>
            </a:r>
            <a:endParaRPr b="0" lang="en-US" sz="18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04560"/>
            <a:ext cx="8153280" cy="1143000"/>
          </a:xfrm>
          <a:prstGeom prst="rect">
            <a:avLst/>
          </a:prstGeom>
          <a:noFill/>
          <a:ln w="9360">
            <a:solidFill>
              <a:srgbClr val="0066ff"/>
            </a:solidFill>
            <a:miter/>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imes New Roman"/>
              </a:rPr>
              <a:t>3)</a:t>
            </a:r>
            <a:r>
              <a:rPr b="1" lang="en-US" sz="2800" spc="-1" strike="noStrike">
                <a:solidFill>
                  <a:srgbClr val="0066ff"/>
                </a:solidFill>
                <a:latin typeface="Times New Roman"/>
              </a:rPr>
              <a:t>	</a:t>
            </a:r>
            <a:r>
              <a:rPr b="1" lang="en-US" sz="2800" spc="-1" strike="noStrike">
                <a:solidFill>
                  <a:srgbClr val="0066ff"/>
                </a:solidFill>
                <a:latin typeface="Britannic Bold"/>
              </a:rPr>
              <a:t>INTERNATIONAL</a:t>
            </a:r>
            <a:r>
              <a:rPr b="1" lang="en-US" sz="2000" spc="-1" strike="noStrike">
                <a:solidFill>
                  <a:srgbClr val="0066ff"/>
                </a:solidFill>
                <a:latin typeface="Times New Roman"/>
              </a:rPr>
              <a:t>: trends impacting on international organisations and institutions</a:t>
            </a:r>
            <a:endParaRPr b="0" lang="en-US" sz="2000" spc="-1" strike="noStrike">
              <a:solidFill>
                <a:srgbClr val="000000"/>
              </a:solidFill>
              <a:latin typeface="Times New Roman"/>
            </a:endParaRPr>
          </a:p>
        </p:txBody>
      </p:sp>
      <p:sp>
        <p:nvSpPr>
          <p:cNvPr id="54" name="PlaceHolder 2"/>
          <p:cNvSpPr>
            <a:spLocks noGrp="1"/>
          </p:cNvSpPr>
          <p:nvPr>
            <p:ph/>
          </p:nvPr>
        </p:nvSpPr>
        <p:spPr>
          <a:xfrm>
            <a:off x="304560" y="1676520"/>
            <a:ext cx="8839080" cy="4952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xpanding global education market:</a:t>
            </a:r>
            <a:endParaRPr b="0" lang="en-US" sz="24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creasing transnational education + more (domestic + overseas) competition</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aises huge recognition issues + problems of mixed jurisdiction</a:t>
            </a:r>
            <a:endParaRPr b="0" lang="en-US" sz="1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GATS:</a:t>
            </a:r>
            <a:endParaRPr b="0" lang="en-US" sz="24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Questions public-private distinctions + educational subsidie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s education a ‘public good’ when supply is limited?</a:t>
            </a:r>
            <a:endParaRPr b="0" lang="en-US" sz="1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des of practice:</a:t>
            </a:r>
            <a:endParaRPr b="0" lang="en-US" sz="24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ternational codes of good practice improve transnational education (COE/UNESCO)</a:t>
            </a:r>
            <a:endParaRPr b="0" lang="en-US" sz="1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uropean Higher Education Area:</a:t>
            </a:r>
            <a:endParaRPr b="0" lang="en-US" sz="24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nature of the completed EHEA (2010) will have profound effects</a:t>
            </a:r>
            <a:endParaRPr b="0" lang="en-US" sz="18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imes New Roman"/>
              </a:rPr>
              <a:t>WHAT SORT OF  EDUCATIONAL ENVIRONMENT WILL THE EHEA PROMOTE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imes New Roman"/>
              </a:rPr>
              <a:t>(emphasis on quality, competition, educational values) + HOW WILL IT IMPAC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imes New Roman"/>
              </a:rPr>
              <a:t>ON TRANSNATIONAL EDUCATION AND PUBLIC RESPONSIBILIT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3200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Britannic Bold"/>
              </a:rPr>
              <a:t>CONCLUSIONS:</a:t>
            </a:r>
            <a:endParaRPr b="0" lang="en-US" sz="32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need to re-examine our narrow notion of public responsibility.</a:t>
            </a:r>
            <a:endParaRPr b="0" lang="en-US" sz="2800" spc="-1" strike="noStrike">
              <a:solidFill>
                <a:srgbClr val="000000"/>
              </a:solidFill>
              <a:latin typeface="Times New Roman"/>
            </a:endParaRPr>
          </a:p>
          <a:p>
            <a:pPr marL="60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ole academic community needs to take a more proactive role – shaping the newly emerging 21</a:t>
            </a:r>
            <a:r>
              <a:rPr b="1" lang="en-US" sz="2800" spc="-1" strike="noStrike" baseline="30000">
                <a:solidFill>
                  <a:srgbClr val="000000"/>
                </a:solidFill>
                <a:latin typeface="Times New Roman"/>
              </a:rPr>
              <a:t>st-</a:t>
            </a:r>
            <a:r>
              <a:rPr b="1" lang="en-US" sz="2800" spc="-1" strike="noStrike">
                <a:solidFill>
                  <a:srgbClr val="000000"/>
                </a:solidFill>
                <a:latin typeface="Times New Roman"/>
              </a:rPr>
              <a:t>century educational world.</a:t>
            </a:r>
            <a:endParaRPr b="0" lang="en-US" sz="2800" spc="-1" strike="noStrike">
              <a:solidFill>
                <a:srgbClr val="000000"/>
              </a:solidFill>
              <a:latin typeface="Times New Roman"/>
            </a:endParaRPr>
          </a:p>
          <a:p>
            <a:pPr marL="60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require a more effective response to borderless education.</a:t>
            </a: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304920"/>
            <a:ext cx="541044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Britannic Bold"/>
              </a:rPr>
              <a:t>QUESTIONS/CHALLENGES:</a:t>
            </a:r>
            <a:endParaRPr b="0" lang="en-US" sz="3200" spc="-1" strike="noStrike">
              <a:solidFill>
                <a:srgbClr val="000000"/>
              </a:solidFill>
              <a:latin typeface="Times New Roman"/>
            </a:endParaRPr>
          </a:p>
        </p:txBody>
      </p:sp>
      <p:sp>
        <p:nvSpPr>
          <p:cNvPr id="58" name="PlaceHolder 2"/>
          <p:cNvSpPr>
            <a:spLocks noGrp="1"/>
          </p:cNvSpPr>
          <p:nvPr>
            <p:ph/>
          </p:nvPr>
        </p:nvSpPr>
        <p:spPr>
          <a:xfrm>
            <a:off x="685440" y="1371600"/>
            <a:ext cx="8001000" cy="4952880"/>
          </a:xfrm>
          <a:prstGeom prst="rect">
            <a:avLst/>
          </a:prstGeom>
          <a:noFill/>
          <a:ln w="0">
            <a:noFill/>
          </a:ln>
        </p:spPr>
        <p:txBody>
          <a:bodyPr lIns="90000" rIns="90000" tIns="46800" bIns="46800" anchor="t">
            <a:normAutofit/>
          </a:bodyPr>
          <a:p>
            <a:pPr marL="609480" indent="-60948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ow does transnational/borderless education impact on the public responsibility for higher education? Who is responsible - the importer and/or the exporter country?</a:t>
            </a:r>
            <a:endParaRPr b="0" lang="en-US" sz="1800" spc="-1" strike="noStrike">
              <a:solidFill>
                <a:srgbClr val="000000"/>
              </a:solidFill>
              <a:latin typeface="Times New Roman"/>
            </a:endParaRPr>
          </a:p>
          <a:p>
            <a:pPr marL="609480" indent="-60948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ow should public responsibility for transnational education relate to new national qualifications frameworks and the emerging overarching European framework of qualifications? How does the creation of the European Higher Education Area impact on the public responsibility for transnational education?</a:t>
            </a:r>
            <a:endParaRPr b="0" lang="en-US" sz="1800" spc="-1" strike="noStrike">
              <a:solidFill>
                <a:srgbClr val="000000"/>
              </a:solidFill>
              <a:latin typeface="Times New Roman"/>
            </a:endParaRPr>
          </a:p>
          <a:p>
            <a:pPr marL="609480" indent="-60948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e there any effective ways (nationally and internationally) to regulate transnational education – what might these be? Can public responsibility for transnational education be better discharged if the transnational providers are given the opportunity for official recognition?</a:t>
            </a:r>
            <a:endParaRPr b="0" lang="en-US" sz="1800" spc="-1" strike="noStrike">
              <a:solidFill>
                <a:srgbClr val="000000"/>
              </a:solidFill>
              <a:latin typeface="Times New Roman"/>
            </a:endParaRPr>
          </a:p>
          <a:p>
            <a:pPr marL="609480" indent="-60948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at implications does GATS have for the public responsibility for higher education provision?</a:t>
            </a:r>
            <a:endParaRPr b="0" lang="en-US" sz="1800" spc="-1" strike="noStrike">
              <a:solidFill>
                <a:srgbClr val="000000"/>
              </a:solidFill>
              <a:latin typeface="Times New Roman"/>
            </a:endParaRPr>
          </a:p>
          <a:p>
            <a:pPr marL="609480" indent="-60948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at role can international codes of practice play in the promotion of good practice associated with the provision of transnational education? How can these be made more effective?</a:t>
            </a:r>
            <a:endParaRPr b="0" lang="en-US" sz="1800" spc="-1" strike="noStrike">
              <a:solidFill>
                <a:srgbClr val="000000"/>
              </a:solidFill>
              <a:latin typeface="Times New Roman"/>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44956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Britannic Bold"/>
              </a:rPr>
              <a:t>RECOMMENDATIONS:</a:t>
            </a:r>
            <a:endParaRPr b="0" lang="en-US" sz="32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romote a debate between national and international stakeholders to develop a coordinated policy on the implications of transnational education (imported and exported) for the European Higher Education Are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desert_island" descr=""/>
          <p:cNvPicPr/>
          <p:nvPr/>
        </p:nvPicPr>
        <p:blipFill>
          <a:blip r:embed="rId1"/>
          <a:stretch/>
        </p:blipFill>
        <p:spPr>
          <a:xfrm>
            <a:off x="0" y="-58680"/>
            <a:ext cx="9144000" cy="6916680"/>
          </a:xfrm>
          <a:prstGeom prst="rect">
            <a:avLst/>
          </a:prstGeom>
          <a:ln w="0">
            <a:noFill/>
          </a:ln>
        </p:spPr>
      </p:pic>
      <p:sp>
        <p:nvSpPr>
          <p:cNvPr id="62" name=""/>
          <p:cNvSpPr/>
          <p:nvPr/>
        </p:nvSpPr>
        <p:spPr>
          <a:xfrm>
            <a:off x="762120" y="4648320"/>
            <a:ext cx="7467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ational education systems can no longer act as if they are isolated desert islan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3T08:09:35Z</dcterms:created>
  <dc:creator>Stephen</dc:creator>
  <dc:description/>
  <dc:language>en-US</dc:language>
  <cp:lastModifiedBy>VUKASOVIC</cp:lastModifiedBy>
  <dcterms:modified xsi:type="dcterms:W3CDTF">2004-09-14T09:16:17Z</dcterms:modified>
  <cp:revision>16</cp:revision>
  <dc:subject/>
  <dc:title>New Trends and New Providers in Higher Educ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55225613</vt:r8>
  </property>
  <property fmtid="{D5CDD505-2E9C-101B-9397-08002B2CF9AE}" pid="3" name="_AuthorEmail">
    <vt:lpwstr>Martina.VUKASOVIC@coe.int</vt:lpwstr>
  </property>
  <property fmtid="{D5CDD505-2E9C-101B-9397-08002B2CF9AE}" pid="4" name="_AuthorEmailDisplayName">
    <vt:lpwstr>VUKASOVIC Martina</vt:lpwstr>
  </property>
  <property fmtid="{D5CDD505-2E9C-101B-9397-08002B2CF9AE}" pid="5" name="_EmailSubject">
    <vt:lpwstr>To Per Nyborg</vt:lpwstr>
  </property>
</Properties>
</file>