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39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1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13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42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72C-C52E-43A9-9471-88E9D34F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35C-E886-4A9D-B72E-C55ED291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612F-D243-4BE1-9587-B5CB505A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86A-DBC3-4548-BABC-DBF00CD5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DAB-4772-4ECE-9142-B2FC88B9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4EF-DE24-4A37-945C-DA75B025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89E-A379-43BF-8836-54DCD0D9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8844-7620-4C4F-A3BF-9D9E4D90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381-397A-4A04-9B01-241053C1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7EA-4B40-46FB-9C1D-055004DA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E24-A7B0-4B2A-975C-6BE2B2D8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041-4151-4AB5-B743-21DDD6C0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A953-08CD-4096-BC0A-B99860C23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67640" y="6237360"/>
            <a:ext cx="1200240" cy="40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johan@esib.org" TargetMode="External"/><Relationship Id="rId2" Type="http://schemas.openxmlformats.org/officeDocument/2006/relationships/hyperlink" Target="http://www.esib.org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jpeg"/><Relationship Id="rId20" Type="http://schemas.openxmlformats.org/officeDocument/2006/relationships/image" Target="../media/image21.png"/><Relationship Id="rId21" Type="http://schemas.openxmlformats.org/officeDocument/2006/relationships/image" Target="../media/image22.jpeg"/><Relationship Id="rId22" Type="http://schemas.openxmlformats.org/officeDocument/2006/relationships/image" Target="../media/image23.jpeg"/><Relationship Id="rId23" Type="http://schemas.openxmlformats.org/officeDocument/2006/relationships/image" Target="../media/image24.jpeg"/><Relationship Id="rId24" Type="http://schemas.openxmlformats.org/officeDocument/2006/relationships/image" Target="../media/image25.jpeg"/><Relationship Id="rId25" Type="http://schemas.openxmlformats.org/officeDocument/2006/relationships/image" Target="../media/image26.jpeg"/><Relationship Id="rId26" Type="http://schemas.openxmlformats.org/officeDocument/2006/relationships/image" Target="../media/image27.jpeg"/><Relationship Id="rId27" Type="http://schemas.openxmlformats.org/officeDocument/2006/relationships/image" Target="../media/image28.jpeg"/><Relationship Id="rId28" Type="http://schemas.openxmlformats.org/officeDocument/2006/relationships/image" Target="../media/image29.png"/><Relationship Id="rId29" Type="http://schemas.openxmlformats.org/officeDocument/2006/relationships/image" Target="../media/image30.jpe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jpeg"/><Relationship Id="rId33" Type="http://schemas.openxmlformats.org/officeDocument/2006/relationships/image" Target="../media/image34.jpeg"/><Relationship Id="rId34" Type="http://schemas.openxmlformats.org/officeDocument/2006/relationships/image" Target="../media/image35.png"/><Relationship Id="rId35" Type="http://schemas.openxmlformats.org/officeDocument/2006/relationships/image" Target="../media/image36.jpeg"/><Relationship Id="rId36" Type="http://schemas.openxmlformats.org/officeDocument/2006/relationships/image" Target="../media/image37.jpe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jpeg"/><Relationship Id="rId41" Type="http://schemas.openxmlformats.org/officeDocument/2006/relationships/image" Target="../media/image42.jpeg"/><Relationship Id="rId42" Type="http://schemas.openxmlformats.org/officeDocument/2006/relationships/image" Target="../media/image1.png"/><Relationship Id="rId4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130120"/>
            <a:ext cx="8497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Verdana"/>
              </a:rPr>
              <a:t>Public Responsibility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Verdana"/>
              </a:rPr>
              <a:t>for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Verdana"/>
              </a:rPr>
              <a:t>Information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Verdana"/>
              </a:rPr>
              <a:t>on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Verdana"/>
              </a:rPr>
              <a:t>Higher Educa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89200" y="5413320"/>
            <a:ext cx="5115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Johan Almqv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hair,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SIB – The National Unions of Students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oE Conference, Strasbourg September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ublic Responsi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nowledge-based society –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“Age of Inform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Public versus HEI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ependent and accurat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formation based on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Verdana"/>
              </a:rPr>
              <a:t>Accuracy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10360" y="0"/>
            <a:ext cx="32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so what about th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98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98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98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Verdana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ESIB – The National Unions of Students in Europe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17a, Avenue de la Toison d’Or (Box 80)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1050 Brussels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Belgium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Phone:</a:t>
            </a: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+32-2-502 23 62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Fax:</a:t>
            </a: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+32-2-511 78 06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e-mail:</a:t>
            </a: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SE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johan@esib.org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www:</a:t>
            </a: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SE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www.esib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000000"/>
                </a:solidFill>
                <a:latin typeface="Verdana"/>
              </a:rPr>
              <a:t>Thank you for your atten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560" y="124920"/>
            <a:ext cx="49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sv-SE" sz="2800" spc="-1" strike="noStrike">
                <a:solidFill>
                  <a:srgbClr val="000000"/>
                </a:solidFill>
                <a:latin typeface="Verdana"/>
              </a:rPr>
              <a:t>The National Unions</a:t>
            </a:r>
            <a:br>
              <a:rPr sz="2800"/>
            </a:br>
            <a:r>
              <a:rPr b="1" lang="sv-SE" sz="2800" spc="-1" strike="noStrike">
                <a:solidFill>
                  <a:srgbClr val="000000"/>
                </a:solidFill>
                <a:latin typeface="Verdana"/>
              </a:rPr>
              <a:t>of Students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1916280"/>
            <a:ext cx="4038480" cy="4106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136000" y="3213000"/>
            <a:ext cx="1008000" cy="443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740720" y="4292640"/>
            <a:ext cx="501480" cy="263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284720" y="1413000"/>
            <a:ext cx="480960" cy="503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763640" y="3716280"/>
            <a:ext cx="504720" cy="460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203640" y="1341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451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516720" y="6021360"/>
            <a:ext cx="641160" cy="647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580000" y="6165720"/>
            <a:ext cx="576360" cy="519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3564000" y="6165720"/>
            <a:ext cx="377640" cy="451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0" y="515772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2556000" y="2997360"/>
            <a:ext cx="390240" cy="50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7885080" y="1268280"/>
            <a:ext cx="503280" cy="427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1403280" y="1700280"/>
            <a:ext cx="236520" cy="57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5"/>
          <a:stretch/>
        </p:blipFill>
        <p:spPr>
          <a:xfrm>
            <a:off x="1619280" y="2708280"/>
            <a:ext cx="576360" cy="316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6"/>
          <a:stretch/>
        </p:blipFill>
        <p:spPr>
          <a:xfrm>
            <a:off x="7956720" y="333360"/>
            <a:ext cx="934920" cy="420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7"/>
          <a:stretch/>
        </p:blipFill>
        <p:spPr>
          <a:xfrm>
            <a:off x="6804000" y="3068640"/>
            <a:ext cx="863640" cy="538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8"/>
          <a:stretch/>
        </p:blipFill>
        <p:spPr>
          <a:xfrm>
            <a:off x="826920" y="4437000"/>
            <a:ext cx="511200" cy="576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9"/>
          <a:stretch/>
        </p:blipFill>
        <p:spPr>
          <a:xfrm>
            <a:off x="324000" y="3716280"/>
            <a:ext cx="566640" cy="649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0"/>
          <a:stretch/>
        </p:blipFill>
        <p:spPr>
          <a:xfrm>
            <a:off x="6877080" y="4653000"/>
            <a:ext cx="792000" cy="338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1"/>
          <a:stretch/>
        </p:blipFill>
        <p:spPr>
          <a:xfrm>
            <a:off x="1763640" y="4437000"/>
            <a:ext cx="647640" cy="565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2"/>
          <a:stretch/>
        </p:blipFill>
        <p:spPr>
          <a:xfrm>
            <a:off x="4427640" y="6381720"/>
            <a:ext cx="718920" cy="198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3"/>
          <a:stretch/>
        </p:blipFill>
        <p:spPr>
          <a:xfrm>
            <a:off x="5292720" y="1341360"/>
            <a:ext cx="635040" cy="21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4"/>
          <a:stretch/>
        </p:blipFill>
        <p:spPr>
          <a:xfrm>
            <a:off x="2700360" y="6165720"/>
            <a:ext cx="420840" cy="432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5"/>
          <a:stretch/>
        </p:blipFill>
        <p:spPr>
          <a:xfrm>
            <a:off x="8532720" y="3860640"/>
            <a:ext cx="24156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6"/>
          <a:stretch/>
        </p:blipFill>
        <p:spPr>
          <a:xfrm>
            <a:off x="900000" y="5445000"/>
            <a:ext cx="647640" cy="454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7"/>
          <a:stretch/>
        </p:blipFill>
        <p:spPr>
          <a:xfrm>
            <a:off x="7020000" y="5445000"/>
            <a:ext cx="720720" cy="427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8"/>
          <a:stretch/>
        </p:blipFill>
        <p:spPr>
          <a:xfrm>
            <a:off x="1116000" y="3357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9"/>
          <a:stretch/>
        </p:blipFill>
        <p:spPr>
          <a:xfrm>
            <a:off x="468360" y="6021360"/>
            <a:ext cx="720720" cy="612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0"/>
          <a:stretch/>
        </p:blipFill>
        <p:spPr>
          <a:xfrm>
            <a:off x="7956720" y="2349360"/>
            <a:ext cx="431640" cy="420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1"/>
          <a:stretch/>
        </p:blipFill>
        <p:spPr>
          <a:xfrm>
            <a:off x="7667640" y="5013360"/>
            <a:ext cx="36180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2"/>
          <a:stretch/>
        </p:blipFill>
        <p:spPr>
          <a:xfrm>
            <a:off x="8207280" y="1844640"/>
            <a:ext cx="936720" cy="309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3"/>
          <a:stretch/>
        </p:blipFill>
        <p:spPr>
          <a:xfrm>
            <a:off x="8244000" y="508464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4"/>
          <a:stretch/>
        </p:blipFill>
        <p:spPr>
          <a:xfrm>
            <a:off x="1763640" y="5877000"/>
            <a:ext cx="408240" cy="503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5"/>
          <a:stretch/>
        </p:blipFill>
        <p:spPr>
          <a:xfrm>
            <a:off x="6948360" y="4076640"/>
            <a:ext cx="432000" cy="406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6"/>
          <a:stretch/>
        </p:blipFill>
        <p:spPr>
          <a:xfrm>
            <a:off x="6659640" y="1628640"/>
            <a:ext cx="792000" cy="311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7"/>
          <a:stretch/>
        </p:blipFill>
        <p:spPr>
          <a:xfrm>
            <a:off x="2627280" y="1916280"/>
            <a:ext cx="4038480" cy="4106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8"/>
          <a:stretch/>
        </p:blipFill>
        <p:spPr>
          <a:xfrm>
            <a:off x="6732720" y="0"/>
            <a:ext cx="952200" cy="571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9"/>
          <a:stretch/>
        </p:blipFill>
        <p:spPr>
          <a:xfrm>
            <a:off x="2050920" y="177336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0"/>
          <a:stretch/>
        </p:blipFill>
        <p:spPr>
          <a:xfrm>
            <a:off x="611280" y="2492280"/>
            <a:ext cx="642960" cy="692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1"/>
          <a:stretch/>
        </p:blipFill>
        <p:spPr>
          <a:xfrm>
            <a:off x="6877080" y="2205000"/>
            <a:ext cx="647640" cy="507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2"/>
          <a:stretch/>
        </p:blipFill>
        <p:spPr>
          <a:xfrm>
            <a:off x="179280" y="270000"/>
            <a:ext cx="1200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sed by wh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o what 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Verdana"/>
              </a:rPr>
              <a:t>What is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The student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ntry, progression and completion of high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mpowerment of the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o choose what to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o discern “good” from “bad”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Individua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reparation for life as active citizen in a democratic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eveloping and maintaining an advanced knowledge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reparation for the labour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Verdana"/>
              </a:rPr>
              <a:t>Targeting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90600" y="3357720"/>
            <a:ext cx="16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EI’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85680" y="1844640"/>
            <a:ext cx="21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5200" y="3429000"/>
            <a:ext cx="289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tud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86160" y="4941720"/>
            <a:ext cx="335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Employ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3500280"/>
            <a:ext cx="2519280" cy="576360"/>
          </a:xfrm>
          <a:prstGeom prst="leftArrow">
            <a:avLst>
              <a:gd name="adj1" fmla="val 50000"/>
              <a:gd name="adj2" fmla="val 1092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365200">
            <a:off x="6135480" y="2655720"/>
            <a:ext cx="1261800" cy="505080"/>
          </a:xfrm>
          <a:prstGeom prst="leftArrow">
            <a:avLst>
              <a:gd name="adj1" fmla="val 50000"/>
              <a:gd name="adj2" fmla="val 624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8570600">
            <a:off x="6209280" y="4455000"/>
            <a:ext cx="1262160" cy="505080"/>
          </a:xfrm>
          <a:prstGeom prst="leftArrow">
            <a:avLst>
              <a:gd name="adj1" fmla="val 50000"/>
              <a:gd name="adj2" fmla="val 624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8873000">
            <a:off x="2537640" y="2654640"/>
            <a:ext cx="1261800" cy="504720"/>
          </a:xfrm>
          <a:prstGeom prst="leftArrow">
            <a:avLst>
              <a:gd name="adj1" fmla="val 50000"/>
              <a:gd name="adj2" fmla="val 6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3154200">
            <a:off x="2105280" y="4599360"/>
            <a:ext cx="1262160" cy="505080"/>
          </a:xfrm>
          <a:prstGeom prst="leftArrow">
            <a:avLst>
              <a:gd name="adj1" fmla="val 50000"/>
              <a:gd name="adj2" fmla="val 624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30480" y="5805360"/>
            <a:ext cx="40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nb-NO" sz="1800" spc="-1" strike="noStrike">
                <a:solidFill>
                  <a:srgbClr val="000000"/>
                </a:solidFill>
                <a:latin typeface="Verdana"/>
              </a:rPr>
              <a:t>but it probably isn’t that simp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rot="11750400">
            <a:off x="820080" y="4434840"/>
            <a:ext cx="2305080" cy="1152720"/>
          </a:xfrm>
          <a:custGeom>
            <a:avLst/>
            <a:gdLst>
              <a:gd name="textAreaLeft" fmla="*/ 0 w 2305080"/>
              <a:gd name="textAreaRight" fmla="*/ 2305080 w 230508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503" stAng="10800000" swAng="5400000"/>
                <a:lnTo>
                  <a:pt x="13268" y="4657"/>
                </a:lnTo>
                <a:lnTo>
                  <a:pt x="13268" y="0"/>
                </a:lnTo>
                <a:lnTo>
                  <a:pt x="21600" y="6079"/>
                </a:lnTo>
                <a:lnTo>
                  <a:pt x="13268" y="12158"/>
                </a:lnTo>
                <a:lnTo>
                  <a:pt x="13268" y="7501"/>
                </a:lnTo>
                <a:lnTo>
                  <a:pt x="12427" y="7501"/>
                </a:lnTo>
                <a:arcTo wR="9583" hR="4659" stAng="16200000" swAng="-5400000"/>
                <a:lnTo>
                  <a:pt x="2844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The student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ntry, progression and completion of high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mpowerment of the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o choose what to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o discern “good” from “bad”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Individua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reparation for life as active citizen in a democratic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eveloping and maintaining an advanced knowledge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reparation for the labour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98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The Bologna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European labour 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Attractiveness and Competitiv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Global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Priority Action Li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Quality Assurance and Accred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cogn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wo-cycle Degre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Social Dim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Stocktaking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– information gathering in itsel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Frameworks for 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2000" y="2205000"/>
            <a:ext cx="7354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0000"/>
                </a:solidFill>
                <a:latin typeface="Verdana"/>
              </a:rPr>
              <a:t>Read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3600" spc="-1" strike="noStrike">
                <a:solidFill>
                  <a:srgbClr val="000000"/>
                </a:solidFill>
                <a:latin typeface="Verdana"/>
              </a:rPr>
              <a:t>Qualification Frame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1:42:44Z</dcterms:created>
  <dc:creator>John Doe</dc:creator>
  <dc:description/>
  <dc:language>en-US</dc:language>
  <cp:lastModifiedBy>VUKASOVIC</cp:lastModifiedBy>
  <dcterms:modified xsi:type="dcterms:W3CDTF">2004-09-14T11:43:40Z</dcterms:modified>
  <cp:revision>34</cp:revision>
  <dc:subject/>
  <dc:title>ESIB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98569481</vt:r8>
  </property>
  <property fmtid="{D5CDD505-2E9C-101B-9397-08002B2CF9AE}" pid="3" name="_AuthorEmail">
    <vt:lpwstr>Martina.VUKASOVIC@coe.int</vt:lpwstr>
  </property>
  <property fmtid="{D5CDD505-2E9C-101B-9397-08002B2CF9AE}" pid="4" name="_AuthorEmailDisplayName">
    <vt:lpwstr>VUKASOVIC Martina</vt:lpwstr>
  </property>
  <property fmtid="{D5CDD505-2E9C-101B-9397-08002B2CF9AE}" pid="5" name="_EmailSubject">
    <vt:lpwstr>To Per Nyborg</vt:lpwstr>
  </property>
</Properties>
</file>