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0F2E-FDDC-4F5A-B50D-F0BCE6D3B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C8EC-6C96-4BD4-ACA8-7D26715C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469A2-8B72-4879-91C8-82B0B436F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02B3B-AB29-4FFC-905B-B2CE154E7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5BCA-114E-461C-B977-F73B852F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0F2D-8892-48CB-9BC4-FEDA054F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340A1-3591-40C2-8710-80C5C306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578D0-D2F7-4F1F-9C64-ABB76BD2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D459A-03F6-459F-9311-CE6C131A3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722C-D7C2-4344-B519-0727F98B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C688-A328-47FB-BF60-42A626B8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76D4-5AF4-4951-A3C7-9E532BD9B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7479-4B6A-43E6-A3DF-2E582A307D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and higher education: the approach to regul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derick Floud</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ndon Metropolitan Universit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Roderick Floud, August 200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What are we trying to achiev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What are the objectives of the higher education syste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What are the objectives of regulating tha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Knights or knaves: the view from insid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he self-image of university staff</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Market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Loyalty to discipli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rofessionalis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Cavea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Act-relevant knigh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Knights or knaves: the view from outsid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Quality assessment and loss of tru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Research assessment and loss of tru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competent knav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Extensions of autonom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Knavish institutions with knightly staf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Queens or pawns: the role of student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he formal powers of stude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tudents in the learning proc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he growth of consume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Regulatory systems for European higher educ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rinciples of reg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University staff as knights, students as quee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Financial reg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Quality assurance and researc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Reward syst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ubsidiar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clus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he basis of tru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uman motivation, human behaviour and history</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stract (1)</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ucture of UK higher educ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tion: the wider contex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ulation of higher education in the UK</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asis of regulation of higher education: knights or knaves, queens or paw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we trying to achiev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stract (2)</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nights or knaves: the view from insi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nights or knaves: the view from outsi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ens or pawns: the role of stude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ory systems for European higher edu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and HE: the changing relationship</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olution of public servic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owth of reg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tructure of UK higher educa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onom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extent of state contr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ms-length funding: the Funding Counc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ulation: the wider contex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end of state ownership</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tisation and quasi-market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gulator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tack on the profession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ecline in trust</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ise of the audit society</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ights of consum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egulation of HE in the UK: recent tren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ssess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quality inform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ndicato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for Fair Access (OFF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ap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s of regulation of higher education (1)</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ights or knav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 instance, a policy instrument designed on the assumption that people are motivated primarily by their own self-interest – that they are, in the words of David Hume …,  </a:t>
            </a:r>
            <a:r>
              <a:rPr b="0" i="1" lang="en-GB" sz="2400" spc="-1" strike="noStrike">
                <a:solidFill>
                  <a:srgbClr val="000000"/>
                </a:solidFill>
                <a:latin typeface="Arial"/>
                <a:ea typeface="Arial"/>
              </a:rPr>
              <a:t>knaves</a:t>
            </a:r>
            <a:r>
              <a:rPr b="0" lang="en-GB" sz="2400" spc="-1" strike="noStrike">
                <a:solidFill>
                  <a:srgbClr val="000000"/>
                </a:solidFill>
                <a:latin typeface="Arial"/>
                <a:ea typeface="Arial"/>
              </a:rPr>
              <a:t> – would be quite different from one constructed on the assumption that people are predominantly public-spirited or altruistic: that they are what we might term, in contrast to knaves, </a:t>
            </a:r>
            <a:r>
              <a:rPr b="0" i="1" lang="en-GB" sz="2400" spc="-1" strike="noStrike">
                <a:solidFill>
                  <a:srgbClr val="000000"/>
                </a:solidFill>
                <a:latin typeface="Arial"/>
                <a:ea typeface="Arial"/>
              </a:rPr>
              <a:t>knights</a:t>
            </a:r>
            <a:r>
              <a:rPr b="0" lang="en-GB"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asis of regulation of higher education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ens or pawn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 policy that took no account of individuals’ capacity for independent action – one that treated those working in the public sector or those who received its benefits as passive victims of circumstance, or </a:t>
            </a:r>
            <a:r>
              <a:rPr b="0" i="1" lang="en-GB" sz="2400" spc="-1" strike="noStrike">
                <a:solidFill>
                  <a:srgbClr val="000000"/>
                </a:solidFill>
                <a:latin typeface="Arial"/>
                <a:ea typeface="Arial"/>
              </a:rPr>
              <a:t>pawns</a:t>
            </a:r>
            <a:r>
              <a:rPr b="0" lang="en-GB" sz="2400" spc="-1" strike="noStrike">
                <a:solidFill>
                  <a:srgbClr val="000000"/>
                </a:solidFill>
                <a:latin typeface="Arial"/>
                <a:ea typeface="Arial"/>
              </a:rPr>
              <a:t> – would be different from one that treated workers or recipients as active agents, that is, not as the least powerful piece on the chess board, the pawn, but as the most powerful, the </a:t>
            </a:r>
            <a:r>
              <a:rPr b="0" i="1" lang="en-GB" sz="2400" spc="-1" strike="noStrike">
                <a:solidFill>
                  <a:srgbClr val="000000"/>
                </a:solidFill>
                <a:latin typeface="Arial"/>
                <a:ea typeface="Arial"/>
              </a:rPr>
              <a:t>queen</a:t>
            </a:r>
            <a:r>
              <a:rPr b="0" lang="en-GB"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1:41:10Z</dcterms:created>
  <dc:creator>Prof. R. Floud</dc:creator>
  <dc:description/>
  <dc:language>en-US</dc:language>
  <cp:lastModifiedBy>VUKASOVIC</cp:lastModifiedBy>
  <dcterms:modified xsi:type="dcterms:W3CDTF">2004-08-25T12:01:32Z</dcterms:modified>
  <cp:revision>2</cp:revision>
  <dc:subject/>
  <dc:title>Government and higher education: the approach to reg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93488923</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