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B84-18C7-4603-AB4B-83A49A44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866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9160"/>
            <a:ext cx="84866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54B-03CD-469A-8E5D-1F67437B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71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916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17160" y="380916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77B-CD28-4881-9969-D1A04B1C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7920" y="126828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07120" y="126828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916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7920" y="380916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07120" y="380916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0C3-D5CB-43E2-8010-10C25CEC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CA8A-800F-417A-9560-BA090C9C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4866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5BD6-325B-40C4-A689-E4E8E43E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866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E001-6CD5-4253-AD26-22805FC2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1414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268280"/>
            <a:ext cx="41414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C281-2C43-4047-B60A-85816E36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FA96-FF95-46AB-B11F-189CFA33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3955-6B42-4954-8B1D-D46EB429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7160" y="1268280"/>
            <a:ext cx="41414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0916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231B-7FAA-4C20-B21D-E44A1384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4866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729-6D7B-4CBC-BC1A-4CF324A1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1414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71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7160" y="380916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97DC-71DD-4FAC-9827-A55F38C6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1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809160"/>
            <a:ext cx="84866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D2A1-CFAF-4B70-ADEF-7988FB5A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866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809160"/>
            <a:ext cx="84866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733F-194B-44B7-908C-B0FF6940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71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80916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7160" y="380916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193D-1D3E-4346-A359-6FCD541D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7920" y="126828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07120" y="126828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80916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7920" y="380916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07120" y="3809160"/>
            <a:ext cx="273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045B-4A70-474C-B9C5-D0297CD1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866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9537-B911-4A7C-A0B7-E35EFE3E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1414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268280"/>
            <a:ext cx="41414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108-90C7-4D8A-A8ED-44FEBFD2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38A-38C6-4599-B923-727453CF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B7B-2451-4A35-8D53-1DB89AF5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7160" y="1268280"/>
            <a:ext cx="41414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916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8BF-B321-401B-8B62-8BA9496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1414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71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17160" y="380916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AFB-5E23-4A0F-AF32-8D323495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7160" y="1268280"/>
            <a:ext cx="41414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9160"/>
            <a:ext cx="84866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564-1801-4BCC-A97D-BA612C07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9640" y="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6920" y="47628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3333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5920"/>
            <a:ext cx="3686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33336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56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0526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4866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68000" y="6243480"/>
            <a:ext cx="187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484000" y="6243480"/>
            <a:ext cx="475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80360" y="6243480"/>
            <a:ext cx="156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1C2D-BF26-41B8-B0E4-99E2AB2837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125360"/>
            <a:ext cx="77724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250560" y="6308280"/>
            <a:ext cx="187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2268360" y="6308280"/>
            <a:ext cx="5183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667280" y="6308280"/>
            <a:ext cx="10954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BA74-397F-406A-B1F7-2132995362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NATURE AND SCOPE OF THE PUBLIC RESPONSIBILITY FOR HIGHER EDU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58920" y="3573000"/>
            <a:ext cx="6400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ference on Public responsibility for Higher Education and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uncil of Europe, Strasbou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2-23 September 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Luc WEBER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niversity of Geneva, Vice-President CD-ES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83883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JUSTIFICATION OF THE PR FOR HE (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866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ecure a quality HE/R s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question of quality is gaining in importance bec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ncreasing struggle for state funds is forcing institutions to better manage themse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creation of private institutions and the development of transborder education are creating a greater need for quality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is calls for Stat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regulation.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levels of exigenc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nimum standard (licensing, accredi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ality assurance (improvement). This responsibility should be shared between the institutions themselves and independent quality assurance bod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6C6-13E6-4712-A843-8C9F5244DC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IMITS TO THE PR FOR H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866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e have made a strong case in favour of a PR for HE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Does it mean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re is no limit to the State involvem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E is a “public good”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icto sens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addition of the words “public good” would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e acceptable if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he ministers have in mind a loose definition, with sole purpose to reinforce the expression “public responsibility” by repeating it in using a different notion; nevertheless, it is confu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08E-2833-4034-AFE0-3327E4AF6C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IMITS TO THE PR FOR HE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HE is not a “public good”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stricto sen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or economist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is means that HE is a “non rival” and “non excludable” good, which would impose a public provision and public funding (see contribution of Dr Schoenenber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est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oof that it is not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rivate institutions can provide and finance HE/R without too much difficulty. The only – indeed important – qualification is that HE/R produces external benef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n terms of public administrati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affirming that HE is a “public good” is a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olitical value judgemen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which states that this service must be provided (perhaps also produced) by the public sector, in principle at no charge to the user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The fact that, in reality, nothing makes it obligatory for HE/R to be provisioned and financed by the public sector shows that it is a political view, nothing els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oreover,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public provision and financing of HE/R would be acceptabl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f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the public sector was able to make and implement perfect decisions.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is is not the case: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here are also government failu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7CE-A9A6-4388-8DAF-393A7DE890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IMITS TO THE PR FOR HE (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90360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Dangers of considering HE/R a “public good” 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stricto sen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uropean ambition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o become the most competitive economy by 2010, thanks to the promotion of the knowledge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rucial question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how to realize it? More than that, has Europe any chance to succeed if it considers that HE/R is a “public good”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icto sensu,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 it implies that the production and financing of HE/R should be exclusively the responsibility of the public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cording to most university leaders and econom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e attainment of this ambitious objective would be greatly hampered if the governments would aim at being even more present in the HE/R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public sector should on the contrary reduce his degree of intervention and HE institutions should have a more entrepreneurial attitude to increase the effectiveness of the sector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50D-1116-4360-BEE8-79D87E441F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IMITS TO THE PR FOR HE (4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343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Efficiency shortcomings of public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nopoly 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ak decision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ufficient autono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ents and teachers are not confronted to the opportunity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put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C1E-132B-4F93-9D34-7CB2F6EBAE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IMITS TO THE PR FOR HE (5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Fairness shortcomings of public institu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ublic ai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no financial barrier to acces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es it imply that access to HE must be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fre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gument in favour of free access i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ult of a confusion betwe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objectiv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of avoiding any financial barrier to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ean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o satisfy this objective, the renunciation to students’ fe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is confusion has a serious consequenc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s long as the proportion of children from underprivileged classes is smaller than those from “middle” and “upper” classes: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e system works regressively.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The problem disapp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f access to HE is independent from the social origin,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f one charges those who have access to HE (fees) and implement two accompanying meas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inancial support to low income students (grants, loan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active measures to overcome the cultural barri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76C-8856-48D0-BED1-1B7EA363EB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y purpose wa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o introduce the topic of the con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hoice of the topic has a doubl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justific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t is of great importance for the effectiveness of the HE/R sector to establish clearly the nature and scope of the PR for HE/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statement in the Prague and Berlin communiqués that HE is not only a PR, but also a “public good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many good reason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y HE/R is a P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ave been clear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pretend that HE is a “public good” i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cceptable only if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his term serves to reinforce the concept of P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t HE is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ahoma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 “public good”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stricto sensu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demand for public provision (and production) with not charge for the beneficiaries is a political value jud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sidering that HE/R is a  “pure public good” would hamper the effectiveness of the system to fulfil the European amb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sequently, this first conference about the nature and scope of PR for HR is tim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CCA-AD51-4564-97F8-EDA668E42D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NCLUSION (FRANCAI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But de cette contribution: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 introduire le thème de la confé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Le thème a une double </a:t>
            </a: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justifica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Il est très important pour l’efficacité  de l’ES/R d’établir précisément la nature et l’ampleur de la RP pour l’ES/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L’ES serait aussi un “bien public” (Prague et Berli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Les nombreuses </a:t>
            </a: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bonnes raisons pour un RP pour l’ES/R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 ont été étab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Prétendre que l’ES est un “bien public” est </a:t>
            </a: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acceptable si le but est simplement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 de renforcer la notion de R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Cependant, l’ES/R n’est </a:t>
            </a:r>
            <a:r>
              <a:rPr b="0" lang="fr-CH" sz="2400" spc="-1" strike="noStrike" u="sng">
                <a:solidFill>
                  <a:srgbClr val="ff0000"/>
                </a:solidFill>
                <a:uFillTx/>
                <a:latin typeface="Tahoma"/>
              </a:rPr>
              <a:t>pas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 un “bien public” </a:t>
            </a: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stricto sens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Demander un approvisionnement (et une production) publique et sans participation financière des usagers relève d’un jugement de valeu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Considérer l’ ES/R comme un “bien public pur” ou comme un « service public » nuirait à l’efficacité du système à réaliser les ambitions européen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Tahoma"/>
              </a:rPr>
              <a:t>En conséquence, cette première conférence sur la nature et l’ampleur de la RP pour l’ES/R tombe à point nomm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DFC-1D93-4A44-B58B-E9A50B06BF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RELEVANCE OF THE TH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75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Nature and scope of Public responsibility (PR) for Higher education and research (HE/R) is of increasing importance for the effectiveness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hy?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wo independent reas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ong political commitment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inisters of education in their Prague and Berlin communiqués (2001 and 200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cer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hared by university leaders and exper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t is crucial to correctly define the nature and scope of the PR for HE/R and how it is implemented; otherwise, this political good intention could act counterproductiv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rious indices for this potential threat: Prague communiqué: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“HE should be considered a “public good” and is and will remain a PR…”.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onsequently, the sense given to the expression “public good” is all but insignific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3A9-45ED-47F3-ABD3-AB78FA1A41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Justification of the conference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clarify the nature and scope of the PR for HE/R and the interpretation to be given to the notion of “public goo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im of this contribution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et the scene in order to launch the deb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ree chap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le and policy instruments of the public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ustification of the PR for 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mits to the PR for 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additional remar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though the question concerns HE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R, I shall focus mainly on 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 has two facets: PR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fo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HE/R as well as PR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of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HE/R instit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5C2-AA9D-453D-BF30-78D80C03A0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OLE AND INSTRUMENTS OF THE PUBLIC SECTO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ree systems are available to decide abo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goods and services to produce and consu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organization of their produ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repartition of wealth among individuals and reg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etitive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ublic sector (the St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n-profit orga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recurring political issue is the right mix and bal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system in place depends on the response given to three ques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 provides (deci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 produ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 p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AC6-24A3-46A5-88D8-BF2C8190C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OLE AND INSTRUMENTS OF THE PUBLIC SECTOR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oretically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vision, production and financing of HE/R can be assu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y the State (traditional public universiti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y a market process (private 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for profit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universiti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al worl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these extreme solutions are r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ublic universities benefit increasingly from private fu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ublic funds are more and more allocated according to “private-like formulas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ny universities are quite independent from the State regarding their governance, the status of their staff or their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the USA, most of the best research universities are independent entities, largely financed by private money; they are nevertheless non profit organizations and receive considerable public funds on a competitive ba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ven in the extreme case of private for profit universities, many recognize that the State should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regulat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h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lesson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various organizational solutions are possible from one extreme to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9EE-0531-4EE4-8E3C-D5AF6E79DC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JUSTIFICATION OF THE PR FOR H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75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minder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y solution is possible, from a totally public to a totally private on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the nature of HE/R does not create strong constraints which would make some solution impossib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hy, therefore, have the ministers affirmed that HE is a P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s it a political argument based on ideology, beliefs or on personal interest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are there real element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 we shall see,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st arguments in favour of a PR are well established and broadly accep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over, we are in a fast changing environment characterized b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creasing competition between people and organizations and within th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rong political priorities (EHEA and ER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se trends and policies are challenging the PR for HE/R even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40B-E362-4D61-9E29-5BAC21B6D0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JUSTIFICATION OF THE PR FOR HE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928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ecure a high level of HE/R because the private and collective return on investment is high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Knowled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 a production fa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tributes to the cultural and social improvement of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f markets for HE/R would function perfectl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the equilibrium solution between demand and supply would be opt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wever,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arkets are imperfec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ue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xternal economies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he collective return on HE/R investments is greater than the sum of the individual retur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ailing information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far not every citizen is aware of the high individual and collective return of HE invest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6BC-4C16-49EA-9499-B47A7AC565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432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75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two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arket failures justify the intervention of the Sta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hrou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ublic fund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y providing HE at a low or zero price, the State encourages more people to get HE than if they had to pay the market pr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State can also influence the demand in subsidizing the stud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The long term competitiveness of Europe will directly depend on its investment in the knowledge society through HE/R, more than in trying to preserve obsolete struct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ublic influence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o correct the individual decisions made on the basis of insufficient or erroneous information. The State can act on the deman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creasing the pr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mplementing encouragement polic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045-F109-4964-889C-85DEC86808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JUSTIFICATION OF THE PR FOR HE (3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75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ecure a fair distribution of HE opportunities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fact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he lack of (or erroneous) information is not distributed equally among the different classes in society. Despite the efforts made, there is a strong correlation between the education level of the parents and thei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implications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ccording to democratic values, it is a PR to make sure that access to HE is based only on merit (that is open to anyone on equal bas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is PR has two levels of requir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eliminate barriers to access (financial and originating from a discrimin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take proactive meas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EBER: Public responsibility for Higher Edu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BB7-3369-4B17-BD91-F76E6B9B0B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Sept.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6:09:59Z</dcterms:created>
  <dc:creator>Luc E. WEBER</dc:creator>
  <dc:description/>
  <dc:language>en-US</dc:language>
  <cp:lastModifiedBy>Bjørn R. Stensby</cp:lastModifiedBy>
  <dcterms:modified xsi:type="dcterms:W3CDTF">2004-09-24T08:59:02Z</dcterms:modified>
  <cp:revision>18</cp:revision>
  <dc:subject/>
  <dc:title>NATURE AND SCOPE OF THE PUBLIC RESPONSIBILITY FOR HIGHER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  <property fmtid="{D5CDD505-2E9C-101B-9397-08002B2CF9AE}" pid="3" name="_AdHocReviewCycleID">
    <vt:r8>215932958</vt:r8>
  </property>
  <property fmtid="{D5CDD505-2E9C-101B-9397-08002B2CF9AE}" pid="4" name="_AuthorEmail">
    <vt:lpwstr>Martina.VUKASOVIC@coe.int</vt:lpwstr>
  </property>
  <property fmtid="{D5CDD505-2E9C-101B-9397-08002B2CF9AE}" pid="5" name="_AuthorEmailDisplayName">
    <vt:lpwstr>VUKASOVIC Martina</vt:lpwstr>
  </property>
  <property fmtid="{D5CDD505-2E9C-101B-9397-08002B2CF9AE}" pid="6" name="_EmailSubject">
    <vt:lpwstr>To Per Nyborg</vt:lpwstr>
  </property>
  <property fmtid="{D5CDD505-2E9C-101B-9397-08002B2CF9AE}" pid="7" name="_ReviewingToolsShownOnce">
    <vt:lpwstr/>
  </property>
</Properties>
</file>