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B04-DFA7-49D5-9C2F-A4892BB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F35-85DD-4CEF-AE89-D895EB60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592-65D7-42E1-A3B7-1FBD6F2A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07B-0CD0-47CF-ACD6-CBB53DA7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416-CA96-42F6-9A4E-D7ADC017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B66-2765-4449-9ACB-DF973A7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85E-B2C9-457A-A88F-1D69255A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0B9-73F1-47E3-A5F0-2D3BF9E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D13-759C-4E41-9F35-C38D6B39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630-E490-47D9-9BAC-E0D2A08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20B-504F-4C26-972F-B235296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E5B-DA15-4960-89BD-C6C80A6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C035-AC16-4B7A-B5FB-C2455A888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666880"/>
            <a:ext cx="7925040" cy="100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ilemmas and tradeoff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he economics of financing hig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20800" y="4267080"/>
            <a:ext cx="210240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arlo Sal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5409720" cy="3924000"/>
            <a:chOff x="0" y="0"/>
            <a:chExt cx="5409720" cy="3924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1128600"/>
              <a:ext cx="1199880" cy="27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097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138240" y="5715000"/>
            <a:ext cx="8867520" cy="916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24 September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uncil of Europe conference on public responsibility for education and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81360" y="2057400"/>
            <a:ext cx="358128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ilemma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5409720" cy="3924000"/>
            <a:chOff x="0" y="0"/>
            <a:chExt cx="5409720" cy="3924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1128600"/>
              <a:ext cx="1199880" cy="27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097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1357200" y="29718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nment subsidies for education redress distributional inequities bu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95560" y="2514600"/>
            <a:ext cx="49528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57200" y="4495680"/>
            <a:ext cx="64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y generate “government failures” by encouraging students to waste institutions’ resources and (usually) unfairly subsidizing students in more expensive progr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81360" y="2057400"/>
            <a:ext cx="358128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ilemma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409720" cy="3924000"/>
            <a:chOff x="0" y="0"/>
            <a:chExt cx="5409720" cy="39240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0" y="1128600"/>
              <a:ext cx="1199880" cy="27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097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357200" y="29718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nd-driven systems offer students greater choice bu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95560" y="2514600"/>
            <a:ext cx="49528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200" y="3962520"/>
            <a:ext cx="64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know that students do not make well-informed choices!  Hence, the non-contractible quality problem persists.  In fact, it shifts the problem to the produ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0" y="5334120"/>
            <a:ext cx="64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ch a system also runs the risk of promoting macro-level inefficiency and forcing costly, yet perhaps culturally important programs to cl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81360" y="2057400"/>
            <a:ext cx="358128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ilemma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5409720" cy="3924000"/>
            <a:chOff x="0" y="0"/>
            <a:chExt cx="5409720" cy="3924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1128600"/>
              <a:ext cx="1199880" cy="27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097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1357200" y="2971800"/>
            <a:ext cx="64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k-grant allocations (coupled with the use of performance-based funding) give institutions greater autonomy, which is supposed to enhance efficiency.  Bu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5560" y="2514600"/>
            <a:ext cx="49528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7200" y="45720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stitution managers are often not prepared to manage funding and generally not tr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57200" y="5562720"/>
            <a:ext cx="64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institutions behave like physicians’ cooperatives, then the difficulty in monitoring how funding is used may result in unwanted cross-subsid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81360" y="2057400"/>
            <a:ext cx="358128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ilemma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5409720" cy="3924000"/>
            <a:chOff x="0" y="0"/>
            <a:chExt cx="5409720" cy="3924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0" y="1128600"/>
              <a:ext cx="1199880" cy="27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0972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357200" y="2971800"/>
            <a:ext cx="64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xes of public and private providers encourage competition as well as promote innovation and efficiency.  Bu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95560" y="2514600"/>
            <a:ext cx="49528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200" y="4572000"/>
            <a:ext cx="64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 market-oriented solution requires greater GOVERNMENT oversight in terms of recognition and quality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09:39:32Z</dcterms:created>
  <dc:creator>Carlo Salerno</dc:creator>
  <dc:description/>
  <dc:language>en-US</dc:language>
  <cp:lastModifiedBy>VUKASOVIC</cp:lastModifiedBy>
  <dcterms:modified xsi:type="dcterms:W3CDTF">2004-09-17T10:08:23Z</dcterms:modified>
  <cp:revision>11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2740843</vt:r8>
  </property>
  <property fmtid="{D5CDD505-2E9C-101B-9397-08002B2CF9AE}" pid="3" name="_AuthorEmail">
    <vt:lpwstr>Martina.VUKASOVIC@coe.int</vt:lpwstr>
  </property>
  <property fmtid="{D5CDD505-2E9C-101B-9397-08002B2CF9AE}" pid="4" name="_AuthorEmailDisplayName">
    <vt:lpwstr>VUKASOVIC Martina</vt:lpwstr>
  </property>
  <property fmtid="{D5CDD505-2E9C-101B-9397-08002B2CF9AE}" pid="5" name="_EmailSubject">
    <vt:lpwstr>To Per Nyborg</vt:lpwstr>
  </property>
</Properties>
</file>