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8BF2-210B-4E68-9972-D7498BCD00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60AF-9341-4C8F-91D7-CD2B61E131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er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conference to gather stakeholders of student mobility: British Council (national agency for the EU Lifelong Learning Programme); Universities Scotland, Scottish Funding Council, Scottish Government, European Parlia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universities: student officers, Erasmus societies, staff from international offices, academ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ve session (benefits and opportunities) in the morning: what does the Bologna Process mean for Scotland, for students; what the EU has done fir its students; EU funding programmes for mo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shops on barriers to mobility: funding, languages, recognition, cooperation within H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on plan derived from the conference: will feed in recommendations to the Scottish Gover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pean Student Working Group: attendees and other stakeholders – to help implement the project at local level for various tasks (e.g. organise pub quiz for Europe Day; draft the Studying in Europe booklet; input for Bologna with Student Eyes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ok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ritten by the European Student Working Group (student officers, academic, international off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ed during Freshers’ fayres throughout Scotland (i.e. mainly aimed at first-year students  but can be made available to other students during the rest of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ing and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has been provided to student officers during the summer to empower them to promote student mobility – what their students’ associations do to promote student mobility? Mainly focuses on raising awareness on the benefits of mobility, what the barriers are, and the activities they can carry out to communicate to the student body and gain more information within their HE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fare Pack: NUS Scotland produces a Welfare Pack to help students’ associations (student officers and staff) respond to various student welfare queries. The new edition will comprise a outgoing mobility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the end of the project, we will submit a series of recommendations to the Scottish Government with the cooperation of the European Student Working Gro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ropean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o operate a cultural change, we think it’s vital to expose our students to the European dimension by any means e.g. European pub quiz. This is why we are organising a study trip to Brussels for our European Student Working Group so they have a better understanding so concrete exposure to the EU stakehol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AD69-52ED-47AF-80BF-9F498A612A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ower students’ associ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ility at the heart of our work given the nature of our funding and the nature of student officers’ terms – we are therefore making sure training and information can be repeated year after year  so that students’ associations are effectively engaged in their HEIs (e.g. encouraging them to create Erasmus societies to then become members of the Erasmus Student Net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some examples of students’ associations taking up mobility promotion with or without the support of the universities’ international off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nections between all stakeholders of student mo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believe that part of the low uptake of mobility opportunities lies in a poor information flow to students. We are therefore working towards creating links between international offices and students’ associations so that they build links, share information and even co-organise ev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national level, we also ensure our NUS has a voice in committees and groups and nurture connections to be influential – e.g. Bologna Stakeholders Group, Europe Uni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st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Is all have different experiences regarding student mobility. We are aiming to facilitate sharing of best practice between them, particularly between students’ associations and international offices. An event will soon take place (Mobility Café)</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FAED-BA4A-4A55-BD65-B858480250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ider student bo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operate a cultural change and make mobility an automatic reflex, we need to work with the wider student body and get involved in more grassroots promotion event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st practice and conne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keep facilitating best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engage with stakeholders in their work to promote student mobility (e.g. work with ESN, monitor work of embedding mobility in the curriculu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nationalisation agen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going to look at the overall internationalisation agenda by working on the quality of experience of international students, and use the international added value they represent to operate a cultural towards international education on campus and make outward mobility a cultural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764640"/>
            <a:ext cx="8229600" cy="302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et'sGo_ppt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6156000" y="11556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ing in Europe – Enhancing Student Mobility</a:t>
            </a:r>
            <a:endParaRPr b="0" lang="en-US" sz="4400" spc="-1" strike="noStrike">
              <a:solidFill>
                <a:srgbClr val="000000"/>
              </a:solidFill>
              <a:latin typeface="Arial"/>
            </a:endParaRPr>
          </a:p>
        </p:txBody>
      </p:sp>
      <p:sp>
        <p:nvSpPr>
          <p:cNvPr id="48" name="PlaceHolder 2"/>
          <p:cNvSpPr>
            <a:spLocks noGrp="1"/>
          </p:cNvSpPr>
          <p:nvPr>
            <p:ph type="subTitle"/>
          </p:nvPr>
        </p:nvSpPr>
        <p:spPr>
          <a:xfrm>
            <a:off x="684360" y="2781360"/>
            <a:ext cx="7775280" cy="3168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Scottish experie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iam Burns</a:t>
            </a:r>
            <a:endParaRPr b="0" lang="en-US" sz="3200" spc="-1" strike="noStrike">
              <a:solidFill>
                <a:srgbClr val="000000"/>
              </a:solidFill>
              <a:latin typeface="Arial"/>
            </a:endParaRPr>
          </a:p>
        </p:txBody>
      </p:sp>
      <p:sp>
        <p:nvSpPr>
          <p:cNvPr id="49" name="Text Box 6"/>
          <p:cNvSpPr/>
          <p:nvPr/>
        </p:nvSpPr>
        <p:spPr>
          <a:xfrm>
            <a:off x="5005440" y="115920"/>
            <a:ext cx="4103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rPr>
              <a:t>Conference | Lille</a:t>
            </a:r>
            <a:br>
              <a:rPr sz="1400"/>
            </a:br>
            <a:r>
              <a:rPr b="1" lang="fr-BE" sz="1400" spc="-1" strike="noStrike">
                <a:solidFill>
                  <a:srgbClr val="ffffff"/>
                </a:solidFill>
                <a:latin typeface="Arial"/>
              </a:rPr>
              <a:t>6 &amp; 7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ject contex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49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nded by the Scottish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outgoing student for 2 incoming students (Erasm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students’ associations in promotion of student mo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ise awareness of the European dimension (Bologna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ject outpu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49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ference: </a:t>
            </a:r>
            <a:r>
              <a:rPr b="0" i="1" lang="en-GB" sz="3200" spc="-1" strike="noStrike">
                <a:solidFill>
                  <a:srgbClr val="000000"/>
                </a:solidFill>
                <a:latin typeface="Arial"/>
              </a:rPr>
              <a:t>Studying in Europe – Enhancing Student Mo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oklet: </a:t>
            </a:r>
            <a:r>
              <a:rPr b="0" i="1" lang="en-GB" sz="3200" spc="-1" strike="noStrike">
                <a:solidFill>
                  <a:srgbClr val="000000"/>
                </a:solidFill>
                <a:latin typeface="Arial"/>
              </a:rPr>
              <a:t>Wee Book of Studying in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ining and information to students’ associ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Europeanisation”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mmendations to the Scottish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ject rationa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49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n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uture work</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49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the wider student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rther best practice and conn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nationalisation agen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09:59:16Z</dcterms:created>
  <dc:creator>frederik DESTREE</dc:creator>
  <dc:description/>
  <dc:language>en-US</dc:language>
  <cp:lastModifiedBy>User</cp:lastModifiedBy>
  <dcterms:modified xsi:type="dcterms:W3CDTF">2009-05-26T17:58:54Z</dcterms:modified>
  <cp:revision>6</cp:revision>
  <dc:subject/>
  <dc:title>Slide 1</dc:title>
</cp:coreProperties>
</file>