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120A-5901-4520-B0D4-217574038EF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4763-7F69-45FE-97A1-B902FEC17B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DB2-A791-4AC2-AE52-EB159ECD63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905C-5EB3-497F-A6A5-15591847EA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03B-2D69-4739-B77A-A6FE3841B2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A47-F398-424A-8ADF-488F2BB856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9E8-4A62-4200-A581-AC73E442CC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[1]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31D-F047-429F-976E-73FADE8C24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asmus mobility is certainly a European success story - growing from a modest 3.000 students in 1987,[1] to the current situation where almost 160.000 students participate every year.  Five years ago, we celebrated one million Erasmus students. We aim to celebrate three million by 20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rasmus is still grow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new EU Member States have increased their figures by 10%. Erasmus mobility from candidate country Turkey grew by 56%. The UK figures are going up again after some years of decline.  However, in other countries, growth is slowing, or even decreasing. The overall growth rate was only 3% last year, compared to 7% in earlier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8AB-0531-4D80-B639-7D0C2D7B24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73E-41D8-4FB9-AD90-18DBE70A4E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639-E7F9-4971-905E-DFA27D8851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26B-1CD8-4AE6-9B35-FAB2BDB910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3AB3-81D2-435E-BCBC-63D05EEE7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C6CF-8DF2-405A-8EE8-B7021842FA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2D82-497A-4EF9-A0A9-9F1095EBA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447B-D438-4EE3-AEA1-BDFB68FB3A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71CB-F8AE-4D05-AC45-1BD04CC868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5DF6-7E12-4AC2-8715-01D13698A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04FF-F848-409F-8A04-B8C5A4901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63AA-440C-45E0-BD63-D7F398CD6C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EAEB-21AE-42A3-BA67-21357738AA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DF2E-3EE5-4D02-A1BE-5FEC1D930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69B4-E96C-434A-970F-3B3C7E526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7C9-F7F6-4015-8969-D038DFA1D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-Titel_EA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4"/>
          <p:cNvSpPr/>
          <p:nvPr/>
        </p:nvSpPr>
        <p:spPr>
          <a:xfrm>
            <a:off x="7858080" y="6324120"/>
            <a:ext cx="125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Tahoma"/>
              </a:rPr>
              <a:t>ecdc.europa.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PPT-Innen_EA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741720" y="6481440"/>
            <a:ext cx="213372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9DF9-E720-40D2-824A-3682AB6E41C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12"/>
          <p:cNvSpPr/>
          <p:nvPr/>
        </p:nvSpPr>
        <p:spPr>
          <a:xfrm>
            <a:off x="826920" y="17928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660240" y="459576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2060"/>
                </a:solidFill>
                <a:latin typeface="Tahoma"/>
                <a:ea typeface="Tahoma"/>
              </a:rPr>
              <a:t>Christian Ta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DG Education and Culture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264960" y="2276640"/>
            <a:ext cx="869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Fostering student mobility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0000"/>
                </a:solidFill>
                <a:latin typeface="Tahoma"/>
              </a:rPr>
              <a:t>Next step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22860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2287440"/>
            <a:ext cx="83692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HE developed a multidimensional ranking as a student information tool for German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ommission support for the CHE pilot project (Netherlands, Fland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Possibly extension to other European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2287440"/>
            <a:ext cx="83692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Ranking requires clarity on types of institutions: CHEPS typolog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ategories: Teaching, research, international orientation, LLL engagement, institutional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Typology of H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2409840"/>
            <a:ext cx="8369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21b7d"/>
                </a:solidFill>
                <a:latin typeface="Tahoma"/>
              </a:rPr>
              <a:t>Commission will contribute expertise gathered in various projects, like the classification project or Tu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9520" y="10796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OECD project on ass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HE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E64-A16C-45E9-95D7-484CE4B74EE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66760" y="241200"/>
            <a:ext cx="801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w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hthoek 4"/>
          <p:cNvSpPr/>
          <p:nvPr/>
        </p:nvSpPr>
        <p:spPr>
          <a:xfrm>
            <a:off x="177840" y="1536840"/>
            <a:ext cx="896616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Flexi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a rucksack of mobility credits for each student to spend at first, second or third cycle, for study or placement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European Student loans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: Commission and European Investment Bank discuss possible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Teacher and researcher mobility: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long term remains difficult (pensions, social security)-&gt; Communication on « better careers and more mobility », Ma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F745-2404-4ADC-89D1-2E147B7BC183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66760" y="241200"/>
            <a:ext cx="801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w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hthoek 4"/>
          <p:cNvSpPr/>
          <p:nvPr/>
        </p:nvSpPr>
        <p:spPr>
          <a:xfrm>
            <a:off x="177840" y="927000"/>
            <a:ext cx="896616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Common objective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by 2015 15% of all graduates should have been        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Two layer approach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bination of Erasmus and Erasmus Mund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21b7d"/>
                </a:solidFill>
                <a:latin typeface="Tahoma"/>
              </a:rPr>
              <a:t>Consequence: More fund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from governments, but also from regions,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munities, enterpris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F723-A67F-4602-8C9F-943104F5D9F5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36480" y="2763720"/>
            <a:ext cx="7099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ANK YOU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E13-22B0-48A7-BA16-168DF6179DBF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092240" y="1739880"/>
            <a:ext cx="8051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 Mun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Bologna sque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Mobility requires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3160" y="444600"/>
            <a:ext cx="631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847-F4E4-47C0-ADC2-AF7C41EBDA2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3040" y="1104840"/>
            <a:ext cx="894096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Has been around for a long time but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has never been higher on the European political agen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one of the priorities of the French presi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mmission: High level group of experts, to deliver report in J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Council has asked Commission to provide report on impact of Erasmus and Erasmus Mundus, Sept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uropean Parliament is preparing report on Bolo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03160" y="444600"/>
            <a:ext cx="631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3632-7B25-4130-8FBA-BF4B734A1835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96880" y="1473120"/>
            <a:ext cx="85471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1987: 3,244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2007: 160,000 stu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From 1,7 million to 3 million (20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3,4 % of graduates (including non-Erasmus: 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03160" y="444600"/>
            <a:ext cx="6311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Erasm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Towards Mobility Fo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CCB-8EAF-4ADF-9EBF-7E3B7DE3DCFD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760" y="241200"/>
            <a:ext cx="801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External dimen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Erasmus Mun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hthoek 4"/>
          <p:cNvSpPr/>
          <p:nvPr/>
        </p:nvSpPr>
        <p:spPr>
          <a:xfrm>
            <a:off x="241200" y="1346040"/>
            <a:ext cx="872496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New EU flagship programme sinc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Promotion of European Joint/double master deg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Attracting talented students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1b7d"/>
                </a:solidFill>
                <a:latin typeface="Tahoma"/>
              </a:rPr>
              <a:t>103 masters courses funded and some 6000 students and scholars support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New enlarged phase from 2009 to 2013 with a 900m€ budget, including doctor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www.study-in-Europ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F68-898F-4D01-B4D8-C420396FE9F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84280" y="1714680"/>
            <a:ext cx="8394480" cy="53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Erasmus mobility is stagnating or declining in some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Problem of curricular design – 5 years packed into 3 years-&gt; no mobility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Some HEI may have a preference for fee-paying non-European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Stagnating or decreasing Erasmus figures also in countries that are not or not yet affected by Bologna restru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03160" y="444600"/>
            <a:ext cx="6311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Points of concer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Bologna squee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42A-977D-416B-93D1-0B3E07F802A1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65240" y="1714680"/>
            <a:ext cx="897876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Vertical mo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(degree mobility): lack of transparency for students, lack of funding, by many HEI perceived as a threat rather than an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</a:t>
            </a: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Horizontal mobility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(credit mobility): needs more preparation than in the traditional one tier programmes – learning agreements, guaranteed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21b7d"/>
                </a:solidFill>
                <a:uFillTx/>
                <a:latin typeface="Tahoma"/>
              </a:rPr>
              <a:t>All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 programmes should have a mobility window, also 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21b7d"/>
                </a:solidFill>
                <a:latin typeface="Tahoma"/>
              </a:rPr>
              <a:t>Joint programmes, joint degrees</a:t>
            </a:r>
            <a:r>
              <a:rPr b="0" lang="fr-BE" sz="2800" spc="-1" strike="noStrike">
                <a:solidFill>
                  <a:srgbClr val="021b7d"/>
                </a:solidFill>
                <a:latin typeface="Tahoma"/>
              </a:rPr>
              <a:t>: very promising but require even more intensive preparation, QA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73040" y="44460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0000"/>
                </a:solidFill>
                <a:latin typeface="Tahoma"/>
              </a:rPr>
              <a:t>Changing mobility patterns, new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1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6E7-8523-4257-B045-37DD49A06B66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17520" y="990720"/>
            <a:ext cx="801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ahoma"/>
              </a:rPr>
              <a:t>Existing tools to boost 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hthoek 4"/>
          <p:cNvSpPr/>
          <p:nvPr/>
        </p:nvSpPr>
        <p:spPr>
          <a:xfrm>
            <a:off x="584280" y="1727280"/>
            <a:ext cx="76960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Bologna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21b7d"/>
                </a:solidFill>
                <a:latin typeface="Tahoma"/>
              </a:rPr>
              <a:t>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European Qualifications Framework for Lifelong Learning (EQ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European Quality Assurance Register in Higher Education (EQ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1280" y="2268360"/>
            <a:ext cx="836928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Make use of existing national registers of HEI and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Enrich them with performance data in education, research,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355680">
              <a:lnSpc>
                <a:spcPct val="100000"/>
              </a:lnSpc>
              <a:buClr>
                <a:srgbClr val="021b7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21b7d"/>
                </a:solidFill>
                <a:latin typeface="Tahoma"/>
              </a:rPr>
              <a:t>Mid-2008: DG RTD will launch call for tender for integrated European statistical inform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1040"/>
            <a:ext cx="8464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Mobility needs transpar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Tahoma"/>
              </a:rPr>
              <a:t>European database of H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a</dc:creator>
  <dc:description/>
  <dc:language>en-US</dc:language>
  <cp:lastModifiedBy>colloques</cp:lastModifiedBy>
  <dcterms:modified xsi:type="dcterms:W3CDTF">2008-05-30T06:59:25Z</dcterms:modified>
  <cp:revision>7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0408986</vt:r8>
  </property>
  <property fmtid="{D5CDD505-2E9C-101B-9397-08002B2CF9AE}" pid="3" name="_AuthorEmail">
    <vt:lpwstr>Eva.WENIGOVA@ec.europa.eu</vt:lpwstr>
  </property>
  <property fmtid="{D5CDD505-2E9C-101B-9397-08002B2CF9AE}" pid="4" name="_AuthorEmailDisplayName">
    <vt:lpwstr>WENIGOVA Eva (CAB-FIGEL)</vt:lpwstr>
  </property>
  <property fmtid="{D5CDD505-2E9C-101B-9397-08002B2CF9AE}" pid="5" name="_EmailEntryID">
    <vt:lpwstr>000000009937BAF179A2AA41AA9520B01A65E4E1070097BEE4CEBF8ED54E88C4DD8F8EB2DEBC000005D54D63000097BEE4CEBF8ED54E88C4DD8F8EB2DEBC000005D55BD20000</vt:lpwstr>
  </property>
  <property fmtid="{D5CDD505-2E9C-101B-9397-08002B2CF9AE}" pid="6" name="_EmailStoreID">
    <vt:lpwstr>0000000038A1BB1005E5101AA1BB08002B2A56C200006D737073742E646C6C00000000004E495441F9BFB80100AA0037D96E000000573A5C73616D6D6164695C4D7920466F6C64657273322D323030362D30372D32372E70737400</vt:lpwstr>
  </property>
  <property fmtid="{D5CDD505-2E9C-101B-9397-08002B2CF9AE}" pid="7" name="_EmailSubject">
    <vt:lpwstr>slides of JF</vt:lpwstr>
  </property>
  <property fmtid="{D5CDD505-2E9C-101B-9397-08002B2CF9AE}" pid="8" name="_NewReviewCycle">
    <vt:lpwstr/>
  </property>
  <property fmtid="{D5CDD505-2E9C-101B-9397-08002B2CF9AE}" pid="9" name="_ReviewingToolsShownOnce">
    <vt:lpwstr/>
  </property>
  <property fmtid="{D5CDD505-2E9C-101B-9397-08002B2CF9AE}" pid="10" name="_TentativeReviewCycleID">
    <vt:r8>2134519411</vt:r8>
  </property>
</Properties>
</file>