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055D-BBDE-47DC-AEDD-D1C2F617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EAC6-DD3B-4FFB-B2E8-CBE9CE5F5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3E68-7800-4A46-ABB6-CF7A52BF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B822-ED5B-4460-9055-063FDE7D7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4916-EF4D-4C34-A279-C3F89606D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2029-43BB-48CD-8A87-FECB0A22E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1DDE-F3F8-4B69-B8C5-77EE6C695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FDA9-C990-4FAC-BCBD-3CEC749B5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9800" y="534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D795-B4CD-4B28-937F-7226386E1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CB31-2A0B-4911-8F48-F14E5129F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3F1F-FE36-4DE6-BCF1-BFE8A236B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7292-BB0F-4026-9334-E9049352E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06A-A52F-4FF4-9D9D-2B7F4800DE6D}" type="slidenum">
              <a:rPr b="1" lang="en-US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3664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Attractiveness of Higher Education Institutions in the EHEA</a:t>
            </a:r>
            <a:br>
              <a:rPr sz="3200"/>
            </a:b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 a government perspective -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Luka Juroš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inistry of Science, Education and Spor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Republic of Croati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stering student mobility: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Bruxelles, May 29-30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Comparative advantages of EHEA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Culture of dialogu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ulticulturalit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Accessibility (relatively small siz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igh importance of social dimension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Diversity of HEI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Catering to different need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Bologna structural reform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Ease of mobility after completing education in one part of EHEA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Lower comparative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990000"/>
                </a:solidFill>
                <a:latin typeface="Arial"/>
              </a:rPr>
              <a:t>Things to consider in discussing competitiveness, attractiveness, openness, diversity </a:t>
            </a:r>
            <a:endParaRPr b="1" lang="en-US" sz="2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Why would people want to move from their home country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Excellence, culture, ease of access, reputation, quality, employability, infrastructure, equipment, ranking (inspired by ACA presentation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Who are the people who would want to move to the EHEA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esearchers (and their families); first and second cycle students; early stage researchers (PhD students); summer school students; exchange stude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long do they aim to stay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do different parts of EHEA attract different peopl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How does globalization agenda relate to attractiveness of EHEA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nking, diversification, massification,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Points for discuss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e existing external dimension strategy covers many important activit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nforming, discussing, participating, includ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Many attractiveness topics may be addressed as part of other Bologna action lin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Quality, recognition, portability of grants and loans, employability, joint degrees, social dimension, three-cycle system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ustained effort needed on other action lines!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evelopment of national attractiveness strateg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he questions on the previous slide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iscussing approaches to attractiveness on the EHEA level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he questions on the previous slide?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04920" y="808200"/>
            <a:ext cx="707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09280" y="3927240"/>
            <a:ext cx="6991560" cy="21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 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www.mzos.hr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hone: 00385/1/4594-209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luka.juros@mzos.hr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ress: Trg hrvatskih velikana 6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R-10000 Zagreb, Croatia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1484280"/>
            <a:ext cx="70484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4 questions will be broadly touched up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can mobility strategies – developed at European, national and institutional level – contribute to the attractiveness of HEIs in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 competitiveness, attractiveness, openness and diversity compatible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are the comparative advantages of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can we assess the EHEA in comparison with higher education in other regions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00"/>
                </a:solidFill>
                <a:latin typeface="Arial"/>
              </a:rPr>
              <a:t>EHEA outside Europe?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Bologna Process received highly positive assessment outside Europe; critics only exist inside Europe” (E. E. Polak, IAU, May 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 am studying here because I get a Masters degree quicker and for much less money. The degree is only partially recognized for study back home, but the Schools reputation helps a lot in employment” (US student at LSE, 2006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ECD policy directions on attractiveness of HE systems (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Develop alternatives to current global rankings”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Enhance international comparability of HE system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Improve information on HE system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Foster quality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Currently on the table? External dimension strategy of 2007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roving Information on the EHE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moting European Higher Education to enhance its world-wide attractiveness and competitivenes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et up body for promotion of HE abroa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Work outside HE policy to promote mobility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ngthening Cooperation based on partnership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nsifying policy dialogu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Cooperation of HEIs and policymakers with HE actors outside Europ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rthering recognition of qualification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Facilitate mobility – make it easier to reach EHEA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0000"/>
                </a:solidFill>
                <a:latin typeface="Arial"/>
              </a:rPr>
              <a:t>Looking back at OECD recommendations, most items are on the agenda alread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Attractiveness: who aims for what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Why would people want to move from their home country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Who are the people who would want to move to the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long do they aim to stay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do different parts of EHEA attract different people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ow does globalization agenda relate to attractiveness of EHEA?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Diversity in national and institutional strateg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Wider context - competitiveness, attractiveness, openness, diversit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Massification, diversification, globalization / internationalization of HE, global HE ranking system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HEIs build their own attractiveness agenda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Adapted to own needs and country prioritie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Country attractiveness agendas are twofol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National agendas and European agenda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EHEA and EU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What is the context of discussing competitiveness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UK and Croatia may have different posi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But!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Picture 5" descr="DSC01234_7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Marketing of higher education abroad on the national level in EHEA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Groups differ according to how active they are on the national level in promotion of their HE system abroad (source: Bernd Wächter, ACA, 2008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ource GDP figures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national Monetary Fund, World Economic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utlook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ctober 2007 databas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4520" y="1776240"/>
          <a:ext cx="7589520" cy="327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520" y="1776240"/>
                    <a:ext cx="7589520" cy="32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800" y="53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Global dimension according to</a:t>
            </a:r>
            <a:br>
              <a:rPr sz="3200"/>
            </a:b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European HEI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EUA Trends V report (2007) – attractiveness of EHEA (in brackets are Trends III 2003 report results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86% EU (92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62% Eastern Europe (62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59% Asia (40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50% US/Canada (57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21% Arab World (16%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is is (relatively) unsurprisin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Youth of European integra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Youth of BFU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This may be engine for future growth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7:33:16Z</dcterms:created>
  <dc:creator>Luka Juros</dc:creator>
  <dc:description/>
  <dc:language>en-US</dc:language>
  <cp:lastModifiedBy>rackeco</cp:lastModifiedBy>
  <dcterms:modified xsi:type="dcterms:W3CDTF">2008-06-02T13:03:05Z</dcterms:modified>
  <cp:revision>30</cp:revision>
  <dc:subject/>
  <dc:title>Slide 1</dc:title>
</cp:coreProperties>
</file>