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1.wmf" ContentType="image/x-wmf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682-1B4F-4020-9A7A-374892EF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95B-7A57-4BFB-BF29-C816C31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630-C7A2-4662-9F42-8BC57B69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F14-40B2-41D7-9DA2-E9961BBD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19D9-7C89-49C0-BD16-A7140C40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5DA9-7F6D-4DB2-B21B-72A0BCA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934-14B8-4FC4-9261-E53D44E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0A7D-F76F-4E31-A9CB-C5AF122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07AD-6051-47E8-B1E0-10D2ED98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FBC2-27C8-4D66-8BAB-4AE8BFF3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9971-6807-4EFD-991B-8754D4D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C02-F505-474F-8A12-4C72C796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A85-8B7B-4ED3-ACAA-4BF6460B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8F0-9F71-44E6-93C8-2FCA8FE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E43-69C0-4E58-AF8A-6FD6617F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3FD-55E5-45D0-BB9C-6FA48ED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40E3-C182-42C4-B7AB-637358EB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562-BAE2-43D6-98FA-71970FA3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762-B9A9-418D-A354-BB2B42BD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454-216F-4B7D-8C90-0D0506C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9AC-D8E8-4FA3-B825-E97B301E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D76-1C80-4096-A152-14302AB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AD1-95F3-4FD3-A187-B67C0DBE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3B2-93FA-4DFA-A26D-F1F1253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29 May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43F-C9C4-4D80-9370-8DDDA7B2DBD5}" type="slidenum">
              <a:rPr b="0" lang="de-A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/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59880" y="260280"/>
            <a:ext cx="857160" cy="2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BF10-3A0A-4B33-99D4-7435AFE50409}" type="slidenum">
              <a:rPr b="0" lang="de-A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15080" y="260280"/>
            <a:ext cx="1133640" cy="309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Arial"/>
              </a:rPr>
              <a:t>Bologna conference: Asymmetric Mobil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cccc"/>
                </a:solidFill>
                <a:latin typeface="Verdana"/>
              </a:rPr>
              <a:t>Medical sciences in Austr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ristian SEI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9 May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rst-year students medical students (including dentistry) in Austria: 2004 – 2005 - 2006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35880" cy="454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616572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Abt. I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988-01AF-4882-ADD7-9AA9429770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rmans studying</a:t>
            </a: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 in Aust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76360" y="1557360"/>
          <a:ext cx="7086600" cy="43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7086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55640" y="5877000"/>
            <a:ext cx="77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Quelle: BM.WF Abt. I/9 Datenmeldungen der Universitäten auf Basis UniStEV zum jeweiligen Stich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43F-AA52-42FD-B7B9-F93B29062A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Medical students in Germany (Germans / non-Germans, gender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8592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76360" y="6021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Statistisches Bundesamt Deutschland http://www.destatis.de/indicators/d/lrbil05a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095-5D38-47BA-8EBE-D84B1E831E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pplicants and study places for medical studies in German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832200" cy="44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D8E-2E6B-4A33-B07E-938952B29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egional provenance of German medical students</a:t>
            </a: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03280" y="1557360"/>
          <a:ext cx="7086600" cy="43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7086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116000" y="5950080"/>
            <a:ext cx="655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Abt.I/9 Datenmeldung der Universitäten zum jeweiligen Stich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4C1-94B3-42EC-A734-87B3A87A91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uble age-groups with German „Abitur“ – Bavaria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61080" cy="404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87280" y="6021360"/>
            <a:ext cx="69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Quelle: CHE – Centrum für Hochschulentwicklung; Fächerspezifische Kostenstrukturen für Studienplätze nach Bundesländern; Materialien zum Studierendenhoch Arbeitspapier Nr.82, Jänn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5661000"/>
            <a:ext cx="46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sis I: Durchschnitt 2000 – 2004; Basis II: Daten des Jahres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1628640"/>
            <a:ext cx="1152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05F-F992-4F18-ACBF-746C24FAA7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uble age-groups with German „Abitur“ – Baden-Wurttemberg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61080" cy="4040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950080"/>
            <a:ext cx="6948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Quelle: CHE – Centrum für Hochschulentwicklung; Fächerspezifische Kostenstrukturen für Studienplätze nach Bundesländern; Materialien zum Studierendenhoch Arbeitspapier Nr.82, Jänn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82400" y="56610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sis I: Durchschnitt 2000 – 2004; Basis II: Daten des Jahres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1773360"/>
            <a:ext cx="1152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75B-3AEA-4250-A87C-40AA0777F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uble age-groups with German „Abitur“ – North Rhine-Westphalia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56108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32000" y="5950080"/>
            <a:ext cx="698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Quelle: CHE – Centrum für Hochschulentwicklung; Fächerspezifische Kostenstrukturen für Studienplätze nach Bundesländern; Materialien zum Studierendenhoch Arbeitspapier Nr.82, Jänn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98400" y="5661000"/>
            <a:ext cx="40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sis I: Durchschnitt 2000 – 2004; Basis II: Daten des Jahres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700280"/>
            <a:ext cx="1368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BD1-DBAB-4568-A5CC-71A0776DA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3300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ustrian efforts in medical education compared to German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515772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Deutschland: Statistisches Bundesam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BV – Kassenärztliche Bundesvereinig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sterreich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istik Austria, BM.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1844640"/>
          <a:ext cx="7272360" cy="3054240"/>
        </p:xfrm>
        <a:graphic>
          <a:graphicData uri="http://schemas.openxmlformats.org/drawingml/2006/table">
            <a:tbl>
              <a:tblPr/>
              <a:tblGrid>
                <a:gridCol w="2519280"/>
                <a:gridCol w="1657440"/>
                <a:gridCol w="151128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Deutschland (20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Österreich (20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AT in %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Ärztebest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307,5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6,7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1.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Studierende Mediz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79,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,0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21.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Anteil Inländer/i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8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Anteil Ausländer/i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AF1-13B5-466A-AA0B-FF2CF0A52B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German medical students in Austria – absolute figures (2004, 2005, 2006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32000" y="1587600"/>
            <a:ext cx="733716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18C-1FDE-417C-A4E5-8D974A848C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Justification for public interven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27160" y="1946160"/>
            <a:ext cx="5686560" cy="3029040"/>
            <a:chOff x="2027160" y="1946160"/>
            <a:chExt cx="5686560" cy="3029040"/>
          </a:xfrm>
        </p:grpSpPr>
        <p:sp>
          <p:nvSpPr>
            <p:cNvPr id="96" name="_s122888"/>
            <p:cNvSpPr/>
            <p:nvPr/>
          </p:nvSpPr>
          <p:spPr>
            <a:xfrm>
              <a:off x="41022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2889"/>
            <p:cNvSpPr/>
            <p:nvPr/>
          </p:nvSpPr>
          <p:spPr>
            <a:xfrm>
              <a:off x="4102200" y="194616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cccc"/>
                  </a:solidFill>
                  <a:latin typeface="Verdana"/>
                </a:rPr>
                <a:t>Education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22890"/>
            <p:cNvSpPr/>
            <p:nvPr/>
          </p:nvSpPr>
          <p:spPr>
            <a:xfrm>
              <a:off x="460836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2891"/>
            <p:cNvSpPr/>
            <p:nvPr/>
          </p:nvSpPr>
          <p:spPr>
            <a:xfrm>
              <a:off x="617544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66"/>
                  </a:solidFill>
                  <a:latin typeface="Verdana"/>
                </a:rPr>
                <a:t>Health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22892"/>
            <p:cNvSpPr/>
            <p:nvPr/>
          </p:nvSpPr>
          <p:spPr>
            <a:xfrm>
              <a:off x="359568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2893"/>
            <p:cNvSpPr/>
            <p:nvPr/>
          </p:nvSpPr>
          <p:spPr>
            <a:xfrm>
              <a:off x="202716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b2b2b2"/>
                  </a:solidFill>
                  <a:latin typeface="Verdana"/>
                </a:rPr>
                <a:t>Economic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667-E6B4-4C58-B9A4-8171BA8C00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3300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Gender balance of medical students in Austria (2005/06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515772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, BM.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1844640"/>
          <a:ext cx="7705800" cy="2951280"/>
        </p:xfrm>
        <a:graphic>
          <a:graphicData uri="http://schemas.openxmlformats.org/drawingml/2006/table">
            <a:tbl>
              <a:tblPr/>
              <a:tblGrid>
                <a:gridCol w="1079640"/>
                <a:gridCol w="1655640"/>
                <a:gridCol w="865080"/>
                <a:gridCol w="1150920"/>
                <a:gridCol w="865440"/>
                <a:gridCol w="1368360"/>
                <a:gridCol w="720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Overall number of medical students 2005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Students from 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Students from outside 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11,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,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2,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8,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,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cccc"/>
                          </a:solidFill>
                          <a:latin typeface="Verdana"/>
                        </a:rPr>
                        <a:t>19,9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5,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4,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7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FC8-8AF0-48F7-A676-6599C83DF9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Economic dimen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027160" y="1946160"/>
            <a:ext cx="5686560" cy="3029040"/>
            <a:chOff x="2027160" y="1946160"/>
            <a:chExt cx="5686560" cy="3029040"/>
          </a:xfrm>
        </p:grpSpPr>
        <p:sp>
          <p:nvSpPr>
            <p:cNvPr id="176" name="_s142341"/>
            <p:cNvSpPr/>
            <p:nvPr/>
          </p:nvSpPr>
          <p:spPr>
            <a:xfrm>
              <a:off x="41022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42342"/>
            <p:cNvSpPr/>
            <p:nvPr/>
          </p:nvSpPr>
          <p:spPr>
            <a:xfrm>
              <a:off x="4102200" y="194616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42343"/>
            <p:cNvSpPr/>
            <p:nvPr/>
          </p:nvSpPr>
          <p:spPr>
            <a:xfrm>
              <a:off x="460836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42344"/>
            <p:cNvSpPr/>
            <p:nvPr/>
          </p:nvSpPr>
          <p:spPr>
            <a:xfrm>
              <a:off x="617544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42345"/>
            <p:cNvSpPr/>
            <p:nvPr/>
          </p:nvSpPr>
          <p:spPr>
            <a:xfrm>
              <a:off x="359568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42346"/>
            <p:cNvSpPr/>
            <p:nvPr/>
          </p:nvSpPr>
          <p:spPr>
            <a:xfrm>
              <a:off x="202716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b2b2b2"/>
                  </a:solidFill>
                  <a:latin typeface="Verdana"/>
                </a:rPr>
                <a:t>Economic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841-2802-4AB7-9AB0-FAA4F1047E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atio between students and resources at medical universit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6165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Studierende und Berechnungsmethode Abt. I/7; Budget Abt. I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03280" y="1517760"/>
          <a:ext cx="7327800" cy="47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17760"/>
                    <a:ext cx="7327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EBB-5E7B-441D-8310-06BE39A110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atio between students and resources outside the medical universit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6093000"/>
            <a:ext cx="6659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BM.WF Studierende und Berechnungsmethode Abt. I/7; Budget Abt. I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55640" y="1484280"/>
          <a:ext cx="8209080" cy="40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820908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7F2-A3C4-404B-B382-B7978EAAD0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tate expenditure on medical studies compared to other studies (absolute figure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13268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E56-95EF-4ECD-AB64-C0E9021E59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erman reflections on a model for study grants for full studies abroad</a:t>
            </a: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(English version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98900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great advantage of this model is the effect of great relief on the capacity of the German higher education system that can be achieved in the short term, since a complete place at a university missing in Germany can be replaced per student who completes all of his bachelor studies abroad. Depending on the financial set-up of the study grants for studies abroad, such a solution could also be more advantageous with regard to the direct costs than creating an equivalent place at a university in Germany.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5013360"/>
            <a:ext cx="69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Quelle: Centrum für Hochschulentwicklung, Deutschland, Arbeitspapier 86, März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0D1-810C-4474-91AF-AE63293574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Health dimen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27160" y="1946160"/>
            <a:ext cx="5686560" cy="3029040"/>
            <a:chOff x="2027160" y="1946160"/>
            <a:chExt cx="5686560" cy="3029040"/>
          </a:xfrm>
        </p:grpSpPr>
        <p:sp>
          <p:nvSpPr>
            <p:cNvPr id="104" name="_s144389"/>
            <p:cNvSpPr/>
            <p:nvPr/>
          </p:nvSpPr>
          <p:spPr>
            <a:xfrm>
              <a:off x="41022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44390"/>
            <p:cNvSpPr/>
            <p:nvPr/>
          </p:nvSpPr>
          <p:spPr>
            <a:xfrm>
              <a:off x="4102200" y="194616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44391"/>
            <p:cNvSpPr/>
            <p:nvPr/>
          </p:nvSpPr>
          <p:spPr>
            <a:xfrm>
              <a:off x="460836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44392"/>
            <p:cNvSpPr/>
            <p:nvPr/>
          </p:nvSpPr>
          <p:spPr>
            <a:xfrm>
              <a:off x="617544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66"/>
                  </a:solidFill>
                  <a:latin typeface="Verdana"/>
                </a:rPr>
                <a:t>Health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44393"/>
            <p:cNvSpPr/>
            <p:nvPr/>
          </p:nvSpPr>
          <p:spPr>
            <a:xfrm>
              <a:off x="359568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4394"/>
            <p:cNvSpPr/>
            <p:nvPr/>
          </p:nvSpPr>
          <p:spPr>
            <a:xfrm>
              <a:off x="2027160" y="4591080"/>
              <a:ext cx="1538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59F-7465-4A1F-81A6-2415E49A4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Retirement of doctors in Austria </a:t>
            </a:r>
            <a:br>
              <a:rPr sz="3200"/>
            </a:b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(2007 – 2030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1773360"/>
          <a:ext cx="770400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77040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835280" y="623736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2CD-FCEE-4CA0-A5F6-8E6B1FFE3C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ge pyramid of doctors in German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502452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3CD-42B9-467B-88D9-3767E435D1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Doctors needed in Austria 2007–2030, substitution and addition (forecas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14680" y="1827360"/>
            <a:ext cx="662292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58770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E3D-C2F5-4EB5-8139-A32ABBF34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Doctors needed in Austria 2007 – 2030, including average number (forecast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32000" y="1557360"/>
          <a:ext cx="7313400" cy="40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57360"/>
                    <a:ext cx="73134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58920" y="57340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F32-4F21-4C08-8B46-5D39A806B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Doctors needed in Austria from 2019 – 2030 (balance demand / supply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70160"/>
          <a:ext cx="807552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70160"/>
                    <a:ext cx="80755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4292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elle: Ärztekammer, W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E47-9E4F-4747-B89B-C091AFFF9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Education dimen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01920" y="1946160"/>
            <a:ext cx="4932360" cy="3030480"/>
            <a:chOff x="2401920" y="1946160"/>
            <a:chExt cx="4932360" cy="3030480"/>
          </a:xfrm>
        </p:grpSpPr>
        <p:sp>
          <p:nvSpPr>
            <p:cNvPr id="129" name="_s140293"/>
            <p:cNvSpPr/>
            <p:nvPr/>
          </p:nvSpPr>
          <p:spPr>
            <a:xfrm>
              <a:off x="4100400" y="2484360"/>
              <a:ext cx="1538280" cy="1538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40294"/>
            <p:cNvSpPr/>
            <p:nvPr/>
          </p:nvSpPr>
          <p:spPr>
            <a:xfrm>
              <a:off x="4289400" y="1946160"/>
              <a:ext cx="1160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cccc"/>
                  </a:solidFill>
                  <a:latin typeface="Verdana"/>
                </a:rPr>
                <a:t>Education 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40295"/>
            <p:cNvSpPr/>
            <p:nvPr/>
          </p:nvSpPr>
          <p:spPr>
            <a:xfrm>
              <a:off x="4606920" y="3362400"/>
              <a:ext cx="1538280" cy="1538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40296"/>
            <p:cNvSpPr/>
            <p:nvPr/>
          </p:nvSpPr>
          <p:spPr>
            <a:xfrm>
              <a:off x="6173640" y="4592520"/>
              <a:ext cx="1160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0297"/>
            <p:cNvSpPr/>
            <p:nvPr/>
          </p:nvSpPr>
          <p:spPr>
            <a:xfrm>
              <a:off x="3594240" y="3362400"/>
              <a:ext cx="1538280" cy="1538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40298"/>
            <p:cNvSpPr/>
            <p:nvPr/>
          </p:nvSpPr>
          <p:spPr>
            <a:xfrm>
              <a:off x="2401920" y="4591080"/>
              <a:ext cx="1160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968-CD2F-4B3D-B589-217B0706A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4:01:17Z</dcterms:created>
  <dc:creator>muster</dc:creator>
  <dc:description/>
  <dc:language>en-US</dc:language>
  <cp:lastModifiedBy>CFWB</cp:lastModifiedBy>
  <dcterms:modified xsi:type="dcterms:W3CDTF">2008-05-28T12:20:59Z</dcterms:modified>
  <cp:revision>85</cp:revision>
  <dc:subject/>
  <dc:title>Folie 1</dc:title>
</cp:coreProperties>
</file>