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6F5-3976-4E9B-8315-3288B1CE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2AA-AEEE-454D-89DD-8E8F07F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F3D-795A-42AA-AE4F-A344D19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284-1138-4ABE-A9DD-3710FBF6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452-5175-44D4-878E-42293A5B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0CF-86AB-43B7-B383-E63327E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ACB-8890-46FF-A0F9-8BCF7A7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F20-DA7D-4D5E-BDFC-D571838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6BF-2116-4BDE-898E-7FBFD85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E97-8B3F-407C-8772-FFCDAD2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AD3-C2CA-4D73-8488-6412444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6E2-0807-4354-9925-45F63C7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85BD-AB1C-44DA-996D-211848A5BF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nseignement.be/prof/espaces/sup/mobilite/index.asp" TargetMode="External"/><Relationship Id="rId3" Type="http://schemas.openxmlformats.org/officeDocument/2006/relationships/hyperlink" Target="http://www.oecd.org/" TargetMode="External"/><Relationship Id="rId4" Type="http://schemas.openxmlformats.org/officeDocument/2006/relationships/hyperlink" Target="http://www.eurydice.org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33720"/>
            <a:ext cx="914400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stering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Student Mobility: Next Ste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29 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3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2997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Bologna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By Pascale Genbrug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International Relations’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492280"/>
            <a:ext cx="7993080" cy="165600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924280"/>
            <a:ext cx="799308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ducationa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148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2)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372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3) Financia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1) Attractiveness of HEI from an educational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924280"/>
            <a:ext cx="799308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148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2280"/>
            <a:ext cx="7993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gher Education Institution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2) Attractiveness of HEI depends on the country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2708280"/>
            <a:ext cx="7993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437000"/>
            <a:ext cx="799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ulture and men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799308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st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500280"/>
            <a:ext cx="7993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ibility and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73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3) Attractiveness of HEI from a financial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924280"/>
            <a:ext cx="799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st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645000"/>
            <a:ext cx="799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557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141720"/>
            <a:ext cx="799308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ai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seignement.be/prof/espaces/sup/mobilite/index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ec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uryd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00920" y="1159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931638"/>
                </a:solidFill>
                <a:latin typeface="Comic Sans MS"/>
              </a:rPr>
              <a:t>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557360"/>
            <a:ext cx="7993080" cy="790560"/>
          </a:xfrm>
          <a:prstGeom prst="roundRect">
            <a:avLst>
              <a:gd name="adj" fmla="val 16667"/>
            </a:avLst>
          </a:prstGeom>
          <a:solidFill>
            <a:srgbClr val="931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Attractiveness of HEI from students’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573360"/>
            <a:ext cx="799308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93163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163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324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350028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Union de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tudiants de la Communauté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Avenue des Arts, 50/Bte 19 - 02/541.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omic Sans MS"/>
              </a:rPr>
              <a:t>info@unecof.be - www.unecof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3:57:27Z</dcterms:created>
  <dc:creator>Xavier Dupont</dc:creator>
  <dc:description/>
  <dc:language>en-US</dc:language>
  <cp:lastModifiedBy>CFWB</cp:lastModifiedBy>
  <dcterms:modified xsi:type="dcterms:W3CDTF">2008-05-28T06:51:15Z</dcterms:modified>
  <cp:revision>76</cp:revision>
  <dc:subject/>
  <dc:title>Diapositive 1</dc:title>
</cp:coreProperties>
</file>