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601200" cy="73152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F71-9DD6-456C-97B8-02EAE18E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39320" y="4244040"/>
            <a:ext cx="816156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1E9-5CCD-45B6-8967-989A3DBE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21440" y="195120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39320" y="424404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21440" y="424404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F9A-D8C9-4F99-9677-1424A4D8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262764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98720" y="1951200"/>
            <a:ext cx="262764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8120" y="1951200"/>
            <a:ext cx="262764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39320" y="4244040"/>
            <a:ext cx="262764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98720" y="4244040"/>
            <a:ext cx="262764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8120" y="4244040"/>
            <a:ext cx="262764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4F01-4328-4AFE-881B-88487E69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FA6-AE20-4A9C-B61E-91CA9A02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A236-4634-4D95-BBDB-DE8A9710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398268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1440" y="1951200"/>
            <a:ext cx="398268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27C-48E9-4F88-BCC7-D310B924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225-9C1F-4CE4-B586-9EA85D53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1000" y="406080"/>
            <a:ext cx="6959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CA6A-82B5-42FD-BA7C-8859FDA5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21440" y="1951200"/>
            <a:ext cx="398268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39320" y="424404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7D6-5A76-4EA0-8C87-80FE4FEF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398268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1440" y="195120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1440" y="424404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E21-D306-435B-AA3E-D4692F37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1440" y="1951200"/>
            <a:ext cx="398268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39320" y="4244040"/>
            <a:ext cx="8161560" cy="209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AAF-016D-4A38-87D5-41D5C549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7375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700" spc="-1" strike="noStrike">
                <a:solidFill>
                  <a:srgbClr val="990000"/>
                </a:solidFill>
                <a:latin typeface="Tahoma"/>
              </a:rPr>
              <a:t>Click to edit the title text format</a:t>
            </a:r>
            <a:endParaRPr b="1" lang="en-US" sz="47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85880" indent="-303120">
              <a:spcBef>
                <a:spcPts val="850"/>
              </a:spcBef>
              <a:buClr>
                <a:srgbClr val="000000"/>
              </a:buClr>
              <a:buFont typeface="Tahoma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92360" indent="-243000">
              <a:spcBef>
                <a:spcPts val="850"/>
              </a:spcBef>
              <a:buClr>
                <a:srgbClr val="000000"/>
              </a:buClr>
              <a:buFont typeface="Tahoma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Tahoma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Tahoma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Tahoma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0720" y="6664320"/>
            <a:ext cx="2000160" cy="48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0840" y="6989400"/>
            <a:ext cx="3919320" cy="406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80320" y="6664320"/>
            <a:ext cx="2000160" cy="48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F59C3-4E9B-4E78-8A46-52C5619D0708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81000"/>
            <a:ext cx="1200240" cy="12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2240" y="5386320"/>
            <a:ext cx="309564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2100" spc="-1" strike="noStrike">
                <a:solidFill>
                  <a:srgbClr val="990000"/>
                </a:solidFill>
                <a:latin typeface="Tahoma"/>
              </a:rPr>
              <a:t>Bernd Wächt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2100" spc="-1" strike="noStrike">
                <a:solidFill>
                  <a:srgbClr val="990000"/>
                </a:solidFill>
                <a:latin typeface="Tahoma"/>
              </a:rPr>
              <a:t>Director, AC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44600" y="4304880"/>
            <a:ext cx="6958080" cy="1127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Tahoma"/>
              </a:rPr>
              <a:t>Fostering student mobilit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Bruxelles 29 May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23880" y="2505240"/>
            <a:ext cx="8161200" cy="156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3600" spc="-1" strike="noStrike">
                <a:solidFill>
                  <a:srgbClr val="990000"/>
                </a:solidFill>
                <a:latin typeface="Tahoma"/>
              </a:rPr>
              <a:t>Student mobility.</a:t>
            </a:r>
            <a:br>
              <a:rPr sz="3600"/>
            </a:br>
            <a:r>
              <a:rPr b="1" lang="fr-BE" sz="2000" spc="-1" strike="noStrike">
                <a:solidFill>
                  <a:srgbClr val="990000"/>
                </a:solidFill>
                <a:latin typeface="Tahoma"/>
              </a:rPr>
              <a:t>What is the realistic picture in the EHEA today?</a:t>
            </a:r>
            <a:r>
              <a:rPr b="1" lang="fr-BE" sz="36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Impacts of Bologna on mobility: </a:t>
            </a:r>
            <a:br>
              <a:rPr sz="3200"/>
            </a:b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degree mobility / UNESCO Data</a:t>
            </a:r>
            <a:endParaRPr b="1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ESCO Data 2002-2006 for EHEA countries: most countries rise between 20 and 50%, some over 100%, others dr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umbers slightly suspect: methodological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verall impression: EHEA growth, roughly in line with global grow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 clear indication of positive or negative Bologna eff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Impacts of Bologna on mobility: </a:t>
            </a:r>
            <a:br>
              <a:rPr sz="2800"/>
            </a:b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Surveys and studies</a:t>
            </a:r>
            <a:endParaRPr b="1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tonishingly little research on a hotly debated iss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HER/GES 2006 (incoming and outgoing credit mobility in 11 European countries) in institutions ‘in transition’ to Bachelor/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880" indent="-3031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 and 4% report mobility incr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880" indent="-3031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1 and 56 % report st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880" indent="-3031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5 and 40% report decr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t: same respondents expect in the futur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880" indent="-3031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55% incr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880" indent="-3031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4% st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880" indent="-3031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% decr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ke other studies (DAAD, 2006, HIS 2007): mostly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felt mobility’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880" indent="0"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4000" spc="-1" strike="noStrike">
                <a:solidFill>
                  <a:srgbClr val="990000"/>
                </a:solidFill>
                <a:latin typeface="Tahoma"/>
              </a:rPr>
              <a:t>That was it. </a:t>
            </a:r>
            <a:endParaRPr b="1" lang="en-US" sz="40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4000" spc="-1" strike="noStrike">
                <a:solidFill>
                  <a:srgbClr val="990000"/>
                </a:solidFill>
                <a:latin typeface="Tahoma"/>
              </a:rPr>
              <a:t>Thank you for your kind attention.</a:t>
            </a:r>
            <a:r>
              <a:rPr b="1" lang="en-GB" sz="34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84120" y="561600"/>
            <a:ext cx="785664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3800" spc="-1" strike="noStrike">
                <a:solidFill>
                  <a:srgbClr val="990000"/>
                </a:solidFill>
                <a:latin typeface="Tahoma"/>
              </a:rPr>
              <a:t>A few words on ACA</a:t>
            </a:r>
            <a:endParaRPr b="1" lang="en-US" sz="3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20240" y="2198160"/>
            <a:ext cx="6721560" cy="4388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Tahoma"/>
              </a:rPr>
              <a:t>A (mainly) European association of national organisations in internationalis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Tahoma"/>
              </a:rPr>
              <a:t>Promoting innovation through internationalis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Tahoma"/>
              </a:rPr>
              <a:t>Studies and expert opinion on (international) HE developmen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958680" indent="-475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Tahoma"/>
              </a:rPr>
              <a:t>English-taught programmes in Europ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958680" indent="-475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Tahoma"/>
              </a:rPr>
              <a:t>EURODATA (global student mobility stats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958680" indent="-475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Tahoma"/>
              </a:rPr>
              <a:t>Perceptions of European HE worldwi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958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Tahoma"/>
              </a:rPr>
              <a:t>Seminars and conferences, such a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BE" sz="2200" spc="-1" strike="noStrike">
                <a:solidFill>
                  <a:srgbClr val="000000"/>
                </a:solidFill>
                <a:latin typeface="Tahoma"/>
              </a:rPr>
              <a:t>Beyond 2010. European HE in the next decade</a:t>
            </a:r>
            <a:r>
              <a:rPr b="1" lang="fr-BE" sz="2200" spc="-1" strike="noStrike">
                <a:solidFill>
                  <a:srgbClr val="000000"/>
                </a:solidFill>
                <a:latin typeface="Tahoma"/>
              </a:rPr>
              <a:t>, Tallinn, 15-17 Ju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Bologna and mobility: differentiation by type</a:t>
            </a:r>
            <a:endParaRPr b="1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differentiate by type of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ectations regarding intra-European (intra-EHEA) mo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ectations regarding mobility into Europe / EH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ectations regarding ‘degree’ mobility vs. ‘credit’ (temporary)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Bologna and mobility: frequent expectations </a:t>
            </a:r>
            <a:endParaRPr b="1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 expectation (or objective): an increase of mobilit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bility into the EHEA: increase due to enhanced ‘readability’ of degrees (compatible with ‘international’ standard) and QA (selection criteria for destination choice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a-European mobility: originally (naïve?) expectation of increase. Later (at least in parts of EHEA) fear of a decrease in short term mobility inside the EHEA, due to shorter duration and higher density of program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ion of debate on short-term mobility (in ironical contrast to quantitative importanc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2760" y="968040"/>
            <a:ext cx="69613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Bologna and mobility: rarely made observations</a:t>
            </a:r>
            <a:endParaRPr b="1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20600" y="2506680"/>
            <a:ext cx="8159760" cy="4387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Tahoma"/>
              </a:rPr>
              <a:t>Intra-European credit mobility could lose its lustre (competing opportunities of international / intercultural exposur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Tahoma"/>
              </a:rPr>
              <a:t>Competitiveness of EHEA might undermine the ‘all are equal’ assumption in European HE, and result in decreased recognition of credits / decreased mobil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Tahoma"/>
              </a:rPr>
              <a:t>Same phenomenon could (but need not) increase intra-European degree mobility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Impacts of Bologna on mobility: difficulties</a:t>
            </a:r>
            <a:endParaRPr b="1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0">
              <a:spcBef>
                <a:spcPts val="4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arly days: even in ‘early EHEA’ countries, hardly any student cohorts have gone through both cy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udent mobility influenced by many factors (in parallel/addition to ‘Bologna’): difficulty to isolate the Bologna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udent mobility statistics leave much to be desired and thus hamper impact assessment (for example, no international data collection on credit mobility at a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Impacts of Bologna on mobility: </a:t>
            </a:r>
            <a:br>
              <a:rPr sz="2800"/>
            </a:b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credit mobility / Erasmus</a:t>
            </a:r>
            <a:endParaRPr b="1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ck of overview of entirety of credit mo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sumption that credit mobility equals Erasmus is doubt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eady rise in Erasmus numbers over the programme’s life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om close to zero to almost 160,000 in 2006/07; rise since 2000/01 about 40% (Bologna-relevant perio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lattening of growth curve in recent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gnation / temporary decrease in some cou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verall: no evidence of negative Bologna impact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Impacts of Bologna on mobility: </a:t>
            </a:r>
            <a:br>
              <a:rPr sz="3200"/>
            </a:b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degree mobility</a:t>
            </a:r>
            <a:endParaRPr b="1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39320" y="1951200"/>
            <a:ext cx="8161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urope has biggest share of foreign students globally (2003: 1.1 of 2.1 million/EURODA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lightly more than half of these are Europeans (i.e. high intra-European degree mo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ery uneve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1000" y="406080"/>
            <a:ext cx="695952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Impacts of Bologna on mobility: </a:t>
            </a:r>
            <a:br>
              <a:rPr sz="3200"/>
            </a:b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degree mobility</a:t>
            </a:r>
            <a:endParaRPr b="1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39680" y="1951200"/>
          <a:ext cx="8161560" cy="5025960"/>
        </p:xfrm>
        <a:graphic>
          <a:graphicData uri="http://schemas.openxmlformats.org/drawingml/2006/table">
            <a:tbl>
              <a:tblPr/>
              <a:tblGrid>
                <a:gridCol w="2041560"/>
                <a:gridCol w="2041560"/>
                <a:gridCol w="2036880"/>
                <a:gridCol w="2041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l 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in mill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reign students (in thousan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 foreign students of all 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er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ta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951200"/>
            <a:ext cx="4003560" cy="4389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7:58:44Z</dcterms:created>
  <dc:creator>COMPAQ</dc:creator>
  <dc:description/>
  <dc:language>en-US</dc:language>
  <cp:lastModifiedBy>CFWB</cp:lastModifiedBy>
  <dcterms:modified xsi:type="dcterms:W3CDTF">2008-05-28T07:22:15Z</dcterms:modified>
  <cp:revision>58</cp:revision>
  <dc:subject/>
  <dc:title>New Directions…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47539335</vt:r8>
  </property>
  <property fmtid="{D5CDD505-2E9C-101B-9397-08002B2CF9AE}" pid="3" name="_AuthorEmail">
    <vt:lpwstr>Bernd.Waechter@aca-secretariat.be</vt:lpwstr>
  </property>
  <property fmtid="{D5CDD505-2E9C-101B-9397-08002B2CF9AE}" pid="4" name="_AuthorEmailDisplayName">
    <vt:lpwstr>Bernd Waechter</vt:lpwstr>
  </property>
  <property fmtid="{D5CDD505-2E9C-101B-9397-08002B2CF9AE}" pid="5" name="_EmailSubject">
    <vt:lpwstr>Bologna Mobility: my PPP</vt:lpwstr>
  </property>
  <property fmtid="{D5CDD505-2E9C-101B-9397-08002B2CF9AE}" pid="6" name="_ReviewingToolsShownOnce">
    <vt:lpwstr/>
  </property>
</Properties>
</file>