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8E4A-2823-46E6-B105-95770C54A2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8608-559E-4B16-B377-DA51F1F451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5A0-4366-4689-9A03-CD85E80B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521-18D7-4769-8040-7DB2358E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BC2-0781-4CEF-8955-73A61B21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80C-69E3-40A8-8D24-0B5FA78C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8370-C1DC-4283-8C2E-562DA3EF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5B54-2842-497D-8E48-5451D336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25F3-B565-413A-97FA-E4EE7BA5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E0FB-948C-4994-BF86-B4FF8388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1A20-FBB0-4E59-A3ED-7204594E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1775-8403-47B6-89B9-5268260E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1641-2066-42F3-8C73-5B114A10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B64-4093-4369-8F82-4B9F3877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D53C-38FF-4A70-AD35-E9FDCF65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353E-9A20-4F97-875A-B1D71531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7BC3-B608-4108-A473-7D322A69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EB9E-2488-45CD-9BE6-F7BEF702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5875-5197-4173-AD4A-6DCC462C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85D-CB8A-42B8-88AF-8F1E6E4E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232-5B9B-4B5C-B984-1DDE6C13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4B5-B419-433C-B89D-25624321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13A-7828-4008-9D47-1C3BA128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0B9-A84D-4A9C-8279-230D3C2D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E2B-10D6-4D70-A564-631859BA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DC5-BC86-42E5-A21E-9E72EF4E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37B1-3D0D-4CEB-9228-4FD546F98D01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F65E-5EF0-4E44-BDA1-31B4948B2E7C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Kathleen.Robertson@scotland.gsi.gov.uk" TargetMode="External"/><Relationship Id="rId2" Type="http://schemas.openxmlformats.org/officeDocument/2006/relationships/hyperlink" Target="mailto:Johanna.wockatz@education.ministry.se" TargetMode="External"/><Relationship Id="rId3" Type="http://schemas.openxmlformats.org/officeDocument/2006/relationships/hyperlink" Target="mailto:a.m.t.inthout@minocw.n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Expert Network on Portability of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Grants and Loan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 Presentation of Members of the Expert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2004 Dutch presidency of the European Counc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2005-2007 Chair of the Bologna working group on portability of grants and loa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ondon communiqué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ay 2007 change of the Dutch student financial support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1 September 2007 students could take grants and loans for a full study abro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700000" y="277920"/>
            <a:ext cx="5986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Past and present develop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7" descr="NETH0001"/>
          <p:cNvPicPr/>
          <p:nvPr/>
        </p:nvPicPr>
        <p:blipFill>
          <a:blip r:embed="rId1"/>
          <a:stretch/>
        </p:blipFill>
        <p:spPr>
          <a:xfrm>
            <a:off x="0" y="0"/>
            <a:ext cx="22683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omoting this instrument for more student mobility in Euro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o create a flexible and easy system  to control portable grants and lo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hare experience with other count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ntacts with countries for multi- and bilateral agreements in the field of portability of grants and lo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77128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hy member of the Expert Networ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7" descr="NETH0001"/>
          <p:cNvPicPr/>
          <p:nvPr/>
        </p:nvPicPr>
        <p:blipFill>
          <a:blip r:embed="rId1"/>
          <a:stretch/>
        </p:blipFill>
        <p:spPr>
          <a:xfrm>
            <a:off x="0" y="0"/>
            <a:ext cx="23400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11280" y="277920"/>
            <a:ext cx="6275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tuation concerning porta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8" descr="GEOR0001"/>
          <p:cNvPicPr/>
          <p:nvPr/>
        </p:nvPicPr>
        <p:blipFill>
          <a:blip r:embed="rId1"/>
          <a:stretch/>
        </p:blipFill>
        <p:spPr>
          <a:xfrm>
            <a:off x="0" y="0"/>
            <a:ext cx="2195640" cy="14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214200" y="2786040"/>
          <a:ext cx="8572680" cy="3886200"/>
        </p:xfrm>
        <a:graphic>
          <a:graphicData uri="http://schemas.openxmlformats.org/drawingml/2006/table">
            <a:tbl>
              <a:tblPr/>
              <a:tblGrid>
                <a:gridCol w="1071720"/>
                <a:gridCol w="1214280"/>
                <a:gridCol w="1071720"/>
                <a:gridCol w="1136520"/>
                <a:gridCol w="1079640"/>
                <a:gridCol w="927000"/>
                <a:gridCol w="928800"/>
                <a:gridCol w="1143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y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ype of Suppo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tional HE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oreign HE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Priv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Institu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Priv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Institut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cy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Gra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cholarsh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51% full or part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USD 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F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F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F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5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27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cy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Gra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cholarsh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F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1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27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 cy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Gra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cholarsh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F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0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97" name="Rectangle 7"/>
          <p:cNvSpPr/>
          <p:nvPr/>
        </p:nvSpPr>
        <p:spPr>
          <a:xfrm>
            <a:off x="571680" y="171468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GB" sz="18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cycle – no portable grants and loa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cycle -  portable grants and loa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cycle – no grants and loans neither for national nor for foreig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357720" y="2428920"/>
            <a:ext cx="54720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oES initiated HEI funding refor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eorgia joined Bologna Pro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ast and present develop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Picture 7" descr="GEOR0001"/>
          <p:cNvPicPr/>
          <p:nvPr/>
        </p:nvPicPr>
        <p:blipFill>
          <a:blip r:embed="rId1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214200" y="24051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ast: 200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-1428840" y="2857680"/>
            <a:ext cx="57866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214200" y="4010040"/>
            <a:ext cx="31435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esent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cognizing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he nee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or furth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357720" y="4000680"/>
            <a:ext cx="5472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National HE financing policy to be revised 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National mobility strategy to be develop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0000" y="277920"/>
            <a:ext cx="5986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y member of the Expert Networ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7" descr="GEOR0001"/>
          <p:cNvPicPr/>
          <p:nvPr/>
        </p:nvPicPr>
        <p:blipFill>
          <a:blip r:embed="rId1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357120" y="17859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uture: 2008-200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Diagram 8" descr=""/>
          <p:cNvPicPr/>
          <p:nvPr/>
        </p:nvPicPr>
        <p:blipFill>
          <a:blip r:embed="rId2"/>
          <a:stretch/>
        </p:blipFill>
        <p:spPr>
          <a:xfrm>
            <a:off x="4206960" y="2139840"/>
            <a:ext cx="4943520" cy="4151520"/>
          </a:xfrm>
          <a:prstGeom prst="rect">
            <a:avLst/>
          </a:prstGeom>
          <a:ln w="0">
            <a:noFill/>
          </a:ln>
        </p:spPr>
      </p:pic>
      <p:pic>
        <p:nvPicPr>
          <p:cNvPr id="209" name="Diagram 16" descr=""/>
          <p:cNvPicPr/>
          <p:nvPr/>
        </p:nvPicPr>
        <p:blipFill>
          <a:blip r:embed="rId3"/>
          <a:stretch/>
        </p:blipFill>
        <p:spPr>
          <a:xfrm>
            <a:off x="298440" y="2322360"/>
            <a:ext cx="43592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cotland has approximately 285,000 students in higher education in college and universit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cotland supports students to participate in Erasmus, Socrates etc - 1000 stud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cotland is an importer of students - 8000 from non UK EU countries; 40,000 from overs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3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268360" cy="13730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2484360" y="26028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340000" y="0"/>
            <a:ext cx="58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Situation concerning portabilit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rgen Communiqué (2005):  commitment to facilitate the portability of grants and lo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cottish Government's aim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ternational Framework - recognises international activities contribute to creating a more successful country, increasing sustainable economic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ternational Lifelong Learning Strategy – aim to support universal employability of all our stud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4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195640" cy="1327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2340000" y="189000"/>
            <a:ext cx="62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Past and present develop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cottish Ministers are committed to investigating the feasibility of introducing portable student support for Scottish students studying outside the UK in Europe and world wide and at least a pilot model introduced by 20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ncourage Scottish students to gain experience of living and studying overseas; encourage a wider outlook; develop skills that will make them more employab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3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195640" cy="13273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2340000" y="189000"/>
            <a:ext cx="62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Past and present develop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Have project in place to consider feasibilit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inancial, statistics, experience from other count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inisters approved detailed consideration of two proposed mod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irroring support currently given to students studying in (1) Scotland and (2) Rest of U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3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195640" cy="13273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2340000" y="189000"/>
            <a:ext cx="62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Past and present develop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upport the Network focus on both policy and delivery exper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Network of student support policy expe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upported initial advice to Ministers to gain commitment for feasibility study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hare policy experiences of countries with or thinking of, introducing  portable student support – financial, legislative,  benefits of poli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050920" cy="1241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2124000" y="0"/>
            <a:ext cx="63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Why member of the Expert Networ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004 Conference in Noordwijk on grants and lo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005 Bergen Communiqué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[…] </a:t>
            </a:r>
            <a:r>
              <a:rPr b="0" i="1" lang="nl-NL" sz="2000" spc="-1" strike="noStrike">
                <a:solidFill>
                  <a:srgbClr val="ffffff"/>
                </a:solidFill>
                <a:latin typeface="Verdana"/>
              </a:rPr>
              <a:t>Commitment to faciliate the portability of grants and loa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Working group on student financial suppor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007 London Communiqué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Verdana"/>
              </a:rPr>
              <a:t>[…] To set up a network of national experts to share  information, and help to identify and overcome to portability of grants and loa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007 Expert Network on portability of grants and lo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Network of student support delivery expe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hare experiences of countries with portability – administrative issues, IT systems, IA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s support model develops shared experience will influence desig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nce up and running network of contacts will support information on courses, qualifications etc in countries Scottish students studying 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3" descr="UNKG0101"/>
          <p:cNvPicPr/>
          <p:nvPr/>
        </p:nvPicPr>
        <p:blipFill>
          <a:blip r:embed="rId1"/>
          <a:stretch/>
        </p:blipFill>
        <p:spPr>
          <a:xfrm>
            <a:off x="0" y="0"/>
            <a:ext cx="2050920" cy="12412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2124000" y="0"/>
            <a:ext cx="63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ccff"/>
                </a:solidFill>
                <a:latin typeface="Verdana"/>
              </a:rPr>
              <a:t>Why member of the Expert Networ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763640" y="3333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6ccff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Verdana"/>
              </a:rPr>
              <a:t>Chair of the Expert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athleen Roberts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Kathleen.Robertson@scotland.gsi.gov.u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ohanna Wockat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Johanna.wockatz@education.ministry.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drik in ‘t H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a.m.t.inthout@minocw.n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ountry's situation concerning porta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ast and present develop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y member of the Expert Net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400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ituation concerning porta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weden offers portability of study support for studies abro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r a short period of time or for a full degre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with no geographical limit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he size of the loan varies depending of the host count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 supplementary loan can be awarded for tuition fees, travel expenses and insur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The student as well as the host education institutions must meet certain cond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Portability for foreign stud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8400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ituation concerning porta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Total number of students that receives Swedish student support: approximately 900 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Total number of students in post-secondary education with Swedish study support studying in Sweden: approximately 300 000 (60% women, 40% m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Number of students in post-secondary education with Swedish study support studying abroad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approximately 27 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ee movers: 62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articipants in an exchange program: 2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on-academic language course: 15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The Bologna pro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Berlin, Bergen and London communiqués committed to facilitate portability of loans and grants and identify and overcome obstac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weden’s situation – small country, a need to broaden one’s horizons, get a global perspective,  international exper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wedish aim: create a framework that facilitates mobility and exchange, remove obstacles to internationalis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portable study support is an important p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48400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ast and present develop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288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Committed through the Bologna pro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have a forum for discussion for both policy and delivery expe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Conta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haring experi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Nordic coop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nformation ex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to avoid double clai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48400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Why member of the Expert Networ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5640" y="260280"/>
            <a:ext cx="611964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Situation concerning porta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ixed support of grants and lo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 basic grant for each stud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dditional grant for students with parents that can’t afford to contribu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 loan for living c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 loan to pay for tuition f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ree public transportation either during weekdays or weeken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11" descr="NETH0001"/>
          <p:cNvPicPr/>
          <p:nvPr/>
        </p:nvPicPr>
        <p:blipFill>
          <a:blip r:embed="rId1"/>
          <a:stretch/>
        </p:blipFill>
        <p:spPr>
          <a:xfrm>
            <a:off x="0" y="0"/>
            <a:ext cx="22795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55640" y="260280"/>
            <a:ext cx="611964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Situation concerning porta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ortable to all countri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f all normal requirements to receive support are fulfil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tudent has lived 3 out of the last 6 years in The Netherlan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Quality and level of the foreign program is suffic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1" descr="NETH0001"/>
          <p:cNvPicPr/>
          <p:nvPr/>
        </p:nvPicPr>
        <p:blipFill>
          <a:blip r:embed="rId1"/>
          <a:stretch/>
        </p:blipFill>
        <p:spPr>
          <a:xfrm>
            <a:off x="0" y="0"/>
            <a:ext cx="22795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5:00:50Z</dcterms:created>
  <dc:creator>o202mie</dc:creator>
  <dc:description/>
  <dc:language>en-US</dc:language>
  <cp:lastModifiedBy>rackeco</cp:lastModifiedBy>
  <dcterms:modified xsi:type="dcterms:W3CDTF">2008-06-02T12:50:30Z</dcterms:modified>
  <cp:revision>38</cp:revision>
  <dc:subject/>
  <dc:title>Expert Network on portability of Grants and Lo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/>
  </property>
  <property fmtid="{D5CDD505-2E9C-101B-9397-08002B2CF9AE}" pid="3" name="Objective-Classification">
    <vt:lpwstr>Not classified</vt:lpwstr>
  </property>
  <property fmtid="{D5CDD505-2E9C-101B-9397-08002B2CF9AE}" pid="4" name="Objective-Comment">
    <vt:lpwstr/>
  </property>
  <property fmtid="{D5CDD505-2E9C-101B-9397-08002B2CF9AE}" pid="5" name="Objective-CreationStamp">
    <vt:filetime>2008-05-12T00:00:00Z</vt:filetime>
  </property>
  <property fmtid="{D5CDD505-2E9C-101B-9397-08002B2CF9AE}" pid="6" name="Objective-Date Received [system]">
    <vt:lpwstr/>
  </property>
  <property fmtid="{D5CDD505-2E9C-101B-9397-08002B2CF9AE}" pid="7" name="Objective-Date of Original [system]">
    <vt:lpwstr/>
  </property>
  <property fmtid="{D5CDD505-2E9C-101B-9397-08002B2CF9AE}" pid="8" name="Objective-DatePublished">
    <vt:filetime>2008-05-21T00:00:00Z</vt:filetime>
  </property>
  <property fmtid="{D5CDD505-2E9C-101B-9397-08002B2CF9AE}" pid="9" name="Objective-FileNumber">
    <vt:lpwstr/>
  </property>
  <property fmtid="{D5CDD505-2E9C-101B-9397-08002B2CF9AE}" pid="10" name="Objective-Id">
    <vt:lpwstr>D157762</vt:lpwstr>
  </property>
  <property fmtid="{D5CDD505-2E9C-101B-9397-08002B2CF9AE}" pid="11" name="Objective-IsApproved">
    <vt:lpwstr>No</vt:lpwstr>
  </property>
  <property fmtid="{D5CDD505-2E9C-101B-9397-08002B2CF9AE}" pid="12" name="Objective-IsPublished">
    <vt:lpwstr>Yes</vt:lpwstr>
  </property>
  <property fmtid="{D5CDD505-2E9C-101B-9397-08002B2CF9AE}" pid="13" name="Objective-ModificationStamp">
    <vt:filetime>2008-05-21T00:00:00Z</vt:filetime>
  </property>
  <property fmtid="{D5CDD505-2E9C-101B-9397-08002B2CF9AE}" pid="14" name="Objective-Owner">
    <vt:lpwstr>Robertson, Kathleen K (u201115)</vt:lpwstr>
  </property>
  <property fmtid="{D5CDD505-2E9C-101B-9397-08002B2CF9AE}" pid="15" name="Objective-Parent">
    <vt:lpwstr>Residency criteria for students: Advice and policy: Student finance: File Part 2: 2007-</vt:lpwstr>
  </property>
  <property fmtid="{D5CDD505-2E9C-101B-9397-08002B2CF9AE}" pid="16" name="Objective-Path">
    <vt:lpwstr>Objective Global Folder:SG File Plan:Education, careers and employment:Education and skills:Student finance:Advice and policy: Student finance:Residency criteria for students: Advice and policy: Student finance: File Part 2: 2007-:</vt:lpwstr>
  </property>
  <property fmtid="{D5CDD505-2E9C-101B-9397-08002B2CF9AE}" pid="17" name="Objective-State">
    <vt:lpwstr>Published</vt:lpwstr>
  </property>
  <property fmtid="{D5CDD505-2E9C-101B-9397-08002B2CF9AE}" pid="18" name="Objective-Title">
    <vt:lpwstr>Bologna process - experts group - Brussels seminar presentation - scotland</vt:lpwstr>
  </property>
  <property fmtid="{D5CDD505-2E9C-101B-9397-08002B2CF9AE}" pid="19" name="Objective-Version">
    <vt:lpwstr>2.0</vt:lpwstr>
  </property>
  <property fmtid="{D5CDD505-2E9C-101B-9397-08002B2CF9AE}" pid="20" name="Objective-VersionComment">
    <vt:lpwstr>Version 2</vt:lpwstr>
  </property>
  <property fmtid="{D5CDD505-2E9C-101B-9397-08002B2CF9AE}" pid="21" name="Objective-VersionNumber">
    <vt:r8>4</vt:r8>
  </property>
</Properties>
</file>