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c6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2ED3-4B10-4B30-A428-D87FDA717896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8439-EA65-4951-861A-7978C8C8B601}" type="slidenum">
              <a:rPr b="0" lang="fr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A31C-2C1A-435C-A48A-D710962E1B71}" type="slidenum">
              <a:rPr b="0" lang="fr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46C-DF33-40E5-B15A-1BAE21D6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3C2-0677-40D6-8B72-ACEF0981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065-0E9B-465E-B0F2-A439E89F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EA7-89D2-437B-9572-E8A79500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CA5F-1C22-4794-85FA-CE58A030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9CD7-14AD-442C-B361-FB22798B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E501-9277-4A81-AE46-9577327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F4D1-1D0D-4BA2-86E5-D5CA2155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2302-4A1F-470F-A3CB-BE3CE143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F17A-454B-401B-B377-64461AB8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E81A-7D44-4477-82DB-602B7F4A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756-9045-44F9-B8B3-CE6BB933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32FB-E333-4FFC-961D-E5309F05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BC6D-7699-40AD-A9EE-019DB93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E9D7-3BA9-4972-A385-5A05300E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189B-9152-4F7F-A0EA-8BB8EDD5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0469-5A47-474D-8D7D-44D80AC9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5D8-092E-4462-BE6E-B4DDCC8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1A8-CBC6-44AE-BB77-2D08252D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DC1-9760-4647-A816-4B843118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CB1-B2AD-4E09-9EAD-46390DA4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BDE-21D2-4DF5-B502-1BB9FFF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477-D754-487A-B70A-E61BC98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FB6-6265-4BC5-A52B-A8B425C1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0f3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ff7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c6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f3c6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f3c6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2AD1-8D10-4393-A3FA-F3C31D691113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A391-C4C8-4E7B-9854-A6D9F2E66C87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0f3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ff7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c6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f3c6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f3c6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92AD-8061-4582-9A53-0AB1EACC4276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A585-A0B5-4AB1-88C9-DE41A0B9571E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70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c69"/>
                </a:solidFill>
                <a:latin typeface="Arial"/>
              </a:rPr>
              <a:t>FINANCING HIGHER EDUCATION AND STUDENT MOBILITY ACROSS EUROPE</a:t>
            </a:r>
            <a:endParaRPr b="0" lang="en-US" sz="24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14240" y="4714920"/>
            <a:ext cx="767556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édric CHEVALIER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ouvain School of Management, FUC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fessor Marcel GERAR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ouvain School of Management, FUCaM and CESif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teruniversity Attraction Poles Programme (IAP 6-09) – Belgian State – Belgian Science Polic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B312-4720-41DB-913F-C968D96A83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SOME ACTUAL NATIONAL PRACTIC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3280" y="1827000"/>
            <a:ext cx="6811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mbination of loans and grants to finance student’s life, promote social policies and increase mobil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udent targeted, por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Interesting feature: grant-loan mix designed to promo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Mobility in and o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Welfare st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19D-11E9-4FEB-8A7D-8193781EAE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SOME ACTUAL NATIONAL PRACTIC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2920" y="1827360"/>
            <a:ext cx="728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A system of contingent loa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s must be repaid after graduation only if the beneficiary earns revenues above a given thresho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LP (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gher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catio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a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ogramme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ers interest-free lo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-HELP for studies at h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-HELP for studies abr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886-11CC-447D-A782-C6E5E8AAD2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2920" y="1827360"/>
            <a:ext cx="728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ologna process paves the way for a large international market for graduates but nothing has been provided regarding the financing of student mo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suing problems trigger protectionist behaviour… just the opposite of what Bologna intends to achie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o-part portable vouchers can be a possible solution consistent with EU legislation and principles as well as with social policy go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B43-7BEA-4324-B223-8C1CCEBAD3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c69"/>
                </a:solidFill>
                <a:latin typeface="Arial"/>
              </a:rPr>
              <a:t>OUTLINE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system of two-part portable vou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actual national pract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21E-BBB6-4488-9417-18AE1E450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360" y="301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INTRODUCTION – How to finance student mobility?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92360" y="1773360"/>
            <a:ext cx="648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text : Bologna process and increased student mo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me countries free ride others (e.g. France &amp; Belgiu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tectionist behaviours (quot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reat to student mo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re general debate on the financing of higher education in a globalized wor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POSI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ransfer responsibility for financing from the host country to the country of orig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wo-part portable voucher to finance studies and cost of liv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13B-D210-4B00-8D81-F17BCA6795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INTRODUCTION – Cross-border imbalanc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pic>
        <p:nvPicPr>
          <p:cNvPr id="109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285920" y="21430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gures for some EU count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31800" y="2754360"/>
          <a:ext cx="6683400" cy="278136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92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 foreign students as % of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tionals studying abroad minus EU foreign students as % of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lg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.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0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.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ted-Kingd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3.5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xembou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187.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8"/>
          <p:cNvSpPr/>
          <p:nvPr/>
        </p:nvSpPr>
        <p:spPr>
          <a:xfrm>
            <a:off x="1357200" y="585792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(GERARD &amp; VANDENBERGHE, 2007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EC8-4BC4-47D3-9AD1-F4AC3BBE2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INTRODUCTION – Difficulti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pic>
        <p:nvPicPr>
          <p:cNvPr id="115" name="Picture 4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1332000" y="1827360"/>
            <a:ext cx="68832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U legislation peculiarities: free mobility and non-discrimination between EU citiz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finition – what does “mobile” mea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Organization Chart 184"/>
          <p:cNvGrpSpPr/>
          <p:nvPr/>
        </p:nvGrpSpPr>
        <p:grpSpPr>
          <a:xfrm>
            <a:off x="1593360" y="2919240"/>
            <a:ext cx="5927040" cy="2951640"/>
            <a:chOff x="1593360" y="2919240"/>
            <a:chExt cx="5927040" cy="2951640"/>
          </a:xfrm>
        </p:grpSpPr>
        <p:sp>
          <p:nvSpPr>
            <p:cNvPr id="118" name="Rectangle 186"/>
            <p:cNvSpPr/>
            <p:nvPr/>
          </p:nvSpPr>
          <p:spPr>
            <a:xfrm>
              <a:off x="2104920" y="3226680"/>
              <a:ext cx="4473720" cy="22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87"/>
            <p:cNvSpPr/>
            <p:nvPr/>
          </p:nvSpPr>
          <p:spPr>
            <a:xfrm>
              <a:off x="2104920" y="4359960"/>
              <a:ext cx="447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188"/>
            <p:cNvSpPr/>
            <p:nvPr/>
          </p:nvSpPr>
          <p:spPr>
            <a:xfrm>
              <a:off x="4341600" y="322668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89"/>
            <p:cNvSpPr/>
            <p:nvPr/>
          </p:nvSpPr>
          <p:spPr>
            <a:xfrm>
              <a:off x="3399840" y="3793320"/>
              <a:ext cx="1883520" cy="1133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190"/>
            <p:cNvSpPr/>
            <p:nvPr/>
          </p:nvSpPr>
          <p:spPr>
            <a:xfrm>
              <a:off x="1593360" y="2919240"/>
              <a:ext cx="54723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TEGORIES OF STUDENTS AS REPORTED BY THE HOST COUNTR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191"/>
            <p:cNvSpPr/>
            <p:nvPr/>
          </p:nvSpPr>
          <p:spPr>
            <a:xfrm>
              <a:off x="3046680" y="5587920"/>
              <a:ext cx="24721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rior education outside the countr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192"/>
            <p:cNvSpPr/>
            <p:nvPr/>
          </p:nvSpPr>
          <p:spPr>
            <a:xfrm>
              <a:off x="5636880" y="5587920"/>
              <a:ext cx="10591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on-citizen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193"/>
            <p:cNvSpPr/>
            <p:nvPr/>
          </p:nvSpPr>
          <p:spPr>
            <a:xfrm>
              <a:off x="1987200" y="5587920"/>
              <a:ext cx="7063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itizen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194"/>
            <p:cNvSpPr/>
            <p:nvPr/>
          </p:nvSpPr>
          <p:spPr>
            <a:xfrm flipV="1">
              <a:off x="4106160" y="4938840"/>
              <a:ext cx="117720" cy="66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95"/>
            <p:cNvSpPr/>
            <p:nvPr/>
          </p:nvSpPr>
          <p:spPr>
            <a:xfrm>
              <a:off x="2693520" y="3510000"/>
              <a:ext cx="3139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6"/>
            <p:cNvSpPr/>
            <p:nvPr/>
          </p:nvSpPr>
          <p:spPr>
            <a:xfrm>
              <a:off x="5636880" y="3510000"/>
              <a:ext cx="31356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197"/>
            <p:cNvSpPr/>
            <p:nvPr/>
          </p:nvSpPr>
          <p:spPr>
            <a:xfrm>
              <a:off x="3635280" y="4454280"/>
              <a:ext cx="3139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198"/>
            <p:cNvSpPr/>
            <p:nvPr/>
          </p:nvSpPr>
          <p:spPr>
            <a:xfrm>
              <a:off x="3635280" y="3982320"/>
              <a:ext cx="31392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199"/>
            <p:cNvSpPr/>
            <p:nvPr/>
          </p:nvSpPr>
          <p:spPr>
            <a:xfrm>
              <a:off x="4577040" y="3982320"/>
              <a:ext cx="31392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200"/>
            <p:cNvSpPr/>
            <p:nvPr/>
          </p:nvSpPr>
          <p:spPr>
            <a:xfrm>
              <a:off x="4577040" y="4454280"/>
              <a:ext cx="31392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01"/>
            <p:cNvSpPr/>
            <p:nvPr/>
          </p:nvSpPr>
          <p:spPr>
            <a:xfrm>
              <a:off x="5636880" y="4832280"/>
              <a:ext cx="31356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202"/>
            <p:cNvSpPr/>
            <p:nvPr/>
          </p:nvSpPr>
          <p:spPr>
            <a:xfrm>
              <a:off x="2811240" y="4832280"/>
              <a:ext cx="31356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03"/>
            <p:cNvSpPr/>
            <p:nvPr/>
          </p:nvSpPr>
          <p:spPr>
            <a:xfrm>
              <a:off x="6696360" y="3226680"/>
              <a:ext cx="8240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ident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04"/>
            <p:cNvSpPr/>
            <p:nvPr/>
          </p:nvSpPr>
          <p:spPr>
            <a:xfrm>
              <a:off x="6696360" y="5209920"/>
              <a:ext cx="8240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on-resident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604-4516-4E0E-BEB2-87E981C6D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A SYSTEM OF TWO-PART PORTABLE VOUCHER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68832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first part designed to cover the real cost of studies: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uition fee vouc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mount of money equivalent to the true cost of studies in the country of ori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second part designed to support student’s cost of living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student support vouc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esting tool to introduce equity or fairness elements and to promote social policies (see the Norwegian cas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5CA-0134-40BA-AB6A-34E22E26E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A SYSTEM OF TWO-PART PORTABLE VOUCHER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68832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Belgium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students staying home, no change regarding the real cost of studies + a possibility to introduce a support for the cost of living (instead of family benefits 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ant, loan or a m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ant sustainable if most students come back home (GERARD 200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ed to commute Grants into Loan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a EU job market really exists and graduates move a l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ix to implement national policy 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nitor the choice of studies and care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428-95A2-45B7-B3A3-8357774169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A SYSTEM OF TWO-PART PORTABLE VOUCHER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pic>
        <p:nvPicPr>
          <p:cNvPr id="147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332000" y="1773360"/>
            <a:ext cx="68832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uition fee vouchers in Belgium – Exampl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71640" y="2349360"/>
          <a:ext cx="7704000" cy="3834000"/>
        </p:xfrm>
        <a:graphic>
          <a:graphicData uri="http://schemas.openxmlformats.org/drawingml/2006/table">
            <a:tbl>
              <a:tblPr/>
              <a:tblGrid>
                <a:gridCol w="5832360"/>
                <a:gridCol w="1871640"/>
              </a:tblGrid>
              <a:tr h="2876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TY HIGHER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s per 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helor or Master  degree in humanities and social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st or  2d year of Bachelor degree in medical sciences; agricultural engineering; engineering; Bachelor or Master degree in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rd year of Bachelor and Master degree in medical sciences; agricultural engineering; engineer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7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UNIVERSITY HIGHER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s (3 year-professional bachelor degre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s (other degrees), technology (3 year-professional bachelor degre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e (3 year-professional bachelor degree), social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ers and transl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47B-A3CD-4787-9F71-4368F3B08C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c69"/>
                </a:solidFill>
                <a:latin typeface="Arial"/>
              </a:rPr>
              <a:t>SOME ACTUAL NATIONAL PRACTICES</a:t>
            </a:r>
            <a:endParaRPr b="0" lang="en-US" sz="2000" spc="-1" strike="noStrike">
              <a:solidFill>
                <a:srgbClr val="0f3c6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1827000"/>
            <a:ext cx="6811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WITZERL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system of inter-cantonal clearing at the national level to equalize the financing of mobility between cant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3c6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btor cantons, university cantons and clearing at the national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°"/>
          <p:cNvPicPr/>
          <p:nvPr/>
        </p:nvPicPr>
        <p:blipFill>
          <a:blip r:embed="rId1"/>
          <a:stretch/>
        </p:blipFill>
        <p:spPr>
          <a:xfrm>
            <a:off x="7824960" y="260280"/>
            <a:ext cx="1074600" cy="1152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987640" y="6453360"/>
            <a:ext cx="54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CHEVALIER – GERARD – BOLOGNA CONFERENCE MAI 2008 – IAP 6-0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F7D-DFAE-44C9-9985-BEFDD7D2EC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6:43:17Z</dcterms:created>
  <dc:creator>CEDRIC</dc:creator>
  <dc:description/>
  <dc:language>en-US</dc:language>
  <cp:lastModifiedBy>CFWB</cp:lastModifiedBy>
  <dcterms:modified xsi:type="dcterms:W3CDTF">2008-05-27T07:31:11Z</dcterms:modified>
  <cp:revision>334</cp:revision>
  <dc:subject/>
  <dc:title>LA THEORIE DES INVESTISSEMENTS DIRECTS ETRANGERS </dc:title>
</cp:coreProperties>
</file>