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4EEC-65F7-4503-AF05-BBBB1BA6DF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3CED-D335-40D7-9581-9850DEBF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4273-4800-4B60-83FF-9597F282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CFB8-5855-4B9F-B720-3E88A0B90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87490-F066-4B9E-8A54-9E9BBB95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A3728-7EFA-409F-BF4D-2027D02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C6156-DE73-4EE4-AD8E-97FEDD39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885B4-489E-46F5-B8C9-80F2720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F23CE-5CED-43FF-BF80-F37DD8F4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001D2-A8AA-4AD1-9E84-9B028F69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56DEA-CEB2-4F35-AFDD-FCE87AD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2CCD-E420-43AD-A8DB-A80E6C33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91F86-2F03-4A01-825C-FFE61A3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02450-384E-4A0E-A4B5-A404E0D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759B7-2D45-49E5-9962-7D7AD90B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CB94-6365-42A1-B1D6-66089D7F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C6387-F8BE-4676-86D3-14F3BDD5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AF29-D37F-4554-B00D-65A6E382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AAAD-EC26-4ECD-94FC-CE041308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A1C8-3283-40F0-AD5A-E183238C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7793-012E-4F19-B5E0-94EB3F46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31E0-1675-4D0C-8585-73BB34C2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B087-07EF-4FC8-ADFF-3C9E9657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44BF-F992-4352-83B9-1D7E3F06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00640"/>
            <a:ext cx="755640" cy="155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1305000" indent="-2826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693800" indent="-274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2093760" indent="-2854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2093760" indent="-2854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2093760" indent="-2854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0" y="6308280"/>
            <a:ext cx="1981440" cy="25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0"/>
            <a:ext cx="77796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628-0975-46F2-9E98-BFC857D425F7}" type="slidenum">
              <a:rPr b="0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0" y="0"/>
            <a:ext cx="78264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25568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  <a:tab algn="l" pos="90914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Ulrich Teichler: Student Mo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4000" y="5418000"/>
            <a:ext cx="441000" cy="1452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0"/>
            <a:ext cx="504720" cy="404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A424-F5D7-4661-A70F-470EC6F6FC7C}" type="slidenum">
              <a:rPr b="0" lang="en-US" sz="1400" spc="-1" strike="noStrike">
                <a:solidFill>
                  <a:srgbClr val="ffffff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41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1186920" y="5445000"/>
            <a:ext cx="7488360" cy="11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ddress: Prof. Ulrich Teichler, INCHER-Kassel,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 University of Kassel, 34109 Kassel, Germany,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 Tel. 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++49-561-804 2415, FAX ++49-561-804 3301,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e-mail teichler@hochschulforschung.uni-kassel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820000" y="6237360"/>
            <a:ext cx="21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3079-41A4-4571-9480-398DE81DF8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79320" y="2387520"/>
            <a:ext cx="7799400" cy="136440"/>
            <a:chOff x="679320" y="2387520"/>
            <a:chExt cx="7799400" cy="13644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679320" y="2387520"/>
              <a:ext cx="779940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2640" y="2444760"/>
              <a:ext cx="757872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785440" cy="223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Comic Sans MS"/>
              </a:rPr>
              <a:t>Student Mobility: Where Do We Come From, Where Are We, Where Are We Going to Inside the EHEA?</a:t>
            </a: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636640"/>
            <a:ext cx="9144000" cy="24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Keynote Speech at the Bologna Conference</a:t>
            </a:r>
            <a:br>
              <a:rPr sz="2300"/>
            </a:b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 “Fostering Student Mobility: Next Steps? Involving Stakeholders for an Improved Mobility Inside the EHEA” </a:t>
            </a:r>
            <a:br>
              <a:rPr sz="2300"/>
            </a:b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Brussels, 29-30 May 2008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Ulrich Teichler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5054760"/>
            <a:ext cx="878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NCHER-KA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University of Kassel, 34109 Ka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Germany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Tel.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++49-561-804 2415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Fax ++49-561-804 74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E-mail: teichler@incher.uni-kassel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Serving the Heterogeneity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of Foreign Student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fferent needs of (a) degree mobile students from economically disadvantaged countries, (b) degree mobile students within Europe or between economically advanced countries, and (c) temporarily mobile stu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me observers claim that students from economically disadvantaged countries are the “forgotten majority” of the Bologna Proc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ther observers point out that too little is done by HEIs to keep and increase the attractiveness of temporary student mobility within Western Europ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Divergent Conditions and Motives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or HEIs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82440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re there conditions unfavourable for increasing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mobility for certain HEIs in certain countries? e.g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Lack of encouragement of British students to study abroad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High costs for service and intense educational support of mobile students not covered by fees and governmental suppor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Concerns about quality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Short and Highly Structured Study Programmes: A New Barrier?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2440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chelor and master programmes are shorter than previous long university programmes in many European countr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urricular reforms often moved towards most highly structured programmes with little space for “detours” in recognition: Declining readiness to recognize study achievements abro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comparative survey (DAAD) undertaken in 2005 show that this concern is harboured by large minorities in a few countries and small minorities in other countr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Curricular Convergence?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 Loss of Attraction?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2440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Bologna Declaration calls for a preservation of curricular variety across Europ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xperts’ view differs whether measures taken in the Bologna Process (“qualifications frameworks”, quality assurance measures, the “employability” debate etc.) and trends favour curricular convergence or keep varie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Europe, learning from contrasts was a major motive and a major factor causing beneficial impact of temporary student mobility: Is this endangered by curricular convergenc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Comic Sans MS"/>
              </a:rPr>
              <a:t>Stratification of Higher Education? </a:t>
            </a:r>
            <a:br>
              <a:rPr sz="3700"/>
            </a:br>
            <a:r>
              <a:rPr b="0" lang="en-GB" sz="3700" spc="-1" strike="noStrike">
                <a:solidFill>
                  <a:srgbClr val="ffffff"/>
                </a:solidFill>
                <a:latin typeface="Comic Sans MS"/>
              </a:rPr>
              <a:t>A New Barrier to Mobility?</a:t>
            </a:r>
            <a:endParaRPr b="0" lang="en-US" sz="3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ny observers believe that the continuous expansion of tertiary education along “globalisation”, increasing “competition between HEIs and the “rat race” for being among “world-class universities” leads to a steeper stratification of the higher education system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ny experts argue that the underlying philosophy of the Bologna Process is in favour of flat hierarchies within higher education systems, while the Lisbon Process favours steep stratification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Problem of stratification: The “zones of mutual trust” become smaller; recognition of study abroad can be expected only among relatively small networks of institutions similar in quality. Thus, stratification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reduces the options for student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052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Declining Exceptionality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comparison of various surveys on the professional value of temporary study abroad in Europe suggests a declining value over time in some aspe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authors’ interpretation: Declining exceptionality of study abroad – non-mobile students are increasingly exposed to internationalis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authors’ recommendation: Student mobility should be more closely tied to curricular reforms aimed at enhancing the value of international exper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052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The Future: The EHEA after 2010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82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 doubling of mobile students within a decade? Will this lea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wards a more responsive HE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ivergent curricular efforts: instrumentalism? “Not trusting a singly professor and paradigm anymore”? Emphasis on international competences? Other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elated to it: will Europe adapt to “globalisation” as interpreted elsewhere, or strive for a specific character of HE in Europe (cf. the Ghent conference of 19-20 May 2008)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ent mobility grows, but “internationalisation at home” will grow more substantially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more structural convergence progresses the more other features might be viewed as crucial barriers and areas of intervention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history of student mobility in Europe since WWII is 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rend in terms of figures, but a history of repeated chang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f emphasis as regards the students involved, the aims, th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upportive mechanisms, etc. Therefore, the future cannot b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edicted through extrapolatio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Bologna Declaration: Mobility – a Prime Aim, not a Prime Action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2440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prime reform measur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is a structural one: to establish a convergent system of stages of study programmes and degrees in European countr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prime ai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re mobility-dire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 make higher education in European countries more attractive for students from other contine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 facilitate intra-European student mobility (even more ambitiously advocated in the Sorbonne Declaration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me of 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supportive measur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dvocated for the structural reforms aim to support student mobil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 credit system – most important for recognition of study achievements abroad of temporarily mobile students upon return (within Europ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08200" indent="-27468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“Diploma Supplement” – important for students spending the total study programme abroa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Mobility up to the Late 1990s: 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The Situation Prior to Bologna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5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otal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number of foreign studen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orld-wide was about 200,000 in the mid-1950s, about 500,000 in 1970, 1.2 million in 1987 and moved towards 2 million in the late 1990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2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share of foreign studen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mong all tertiary education students remained more or less constant at 2%, but the proportion of foreign students among all students in Europe has more than doubled over the years: From less than 3% to more than 6% (estimates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2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Vertical mobility”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dominated all the time, i.e. towards countries with advanced economy and advanced level of quality in higher education, and mostly was “degree mobility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12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RASM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, inaugurated in 1987, supports temporary and “horizontal” mobility, i.e. more or less on “equal terms”. Increase from about 10,000 in 1988/89 to almost 100,000 ten years later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s Contributing 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to the Bologna Concep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244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perts agree: There was 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not any trend of structural convergence in Europe prio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to the Sorbonne Declaration and the Bologna Decla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Bologna” would not have happened without ERASM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The “success story” of ERASMUS fuelled the idea that intra-European mobility should expand beyond the potentials of ERASMUS and the countries involved in ERASMUS and that remaining barriers should be reduced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Bologna” would not have happened either without growing attention to “globalisati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” and trends of worldwide student mobility: Since the mid-1990s, concern spread that continental European countries would loose out as host for foreign students to Anglo-Saxon countri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ructural convergence: More important for attracting students from other parts of the world than for facilitating intra-European mobility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Comic Sans MS"/>
              </a:rPr>
              <a:t>Changes </a:t>
            </a: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Conducive to Student Mobility in the Bologna Proces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82440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st observers are convinced that a multitude of changes occurring in the Bologna Process are supportive for student mobil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owing internationalisation policies and activities of governments and HE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adual spread of cred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adual spread of conferring Diploma Supple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ed number of “joint study programmes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U programme “ERASMUS Mundus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re emphasis on quality assurance and the establishment of accreditation 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ing number of programmes taught in English in non English-speaking countr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urricular changes (?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ing portability of national scholarshi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-3538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creased emphasis on the “social dimension” of Bolog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844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Increasing Mobility as a Consequence of Bologna?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On the Search for Evidence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Deficient statistic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low process of implementatio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and the protracted evidence of imp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“push effect”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n study abroad of student from outside 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-2746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ra-European mobility: Some increase of mobility, but not consistent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052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Deficient statistic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official student statistics collected by UNESCO,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OECD and EUROSTAT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stly provide information only on “foreign students” and “study abroad” and only in a few cases (mostly in addition) on “mobility for the purpose of study”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o not make distinctions between degree mobility and temporary (credit) mobility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Include only some of the temporarily mobile student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re incomplete with respect to tertiary non-higher education students and doctoral candidate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944640" indent="-32400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o not make distinctions between bachelor and master studen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6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Different Proportions of Foreign/Mobile Students 2003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00000" y="1773360"/>
          <a:ext cx="8136000" cy="4275000"/>
        </p:xfrm>
        <a:graphic>
          <a:graphicData uri="http://schemas.openxmlformats.org/drawingml/2006/table">
            <a:tbl>
              <a:tblPr/>
              <a:tblGrid>
                <a:gridCol w="4248360"/>
                <a:gridCol w="792000"/>
                <a:gridCol w="792360"/>
                <a:gridCol w="792000"/>
                <a:gridCol w="719280"/>
                <a:gridCol w="7920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. Foreign mobile 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. Home country mobile students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obile students (a, b)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. Foreign non-mobile stud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foreign students (a, c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126800" y="6521040"/>
            <a:ext cx="49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omic Sans MS"/>
              </a:rPr>
              <a:t>(Source: Kelo/Teichler/Wächter. EURODATA.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0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Remaining Concerns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in the Bologna Proces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2440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ix iss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rving the heterogeneity of foreign student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vergent conditions and motives for HEIs in different European countr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ort and highly structured study programmes: A new barrie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urricular convergence: A trend or not? An attraction or a loss of attraction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trend towards stratification of higher education? A new barrie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323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clining exceptionality of mo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32:07Z</dcterms:created>
  <dc:creator>Harald Schomburg</dc:creator>
  <dc:description/>
  <dc:language>en-US</dc:language>
  <cp:lastModifiedBy>dagmar</cp:lastModifiedBy>
  <dcterms:modified xsi:type="dcterms:W3CDTF">2008-05-26T10:53:55Z</dcterms:modified>
  <cp:revision>171</cp:revision>
  <dc:subject/>
  <dc:title>Stand und Erträge der Verbleibsforschung zu AbsolventInnen erziehungswissenschaftlicher Studiengänge</dc:title>
</cp:coreProperties>
</file>