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c6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7DD8-FA26-4215-B44C-F55388D2E8CC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002-38F5-4609-9886-9EB2F7738EBB}" type="slidenum">
              <a:rPr b="0" lang="fr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B4B-67C0-42A3-BAEA-C449E8E45C69}" type="slidenum">
              <a:rPr b="0" lang="fr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D52-867B-40DE-B19F-CE5F0636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E93-9B4D-4014-BAD8-8609DF1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F8E-6AFE-4E54-86B9-63F9C185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EFD-07F1-426F-9F23-F5F44133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05B0-7A21-4C57-A353-3630276C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F1C3-2104-4B2C-9871-A99F778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ACCB-3247-4257-B443-F2BA638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784-505A-4BB9-AAF0-0C83CF46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3484-8989-4A4B-96DA-B2544EF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1A76-B3E2-48CE-A3FE-817E8B5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9C4B-5029-442E-B673-15CFBC7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E28-55EC-4F71-977C-7DD87BD6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CF65-E94E-4177-BD3F-40FFC51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0F0B-D5E5-4B50-9DD6-9C7BABD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42FA-87EA-4B1C-98D4-2EAAABA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3AB2-17C5-4A0B-BD22-56E7E87B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56C2-9D39-43D5-B8F5-A9DAB5DB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01B-C8CF-47FE-B8F2-35838282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F08-C3B0-4C0B-A0E3-04173B3F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B63-9A0C-40AF-80F6-48CCE56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582-52E8-41AB-A878-27A27718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B26-723B-4E39-AB6C-C6FB838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6E0-422F-4081-AF31-06C9692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965-D51C-426F-8365-3BD1ACB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f3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7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c6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f3c6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f3c6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CC4-9456-4B23-B702-62562E330632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052-D76C-44FF-B956-1445CF23ABD2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0f3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7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c6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f3c6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f3c6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8D56-50BD-4C1B-B024-71DC8B74B9C3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657-4D64-48DB-897E-2B50EF48398E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0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c69"/>
                </a:solidFill>
                <a:latin typeface="Arial"/>
              </a:rPr>
              <a:t>FINANCING HIGHER EDUCATION AND STUDENT MOBILITY ACROSS EUROPE</a:t>
            </a:r>
            <a:endParaRPr b="0" lang="en-US" sz="24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14240" y="4714920"/>
            <a:ext cx="767556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édric CHEVALIER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ouvain School of Management, FUC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fessor Marcel GERAR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ouvain School of Management, FUCaM and CESif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teruniversity Attraction Poles Programme (IAP 6-09) – Belgian State – Belgian Science Polic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8F89-FD4F-4BC4-98F2-38919541DF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SOME ACTUAL NATIONAL PRACTI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827000"/>
            <a:ext cx="681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bination of loans and grants to finance student’s life, promote social policies and increase mo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udent targeted, por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Interesting feature: grant-loan mix designed to promo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Mobility in and o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Welfare st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704-F3E1-4A37-A0AE-410AEDD08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SOME ACTUAL NATIONAL PRACTI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2920" y="1827360"/>
            <a:ext cx="728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 system of contingent loa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s must be repaid after graduation only if the beneficiary earns revenues above a given thresho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LP 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gher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catio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a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ogramme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ers interest-free lo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-HELP for studies at h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-HELP for studies abr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CF1-650F-485F-BA49-15BD559A62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2920" y="1827360"/>
            <a:ext cx="728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ologna process paves the way for a large international market for graduates but nothing has been provided regarding the financing of student mo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suing problems trigger protectionist behaviour… just the opposite of what Bologna intends to achie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-part portable vouchers can be a possible solution consistent with EU legislation and principles as well as with social policy go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42F-1813-4EF3-B242-5D1CC058B0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c69"/>
                </a:solidFill>
                <a:latin typeface="Arial"/>
              </a:rPr>
              <a:t>OUTLINE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ystem of two-part portable vou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actual national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745-000F-4499-9D26-3076F3758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301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INTRODUCTION – How to finance student mobility?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648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text : Bologna process and increased student mo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me countries free ride others (e.g. France &amp; Belgiu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tectionist behaviours (quot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reat to student mo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re general debate on the financing of higher education in a globalized wor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POSI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ransfer responsibility for financing from the host country to the country of orig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wo-part portable voucher to finance studies and cost of l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5B5-7635-475B-B288-961024E61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INTRODUCTION – Cross-border imbalan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pic>
        <p:nvPicPr>
          <p:cNvPr id="109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285920" y="2143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gures for some EU coun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31800" y="2754360"/>
          <a:ext cx="6683400" cy="278136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92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 foreign students as % of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tionals studying abroad minus EU foreign students as % of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.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ted-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ou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187.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8"/>
          <p:cNvSpPr/>
          <p:nvPr/>
        </p:nvSpPr>
        <p:spPr>
          <a:xfrm>
            <a:off x="1357200" y="585792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(GERARD &amp; VANDENBERGHE, 2007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2E7-8B3A-48AD-AC10-1AA2AD0E7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INTRODUCTION – Difficulti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pic>
        <p:nvPicPr>
          <p:cNvPr id="115" name="Picture 4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1332000" y="1827360"/>
            <a:ext cx="6883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U legislation peculiarities: free mobility and non-discrimination between EU citiz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finition – what does “mobile” mea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Organization Chart 184"/>
          <p:cNvGrpSpPr/>
          <p:nvPr/>
        </p:nvGrpSpPr>
        <p:grpSpPr>
          <a:xfrm>
            <a:off x="1593360" y="2919240"/>
            <a:ext cx="5927040" cy="2951640"/>
            <a:chOff x="1593360" y="2919240"/>
            <a:chExt cx="5927040" cy="2951640"/>
          </a:xfrm>
        </p:grpSpPr>
        <p:sp>
          <p:nvSpPr>
            <p:cNvPr id="118" name="Rectangle 186"/>
            <p:cNvSpPr/>
            <p:nvPr/>
          </p:nvSpPr>
          <p:spPr>
            <a:xfrm>
              <a:off x="2104920" y="3226680"/>
              <a:ext cx="4473720" cy="22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87"/>
            <p:cNvSpPr/>
            <p:nvPr/>
          </p:nvSpPr>
          <p:spPr>
            <a:xfrm>
              <a:off x="2104920" y="4359960"/>
              <a:ext cx="447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188"/>
            <p:cNvSpPr/>
            <p:nvPr/>
          </p:nvSpPr>
          <p:spPr>
            <a:xfrm>
              <a:off x="4341600" y="322668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89"/>
            <p:cNvSpPr/>
            <p:nvPr/>
          </p:nvSpPr>
          <p:spPr>
            <a:xfrm>
              <a:off x="3399840" y="3793320"/>
              <a:ext cx="1883520" cy="1133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190"/>
            <p:cNvSpPr/>
            <p:nvPr/>
          </p:nvSpPr>
          <p:spPr>
            <a:xfrm>
              <a:off x="1593360" y="2919240"/>
              <a:ext cx="54723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TEGORIES OF STUDENTS AS REPORTED BY THE HOST COUNTR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191"/>
            <p:cNvSpPr/>
            <p:nvPr/>
          </p:nvSpPr>
          <p:spPr>
            <a:xfrm>
              <a:off x="3046680" y="5587920"/>
              <a:ext cx="24721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rior education outside the countr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192"/>
            <p:cNvSpPr/>
            <p:nvPr/>
          </p:nvSpPr>
          <p:spPr>
            <a:xfrm>
              <a:off x="5636880" y="5587920"/>
              <a:ext cx="10591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n-citizen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193"/>
            <p:cNvSpPr/>
            <p:nvPr/>
          </p:nvSpPr>
          <p:spPr>
            <a:xfrm>
              <a:off x="1987200" y="5587920"/>
              <a:ext cx="7063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itizen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194"/>
            <p:cNvSpPr/>
            <p:nvPr/>
          </p:nvSpPr>
          <p:spPr>
            <a:xfrm flipV="1">
              <a:off x="4106160" y="4938840"/>
              <a:ext cx="117720" cy="66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95"/>
            <p:cNvSpPr/>
            <p:nvPr/>
          </p:nvSpPr>
          <p:spPr>
            <a:xfrm>
              <a:off x="2693520" y="3510000"/>
              <a:ext cx="3139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6"/>
            <p:cNvSpPr/>
            <p:nvPr/>
          </p:nvSpPr>
          <p:spPr>
            <a:xfrm>
              <a:off x="5636880" y="3510000"/>
              <a:ext cx="31356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197"/>
            <p:cNvSpPr/>
            <p:nvPr/>
          </p:nvSpPr>
          <p:spPr>
            <a:xfrm>
              <a:off x="3635280" y="4454280"/>
              <a:ext cx="3139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198"/>
            <p:cNvSpPr/>
            <p:nvPr/>
          </p:nvSpPr>
          <p:spPr>
            <a:xfrm>
              <a:off x="3635280" y="3982320"/>
              <a:ext cx="31392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199"/>
            <p:cNvSpPr/>
            <p:nvPr/>
          </p:nvSpPr>
          <p:spPr>
            <a:xfrm>
              <a:off x="4577040" y="3982320"/>
              <a:ext cx="31392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200"/>
            <p:cNvSpPr/>
            <p:nvPr/>
          </p:nvSpPr>
          <p:spPr>
            <a:xfrm>
              <a:off x="4577040" y="4454280"/>
              <a:ext cx="3139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01"/>
            <p:cNvSpPr/>
            <p:nvPr/>
          </p:nvSpPr>
          <p:spPr>
            <a:xfrm>
              <a:off x="5636880" y="4832280"/>
              <a:ext cx="31356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202"/>
            <p:cNvSpPr/>
            <p:nvPr/>
          </p:nvSpPr>
          <p:spPr>
            <a:xfrm>
              <a:off x="2811240" y="4832280"/>
              <a:ext cx="31356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03"/>
            <p:cNvSpPr/>
            <p:nvPr/>
          </p:nvSpPr>
          <p:spPr>
            <a:xfrm>
              <a:off x="6696360" y="3226680"/>
              <a:ext cx="8240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ident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04"/>
            <p:cNvSpPr/>
            <p:nvPr/>
          </p:nvSpPr>
          <p:spPr>
            <a:xfrm>
              <a:off x="6696360" y="5209920"/>
              <a:ext cx="824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n-resident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40B-E3A2-4B98-8CA4-6A4455D6B1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A SYSTEM OF TWO-PART PORTABLE VOUCHER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6883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first part designed to cover the real cost of studies: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uition fee vouc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mount of money equivalent to the true cost of studies in the country of ori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econd part designed to support student’s cost of living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student support vouc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esting tool to introduce equity or fairness elements and to promote social policies (see the Norwegian ca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71F-E7C7-4DA4-A527-1DA17FCE8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A SYSTEM OF TWO-PART PORTABLE VOUCHER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6883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Belgium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students staying home, no change regarding the real cost of studies + a possibility to introduce a support for the cost of living (instead of family benefits 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nt, loan or a m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nt sustainable if most students come back home (GERARD 200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to commute Grants into Loan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a EU job market really exists and graduates move a l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ix to implement national policy 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 the choice of studies and care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B2D-0565-428A-8B9F-351C2C03F3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A SYSTEM OF TWO-PART PORTABLE VOUCHER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pic>
        <p:nvPicPr>
          <p:cNvPr id="147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332000" y="1773360"/>
            <a:ext cx="68832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uition fee vouchers in Belgium – Exampl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2349360"/>
          <a:ext cx="7704000" cy="3834000"/>
        </p:xfrm>
        <a:graphic>
          <a:graphicData uri="http://schemas.openxmlformats.org/drawingml/2006/table">
            <a:tbl>
              <a:tblPr/>
              <a:tblGrid>
                <a:gridCol w="5832360"/>
                <a:gridCol w="1871640"/>
              </a:tblGrid>
              <a:tr h="2876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TY HIGHER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s per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helor or Master  degree in humanities and social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st or  2d year of Bachelor degree in medical sciences; agricultural engineering; engineering; Bachelor or Master degree in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rd year of Bachelor and Master degree in medical sciences; agricultural engineering; engineer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UNIVERSITY HIGHER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s (3 year-professional bachelor degr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s (other degrees), technology (3 year-professional bachelor degr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e (3 year-professional bachelor degree), social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ers and transl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A1B-D4C4-442F-BBE1-17AE41894C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SOME ACTUAL NATIONAL PRACTI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827000"/>
            <a:ext cx="681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WITZERL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ystem of inter-cantonal clearing at the national level to equalize the financing of mobility between cant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btor cantons, university cantons and clearing at the nat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2E6-70F1-4283-9E03-AD4F5532F0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6:43:17Z</dcterms:created>
  <dc:creator>CEDRIC</dc:creator>
  <dc:description/>
  <dc:language>en-US</dc:language>
  <cp:lastModifiedBy>CFWB</cp:lastModifiedBy>
  <dcterms:modified xsi:type="dcterms:W3CDTF">2008-05-27T07:31:11Z</dcterms:modified>
  <cp:revision>334</cp:revision>
  <dc:subject/>
  <dc:title>LA THEORIE DES INVESTISSEMENTS DIRECTS ETRANGERS </dc:title>
</cp:coreProperties>
</file>