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601200" cy="73152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838D-F9DD-4D30-9995-14B64BBE2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1000" y="406080"/>
            <a:ext cx="6959520" cy="1219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7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39320" y="1951200"/>
            <a:ext cx="8161560" cy="2093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39320" y="4244040"/>
            <a:ext cx="8161560" cy="2093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D376-2B96-41A1-8AE8-0BF2265B9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1000" y="406080"/>
            <a:ext cx="6959520" cy="1219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7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39320" y="1951200"/>
            <a:ext cx="3982680" cy="2093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21440" y="1951200"/>
            <a:ext cx="3982680" cy="2093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39320" y="4244040"/>
            <a:ext cx="3982680" cy="2093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21440" y="4244040"/>
            <a:ext cx="3982680" cy="2093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3E78-B0B2-4B50-A680-A910BE3A8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1000" y="406080"/>
            <a:ext cx="6959520" cy="1219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7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39320" y="1951200"/>
            <a:ext cx="2627640" cy="2093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98720" y="1951200"/>
            <a:ext cx="2627640" cy="2093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58120" y="1951200"/>
            <a:ext cx="2627640" cy="2093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39320" y="4244040"/>
            <a:ext cx="2627640" cy="2093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98720" y="4244040"/>
            <a:ext cx="2627640" cy="2093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58120" y="4244040"/>
            <a:ext cx="2627640" cy="2093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45CB-0784-478C-B43D-B1C562EB9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1000" y="406080"/>
            <a:ext cx="6959520" cy="1219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7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39320" y="1951200"/>
            <a:ext cx="8161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FA8F-31F3-45EE-8C01-FD8F26E7B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1000" y="406080"/>
            <a:ext cx="6959520" cy="1219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7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39320" y="1951200"/>
            <a:ext cx="8161560" cy="4389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D7A2-3E8B-46BC-AA55-74EFA8C72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1000" y="406080"/>
            <a:ext cx="6959520" cy="1219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7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39320" y="1951200"/>
            <a:ext cx="3982680" cy="4389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21440" y="1951200"/>
            <a:ext cx="3982680" cy="4389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0427-6F82-4334-9B52-34A87F487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1000" y="406080"/>
            <a:ext cx="6959520" cy="1219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7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C5B3-7CBD-4FB3-BAFD-6B7C6E57E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21000" y="406080"/>
            <a:ext cx="69595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6D52-A33D-46F5-BCD8-C7A70A063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1000" y="406080"/>
            <a:ext cx="6959520" cy="1219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7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39320" y="1951200"/>
            <a:ext cx="3982680" cy="2093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21440" y="1951200"/>
            <a:ext cx="3982680" cy="4389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39320" y="4244040"/>
            <a:ext cx="3982680" cy="2093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8AF5-B9D8-4237-8B1C-A904598E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1000" y="406080"/>
            <a:ext cx="6959520" cy="1219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7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39320" y="1951200"/>
            <a:ext cx="3982680" cy="4389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21440" y="1951200"/>
            <a:ext cx="3982680" cy="2093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21440" y="4244040"/>
            <a:ext cx="3982680" cy="2093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C685-4B84-4B43-B1CC-6A9C75B1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1000" y="406080"/>
            <a:ext cx="6959520" cy="1219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7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39320" y="1951200"/>
            <a:ext cx="3982680" cy="2093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21440" y="1951200"/>
            <a:ext cx="3982680" cy="2093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39320" y="4244040"/>
            <a:ext cx="8161560" cy="2093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807D-397F-40A1-9549-60D27D3F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0080720" cy="7375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1000" y="406080"/>
            <a:ext cx="6959520" cy="1219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700" spc="-1" strike="noStrike">
                <a:solidFill>
                  <a:srgbClr val="990000"/>
                </a:solidFill>
                <a:latin typeface="Tahoma"/>
              </a:rPr>
              <a:t>Click to edit the title text format</a:t>
            </a:r>
            <a:endParaRPr b="1" lang="en-US" sz="47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9320" y="1951200"/>
            <a:ext cx="8161560" cy="4389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1800" indent="-361800"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85880" indent="-303120">
              <a:spcBef>
                <a:spcPts val="850"/>
              </a:spcBef>
              <a:buClr>
                <a:srgbClr val="000000"/>
              </a:buClr>
              <a:buFont typeface="Tahoma"/>
              <a:buChar char="–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208160" indent="-241200"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1692360" indent="-243000">
              <a:spcBef>
                <a:spcPts val="850"/>
              </a:spcBef>
              <a:buClr>
                <a:srgbClr val="000000"/>
              </a:buClr>
              <a:buFont typeface="Tahoma"/>
              <a:buChar char="–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174760" indent="-241200">
              <a:spcBef>
                <a:spcPts val="850"/>
              </a:spcBef>
              <a:buClr>
                <a:srgbClr val="000000"/>
              </a:buClr>
              <a:buFont typeface="Tahoma"/>
              <a:buChar char="»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174760" indent="-241200">
              <a:spcBef>
                <a:spcPts val="850"/>
              </a:spcBef>
              <a:buClr>
                <a:srgbClr val="000000"/>
              </a:buClr>
              <a:buFont typeface="Tahoma"/>
              <a:buChar char="»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174760" indent="-241200">
              <a:spcBef>
                <a:spcPts val="850"/>
              </a:spcBef>
              <a:buClr>
                <a:srgbClr val="000000"/>
              </a:buClr>
              <a:buFont typeface="Tahoma"/>
              <a:buChar char="»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20720" y="6664320"/>
            <a:ext cx="2000160" cy="4888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0840" y="6989400"/>
            <a:ext cx="3919320" cy="406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80320" y="6664320"/>
            <a:ext cx="2000160" cy="4888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C4AECF-6A19-4C7E-807C-9CB772B33D95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0" y="81000"/>
            <a:ext cx="1200240" cy="1299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432240" y="5386320"/>
            <a:ext cx="3095640" cy="9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fr-BE" sz="2100" spc="-1" strike="noStrike">
                <a:solidFill>
                  <a:srgbClr val="990000"/>
                </a:solidFill>
                <a:latin typeface="Tahoma"/>
              </a:rPr>
              <a:t>Bernd Wächt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fr-BE" sz="2100" spc="-1" strike="noStrike">
                <a:solidFill>
                  <a:srgbClr val="990000"/>
                </a:solidFill>
                <a:latin typeface="Tahoma"/>
              </a:rPr>
              <a:t>Director, AC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44600" y="4304880"/>
            <a:ext cx="6958080" cy="1127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Tahoma"/>
              </a:rPr>
              <a:t>Fostering student mobility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ahoma"/>
              </a:rPr>
              <a:t>Bruxelles 29 May 20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623880" y="2505240"/>
            <a:ext cx="8161200" cy="1566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fr-BE" sz="3600" spc="-1" strike="noStrike">
                <a:solidFill>
                  <a:srgbClr val="990000"/>
                </a:solidFill>
                <a:latin typeface="Tahoma"/>
              </a:rPr>
              <a:t>Student mobility.</a:t>
            </a:r>
            <a:br>
              <a:rPr sz="3600"/>
            </a:br>
            <a:r>
              <a:rPr b="1" lang="fr-BE" sz="2000" spc="-1" strike="noStrike">
                <a:solidFill>
                  <a:srgbClr val="990000"/>
                </a:solidFill>
                <a:latin typeface="Tahoma"/>
              </a:rPr>
              <a:t>What is the realistic picture in the EHEA today?</a:t>
            </a:r>
            <a:r>
              <a:rPr b="1" lang="fr-BE" sz="3600" spc="-1" strike="noStrike">
                <a:solidFill>
                  <a:srgbClr val="990000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99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1000" y="406080"/>
            <a:ext cx="6959520" cy="1219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GB" sz="3200" spc="-1" strike="noStrike">
                <a:solidFill>
                  <a:srgbClr val="990000"/>
                </a:solidFill>
                <a:latin typeface="Tahoma"/>
              </a:rPr>
              <a:t>Impacts of Bologna on mobility: </a:t>
            </a:r>
            <a:br>
              <a:rPr sz="3200"/>
            </a:br>
            <a:r>
              <a:rPr b="1" lang="en-GB" sz="3200" spc="-1" strike="noStrike">
                <a:solidFill>
                  <a:srgbClr val="990000"/>
                </a:solidFill>
                <a:latin typeface="Tahoma"/>
              </a:rPr>
              <a:t>degree mobility / UNESCO Data</a:t>
            </a:r>
            <a:endParaRPr b="1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39320" y="1951200"/>
            <a:ext cx="8161560" cy="4389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UNESCO Data 2002-2006 for EHEA countries: most countries rise between 20 and 50%, some over 100%, others dr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umbers slightly suspect: methodological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verall impression: EHEA growth, roughly in line with global grow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o clear indication of positive or negative Bologna eff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1000" y="406080"/>
            <a:ext cx="6959520" cy="1219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GB" sz="2800" spc="-1" strike="noStrike">
                <a:solidFill>
                  <a:srgbClr val="990000"/>
                </a:solidFill>
                <a:latin typeface="Tahoma"/>
              </a:rPr>
              <a:t>Impacts of Bologna on mobility: </a:t>
            </a:r>
            <a:br>
              <a:rPr sz="2800"/>
            </a:br>
            <a:r>
              <a:rPr b="1" lang="en-GB" sz="2800" spc="-1" strike="noStrike">
                <a:solidFill>
                  <a:srgbClr val="990000"/>
                </a:solidFill>
                <a:latin typeface="Tahoma"/>
              </a:rPr>
              <a:t>Surveys and studies</a:t>
            </a:r>
            <a:endParaRPr b="1" lang="en-US" sz="28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9320" y="1951200"/>
            <a:ext cx="8161560" cy="4389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1800" indent="-361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tonishingly little research on a hotly debated iss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1800" indent="-361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CHER/GES 2006 (incoming and outgoing credit mobility in 11 European countries) in institutions ‘in transition’ to Bachelor/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85880" indent="-3031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3 and 4% report mobility incre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85880" indent="-3031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61 and 56 % report st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85880" indent="-3031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35 and 40% report decre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1800" indent="-361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t: same respondents expect in the future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85880" indent="-3031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55% incre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85880" indent="-3031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34% st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85880" indent="-3031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10% decre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1800" indent="-361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ke other studies (DAAD, 2006, HIS 2007): mostly 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1" i="1" lang="en-GB" sz="2000" spc="-1" strike="noStrike">
                <a:solidFill>
                  <a:srgbClr val="000000"/>
                </a:solidFill>
                <a:latin typeface="Tahoma"/>
              </a:rPr>
              <a:t>felt mobility’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85880" indent="0">
              <a:spcBef>
                <a:spcPts val="49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1800" indent="0">
              <a:spcBef>
                <a:spcPts val="499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1000" y="406080"/>
            <a:ext cx="6959520" cy="1219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GB" sz="4000" spc="-1" strike="noStrike">
                <a:solidFill>
                  <a:srgbClr val="990000"/>
                </a:solidFill>
                <a:latin typeface="Tahoma"/>
              </a:rPr>
              <a:t>That was it. </a:t>
            </a:r>
            <a:endParaRPr b="1" lang="en-US" sz="40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39320" y="1951200"/>
            <a:ext cx="8161560" cy="4389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1800" indent="0" algn="ctr">
              <a:spcBef>
                <a:spcPts val="70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1800" indent="0" algn="ctr">
              <a:spcBef>
                <a:spcPts val="70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1800" indent="0" algn="ctr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1800" indent="0" algn="ctr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GB" sz="4000" spc="-1" strike="noStrike">
                <a:solidFill>
                  <a:srgbClr val="990000"/>
                </a:solidFill>
                <a:latin typeface="Tahoma"/>
              </a:rPr>
              <a:t>Thank you for your kind attention.</a:t>
            </a:r>
            <a:r>
              <a:rPr b="1" lang="en-GB" sz="3400" spc="-1" strike="noStrike">
                <a:solidFill>
                  <a:srgbClr val="990000"/>
                </a:solidFill>
                <a:latin typeface="Tahom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84120" y="561600"/>
            <a:ext cx="7856640" cy="1219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GB" sz="3800" spc="-1" strike="noStrike">
                <a:solidFill>
                  <a:srgbClr val="990000"/>
                </a:solidFill>
                <a:latin typeface="Tahoma"/>
              </a:rPr>
              <a:t>A few words on ACA</a:t>
            </a:r>
            <a:endParaRPr b="1" lang="en-US" sz="38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20240" y="2198160"/>
            <a:ext cx="6721560" cy="4388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ahoma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Tahoma"/>
              </a:rPr>
              <a:t>A (mainly) European association of national organisations in internationalisation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ahoma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Tahoma"/>
              </a:rPr>
              <a:t>Promoting innovation through internationalisation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ahoma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Tahoma"/>
              </a:rPr>
              <a:t>Studies and expert opinion on (international) HE development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5716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958680" indent="-4759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ahom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fr-BE" sz="1900" spc="-1" strike="noStrike">
                <a:solidFill>
                  <a:srgbClr val="000000"/>
                </a:solidFill>
                <a:latin typeface="Tahoma"/>
              </a:rPr>
              <a:t>English-taught programmes in Europ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958680" indent="-4759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ahom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fr-BE" sz="1900" spc="-1" strike="noStrike">
                <a:solidFill>
                  <a:srgbClr val="000000"/>
                </a:solidFill>
                <a:latin typeface="Tahoma"/>
              </a:rPr>
              <a:t>EURODATA (global student mobility stats)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958680" indent="-4759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ahom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fr-BE" sz="1900" spc="-1" strike="noStrike">
                <a:solidFill>
                  <a:srgbClr val="000000"/>
                </a:solidFill>
                <a:latin typeface="Tahoma"/>
              </a:rPr>
              <a:t>Perceptions of European HE worldwid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9586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Tahoma"/>
              </a:rPr>
              <a:t>Seminars and conferences, such a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57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fr-BE" sz="2200" spc="-1" strike="noStrike">
                <a:solidFill>
                  <a:srgbClr val="000000"/>
                </a:solidFill>
                <a:latin typeface="Tahoma"/>
              </a:rPr>
              <a:t>Beyond 2010. European HE in the next decade</a:t>
            </a:r>
            <a:r>
              <a:rPr b="1" lang="fr-BE" sz="2200" spc="-1" strike="noStrike">
                <a:solidFill>
                  <a:srgbClr val="000000"/>
                </a:solidFill>
                <a:latin typeface="Tahoma"/>
              </a:rPr>
              <a:t>, Tallinn, 15-17 Ju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1000" y="406080"/>
            <a:ext cx="6959520" cy="1219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GB" sz="2800" spc="-1" strike="noStrike">
                <a:solidFill>
                  <a:srgbClr val="990000"/>
                </a:solidFill>
                <a:latin typeface="Tahoma"/>
              </a:rPr>
              <a:t>Bologna and mobility: differentiation by type</a:t>
            </a:r>
            <a:endParaRPr b="1" lang="en-US" sz="28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039320" y="1951200"/>
            <a:ext cx="8161560" cy="4389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1800" indent="-361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1800" indent="-361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eed to differentiate by type of 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1800" indent="-361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xpectations regarding intra-European (intra-EHEA) mobilit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1800" indent="-361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xpectations regarding mobility into Europe / EH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1800" indent="-361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xpectations regarding ‘degree’ mobility vs. ‘credit’ (temporary) 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1800" indent="-361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1800" indent="-361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1000" y="406080"/>
            <a:ext cx="6959520" cy="1219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GB" sz="2800" spc="-1" strike="noStrike">
                <a:solidFill>
                  <a:srgbClr val="990000"/>
                </a:solidFill>
                <a:latin typeface="Tahoma"/>
              </a:rPr>
              <a:t>Bologna and mobility: frequent expectations </a:t>
            </a:r>
            <a:endParaRPr b="1" lang="en-US" sz="28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39320" y="1951200"/>
            <a:ext cx="8161560" cy="4389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 fontScale="97000"/>
          </a:bodyPr>
          <a:p>
            <a:pPr marL="350640" indent="-350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 expectation (or objective): an increase of mobility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50640" indent="-350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bility into the EHEA: increase due to enhanced ‘readability’ of degrees (compatible with ‘international’ standard) and QA (selection criteria for destination choice?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50640" indent="-350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ra-European mobility: originally (naïve?) expectation of increase. Later (at least in parts of EHEA) fear of a decrease in short term mobility inside the EHEA, due to shorter duration and higher density of program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50640" indent="-350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ion of debate on short-term mobility (in ironical contrast to quantitative importance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72760" y="968040"/>
            <a:ext cx="6961320" cy="1219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GB" sz="2800" spc="-1" strike="noStrike">
                <a:solidFill>
                  <a:srgbClr val="990000"/>
                </a:solidFill>
                <a:latin typeface="Tahoma"/>
              </a:rPr>
              <a:t>Bologna and mobility: rarely made observations</a:t>
            </a:r>
            <a:endParaRPr b="1" lang="en-US" sz="28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20600" y="2506680"/>
            <a:ext cx="8159760" cy="4387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1800" indent="-361800"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Tahoma"/>
              </a:rPr>
              <a:t>Intra-European credit mobility could lose its lustre (competing opportunities of international / intercultural exposure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1800" indent="-361800"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Tahoma"/>
              </a:rPr>
              <a:t>Competitiveness of EHEA might undermine the ‘all are equal’ assumption in European HE, and result in decreased recognition of credits / decreased mobilit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1800" indent="-361800"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Tahoma"/>
              </a:rPr>
              <a:t>Same phenomenon could (but need not) increase intra-European degree mobility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1800" indent="0">
              <a:spcBef>
                <a:spcPts val="64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1800" indent="0">
              <a:spcBef>
                <a:spcPts val="7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1800" indent="0">
              <a:spcBef>
                <a:spcPts val="7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1800" indent="0">
              <a:spcBef>
                <a:spcPts val="825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61800" indent="0">
              <a:spcBef>
                <a:spcPts val="825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1000" y="406080"/>
            <a:ext cx="6959520" cy="1219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GB" sz="2800" spc="-1" strike="noStrike">
                <a:solidFill>
                  <a:srgbClr val="990000"/>
                </a:solidFill>
                <a:latin typeface="Tahoma"/>
              </a:rPr>
              <a:t>Impacts of Bologna on mobility: difficulties</a:t>
            </a:r>
            <a:endParaRPr b="1" lang="en-US" sz="28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39320" y="1951200"/>
            <a:ext cx="8161560" cy="4389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1800" indent="0">
              <a:spcBef>
                <a:spcPts val="499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1800" indent="-361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arly days: even in ‘early EHEA’ countries, hardly any student cohorts have gone through both cyc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1800" indent="-361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tudent mobility influenced by many factors (in parallel/addition to ‘Bologna’): difficulty to isolate the Bologna impa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1800" indent="-361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tudent mobility statistics leave much to be desired and thus hamper impact assessment (for example, no international data collection on credit mobility at al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1000" y="406080"/>
            <a:ext cx="6959520" cy="1219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GB" sz="2800" spc="-1" strike="noStrike">
                <a:solidFill>
                  <a:srgbClr val="990000"/>
                </a:solidFill>
                <a:latin typeface="Tahoma"/>
              </a:rPr>
              <a:t>Impacts of Bologna on mobility: </a:t>
            </a:r>
            <a:br>
              <a:rPr sz="2800"/>
            </a:br>
            <a:r>
              <a:rPr b="1" lang="en-GB" sz="2800" spc="-1" strike="noStrike">
                <a:solidFill>
                  <a:srgbClr val="990000"/>
                </a:solidFill>
                <a:latin typeface="Tahoma"/>
              </a:rPr>
              <a:t>credit mobility / Erasmus</a:t>
            </a:r>
            <a:endParaRPr b="1" lang="en-US" sz="28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39320" y="1951200"/>
            <a:ext cx="8161560" cy="4389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ack of overview of entirety of credit mo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ssumption that credit mobility equals Erasmus is doubt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teady rise in Erasmus numbers over the programme’s life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rom close to zero to almost 160,000 in 2006/07; rise since 2000/01 about 40% (Bologna-relevant perio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lattening of growth curve in recent yea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tagnation / temporary decrease in some count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Overall: no evidence of negative Bologna impact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1000" y="406080"/>
            <a:ext cx="6959520" cy="1219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GB" sz="3200" spc="-1" strike="noStrike">
                <a:solidFill>
                  <a:srgbClr val="990000"/>
                </a:solidFill>
                <a:latin typeface="Tahoma"/>
              </a:rPr>
              <a:t>Impacts of Bologna on mobility: </a:t>
            </a:r>
            <a:br>
              <a:rPr sz="3200"/>
            </a:br>
            <a:r>
              <a:rPr b="1" lang="en-GB" sz="3200" spc="-1" strike="noStrike">
                <a:solidFill>
                  <a:srgbClr val="990000"/>
                </a:solidFill>
                <a:latin typeface="Tahoma"/>
              </a:rPr>
              <a:t>degree mobility</a:t>
            </a:r>
            <a:endParaRPr b="1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39320" y="1951200"/>
            <a:ext cx="8161560" cy="4389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1800" indent="-361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urope has biggest share of foreign students globally (2003: 1.1 of 2.1 million/EURODAT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1800" indent="-361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lightly more than half of these are Europeans (i.e. high intra-European degree mobi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1800" indent="-361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Very uneve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1800" indent="0">
              <a:spcBef>
                <a:spcPts val="7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1800" indent="0">
              <a:spcBef>
                <a:spcPts val="7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1000" y="406080"/>
            <a:ext cx="6959520" cy="1219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GB" sz="3200" spc="-1" strike="noStrike">
                <a:solidFill>
                  <a:srgbClr val="990000"/>
                </a:solidFill>
                <a:latin typeface="Tahoma"/>
              </a:rPr>
              <a:t>Impacts of Bologna on mobility: </a:t>
            </a:r>
            <a:br>
              <a:rPr sz="3200"/>
            </a:br>
            <a:r>
              <a:rPr b="1" lang="en-GB" sz="3200" spc="-1" strike="noStrike">
                <a:solidFill>
                  <a:srgbClr val="990000"/>
                </a:solidFill>
                <a:latin typeface="Tahoma"/>
              </a:rPr>
              <a:t>degree mobility</a:t>
            </a:r>
            <a:endParaRPr b="1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039680" y="1951200"/>
          <a:ext cx="8161560" cy="5025960"/>
        </p:xfrm>
        <a:graphic>
          <a:graphicData uri="http://schemas.openxmlformats.org/drawingml/2006/table">
            <a:tbl>
              <a:tblPr/>
              <a:tblGrid>
                <a:gridCol w="2041560"/>
                <a:gridCol w="2041560"/>
                <a:gridCol w="2036880"/>
                <a:gridCol w="20415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u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ll stud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in milli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oreign students (in thousan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 foreign students of all stud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er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r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ta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pa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o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-360" y="1951200"/>
            <a:ext cx="4003560" cy="4389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1800" indent="0">
              <a:spcBef>
                <a:spcPts val="49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1800" indent="0">
              <a:spcBef>
                <a:spcPts val="49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1800" indent="0">
              <a:spcBef>
                <a:spcPts val="49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17:58:44Z</dcterms:created>
  <dc:creator>COMPAQ</dc:creator>
  <dc:description/>
  <dc:language>en-US</dc:language>
  <cp:lastModifiedBy>CFWB</cp:lastModifiedBy>
  <dcterms:modified xsi:type="dcterms:W3CDTF">2008-05-28T07:22:15Z</dcterms:modified>
  <cp:revision>58</cp:revision>
  <dc:subject/>
  <dc:title>New Directions…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47539335</vt:r8>
  </property>
  <property fmtid="{D5CDD505-2E9C-101B-9397-08002B2CF9AE}" pid="3" name="_AuthorEmail">
    <vt:lpwstr>Bernd.Waechter@aca-secretariat.be</vt:lpwstr>
  </property>
  <property fmtid="{D5CDD505-2E9C-101B-9397-08002B2CF9AE}" pid="4" name="_AuthorEmailDisplayName">
    <vt:lpwstr>Bernd Waechter</vt:lpwstr>
  </property>
  <property fmtid="{D5CDD505-2E9C-101B-9397-08002B2CF9AE}" pid="5" name="_EmailSubject">
    <vt:lpwstr>Bologna Mobility: my PPP</vt:lpwstr>
  </property>
  <property fmtid="{D5CDD505-2E9C-101B-9397-08002B2CF9AE}" pid="6" name="_ReviewingToolsShownOnce">
    <vt:lpwstr/>
  </property>
</Properties>
</file>