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11.wmf" ContentType="image/x-wmf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F68-80AD-4502-B48E-23A38C12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8FD-F2DA-4237-8BD6-7130B539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1BC-ACBA-4C80-9D8C-2BD0B9CC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A4D-12B6-4724-B06F-A8DEA358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5D20-DB68-43BF-ACE9-E1E00372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A333-B862-4FA8-A491-99B8BC0A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4B2E-3A24-40F3-8EDE-3DEF6D94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FDAF-D71A-4224-A9A1-36FA0AC0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C3C-8E34-4532-BA02-C7CA5A7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8923-6E57-4FCC-A703-9278125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E07-8254-47D6-8F16-7C608B9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908-69CF-4FE7-AB15-AEFE89D3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F89-E14D-4939-860E-BD097C9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7C3B-E961-41C5-92EB-B64F7208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F71-BFDA-4A8A-A5F6-C34B773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4350-9235-4548-88DC-5223DF8E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EB62-706F-443D-BE1A-13AD17AA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55C-3006-478B-A738-CAFE6D3E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4F0-20B2-4794-AD30-2A863F9F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116-C272-4309-AF6D-E1377C4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F0B-389B-4320-A80A-3300948D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5C1-8E0E-4B85-8411-BD6FCF0A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289-8433-4E5A-B681-D23319C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26F-E68A-4E4B-BB65-366ABA75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29 May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E1E-B77E-4ED7-A76B-7B496965067F}" type="slidenum">
              <a:rPr b="0" lang="de-A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/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59880" y="260280"/>
            <a:ext cx="857160" cy="2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7639-082F-4619-9229-9A618A69D0CF}" type="slidenum">
              <a:rPr b="0" lang="de-A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15080" y="260280"/>
            <a:ext cx="1133640" cy="309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Arial"/>
              </a:rPr>
              <a:t>Bologna conference: Asymmetric Mobilit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cccc"/>
                </a:solidFill>
                <a:latin typeface="Verdana"/>
              </a:rPr>
              <a:t>Medical sciences in Austr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ristian SEI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9 May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rst-year students medical students (including dentistry) in Austria: 2004 – 2005 - 2006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35880" cy="4543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3280" y="616572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Abt. I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3FA-E50D-422F-BCE3-0BF82CB8CA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rmans studying</a:t>
            </a: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 in Aust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76360" y="1557360"/>
          <a:ext cx="7086600" cy="436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7086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55640" y="5877000"/>
            <a:ext cx="77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Quelle: BM.WF Abt. I/9 Datenmeldungen der Universitäten auf Basis UniStEV zum jeweiligen Stich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BC4-04B9-4D7E-9F94-F2A60449B0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Medical students in Germany (Germans / non-Germans, gender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8592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76360" y="6021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Statistisches Bundesamt Deutschland http://www.destatis.de/indicators/d/lrbil05a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C79-DB4F-49AE-AF0A-73CCDB4737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pplicants and study places for medical studies in German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832200" cy="44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8C7-347A-4B30-B500-74DB28480D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egional provenance of German medical students</a:t>
            </a:r>
            <a:r>
              <a:rPr b="0" lang="de-AT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03280" y="1557360"/>
          <a:ext cx="7086600" cy="436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7086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116000" y="5950080"/>
            <a:ext cx="655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Abt.I/9 Datenmeldung der Universitäten zum jeweiligen Stich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1BA-858E-4138-8336-ED7E6D5A5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uble age-groups with German „Abitur“ – Bavaria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61080" cy="404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87280" y="6021360"/>
            <a:ext cx="69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Quelle: CHE – Centrum für Hochschulentwicklung; Fächerspezifische Kostenstrukturen für Studienplätze nach Bundesländern; Materialien zum Studierendenhoch Arbeitspapier Nr.82, Jänn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5661000"/>
            <a:ext cx="46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sis I: Durchschnitt 2000 – 2004; Basis II: Daten des Jahres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1628640"/>
            <a:ext cx="1152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DA3-159E-4579-9E79-E982038E55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uble age-groups with German „Abitur“ – Baden-Wurttemberg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61080" cy="4040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950080"/>
            <a:ext cx="6948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Quelle: CHE – Centrum für Hochschulentwicklung; Fächerspezifische Kostenstrukturen für Studienplätze nach Bundesländern; Materialien zum Studierendenhoch Arbeitspapier Nr.82, Jänn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82400" y="56610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sis I: Durchschnitt 2000 – 2004; Basis II: Daten des Jahres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1773360"/>
            <a:ext cx="1152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C41-D5BC-4B0E-A1A4-8921DC6016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uble age-groups with German „Abitur“ – North Rhine-Westphalia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6108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32000" y="5950080"/>
            <a:ext cx="698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Quelle: CHE – Centrum für Hochschulentwicklung; Fächerspezifische Kostenstrukturen für Studienplätze nach Bundesländern; Materialien zum Studierendenhoch Arbeitspapier Nr.82, Jänn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98400" y="56610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sis I: Durchschnitt 2000 – 2004; Basis II: Daten des Jahres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700280"/>
            <a:ext cx="1368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0BD-EBA1-4D70-8C01-AD89C9487A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3300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ustrian efforts in medical education compared to German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515772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Deutschland: Statistisches Bundesam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BV – Kassenärztliche Bundesvereinig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sterreich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istik Austria, BM.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1844640"/>
          <a:ext cx="7272360" cy="3054240"/>
        </p:xfrm>
        <a:graphic>
          <a:graphicData uri="http://schemas.openxmlformats.org/drawingml/2006/table">
            <a:tbl>
              <a:tblPr/>
              <a:tblGrid>
                <a:gridCol w="2519280"/>
                <a:gridCol w="1657440"/>
                <a:gridCol w="151128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Deutschland (20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Österreich (20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AT in %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Ärztebest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307,5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6,7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1.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Studierende Mediz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79,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,0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21.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Anteil Inländer/i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8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9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Anteil Ausländer/i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1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458-FC7D-4EB2-A991-AAF8AA348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German medical students in Austria – absolute figures (2004, 2005, 2006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32000" y="1587600"/>
            <a:ext cx="733716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C6A-0245-4A9B-8DC9-5052D818E5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Justification for public interven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27160" y="1946160"/>
            <a:ext cx="5686560" cy="3029040"/>
            <a:chOff x="2027160" y="1946160"/>
            <a:chExt cx="5686560" cy="3029040"/>
          </a:xfrm>
        </p:grpSpPr>
        <p:sp>
          <p:nvSpPr>
            <p:cNvPr id="96" name="_s122888"/>
            <p:cNvSpPr/>
            <p:nvPr/>
          </p:nvSpPr>
          <p:spPr>
            <a:xfrm>
              <a:off x="41022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22889"/>
            <p:cNvSpPr/>
            <p:nvPr/>
          </p:nvSpPr>
          <p:spPr>
            <a:xfrm>
              <a:off x="4102200" y="194616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cccc"/>
                  </a:solidFill>
                  <a:latin typeface="Verdana"/>
                </a:rPr>
                <a:t>Education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22890"/>
            <p:cNvSpPr/>
            <p:nvPr/>
          </p:nvSpPr>
          <p:spPr>
            <a:xfrm>
              <a:off x="460836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22891"/>
            <p:cNvSpPr/>
            <p:nvPr/>
          </p:nvSpPr>
          <p:spPr>
            <a:xfrm>
              <a:off x="617544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66"/>
                  </a:solidFill>
                  <a:latin typeface="Verdana"/>
                </a:rPr>
                <a:t>Health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22892"/>
            <p:cNvSpPr/>
            <p:nvPr/>
          </p:nvSpPr>
          <p:spPr>
            <a:xfrm>
              <a:off x="359568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22893"/>
            <p:cNvSpPr/>
            <p:nvPr/>
          </p:nvSpPr>
          <p:spPr>
            <a:xfrm>
              <a:off x="202716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b2b2b2"/>
                  </a:solidFill>
                  <a:latin typeface="Verdana"/>
                </a:rPr>
                <a:t>Economic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3E9-217C-44CC-897F-8245CAA30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3300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Gender balance of medical students in Austria (2005/06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515772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, BM.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1844640"/>
          <a:ext cx="7705800" cy="2951280"/>
        </p:xfrm>
        <a:graphic>
          <a:graphicData uri="http://schemas.openxmlformats.org/drawingml/2006/table">
            <a:tbl>
              <a:tblPr/>
              <a:tblGrid>
                <a:gridCol w="1079640"/>
                <a:gridCol w="1655640"/>
                <a:gridCol w="865080"/>
                <a:gridCol w="1150920"/>
                <a:gridCol w="865440"/>
                <a:gridCol w="1368360"/>
                <a:gridCol w="720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Overall number of medical students 2005/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Students from 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Students from outside 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11,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,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2,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8,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6,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,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19,9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5,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4,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0B9-DAF8-4E26-B548-DF6ADA8B25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Economic dimen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027160" y="1946160"/>
            <a:ext cx="5686560" cy="3029040"/>
            <a:chOff x="2027160" y="1946160"/>
            <a:chExt cx="5686560" cy="3029040"/>
          </a:xfrm>
        </p:grpSpPr>
        <p:sp>
          <p:nvSpPr>
            <p:cNvPr id="176" name="_s142341"/>
            <p:cNvSpPr/>
            <p:nvPr/>
          </p:nvSpPr>
          <p:spPr>
            <a:xfrm>
              <a:off x="41022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42342"/>
            <p:cNvSpPr/>
            <p:nvPr/>
          </p:nvSpPr>
          <p:spPr>
            <a:xfrm>
              <a:off x="4102200" y="194616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42343"/>
            <p:cNvSpPr/>
            <p:nvPr/>
          </p:nvSpPr>
          <p:spPr>
            <a:xfrm>
              <a:off x="460836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42344"/>
            <p:cNvSpPr/>
            <p:nvPr/>
          </p:nvSpPr>
          <p:spPr>
            <a:xfrm>
              <a:off x="617544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42345"/>
            <p:cNvSpPr/>
            <p:nvPr/>
          </p:nvSpPr>
          <p:spPr>
            <a:xfrm>
              <a:off x="359568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42346"/>
            <p:cNvSpPr/>
            <p:nvPr/>
          </p:nvSpPr>
          <p:spPr>
            <a:xfrm>
              <a:off x="202716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b2b2b2"/>
                  </a:solidFill>
                  <a:latin typeface="Verdana"/>
                </a:rPr>
                <a:t>Economic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912-578D-4445-B417-3682BBDA17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atio between students and resources at medical universit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6165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Studierende und Berechnungsmethode Abt. I/7; Budget Abt. I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03280" y="1517760"/>
          <a:ext cx="7327800" cy="47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17760"/>
                    <a:ext cx="7327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996-AC62-4D98-AD6D-3E14E00DB2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atio between students and resources outside the medical universit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6093000"/>
            <a:ext cx="6659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Studierende und Berechnungsmethode Abt. I/7; Budget Abt. I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55640" y="1484280"/>
          <a:ext cx="8209080" cy="40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820908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36B-97AE-4528-8AB6-A5A60D70F9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tate expenditure on medical studies compared to other studies (absolute figures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13268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EB1-1F9E-41D3-8498-27571EEE41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erman reflections on a model for study grants for full studies abroad</a:t>
            </a:r>
            <a:r>
              <a:rPr b="0" lang="de-AT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(English version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98900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great advantage of this model is the effect of great relief on the capacity of the German higher education system that can be achieved in the short term, since a complete place at a university missing in Germany can be replaced per student who completes all of his bachelor studies abroad. Depending on the financial set-up of the study grants for studies abroad, such a solution could also be more advantageous with regard to the direct costs than creating an equivalent place at a university in Germany.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501336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Quelle: Centrum für Hochschulentwicklung, Deutschland, Arbeitspapier 86, März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E21-5A10-4DF0-9A37-0BE2EEDBCF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Health dimen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27160" y="1946160"/>
            <a:ext cx="5686560" cy="3029040"/>
            <a:chOff x="2027160" y="1946160"/>
            <a:chExt cx="5686560" cy="3029040"/>
          </a:xfrm>
        </p:grpSpPr>
        <p:sp>
          <p:nvSpPr>
            <p:cNvPr id="104" name="_s144389"/>
            <p:cNvSpPr/>
            <p:nvPr/>
          </p:nvSpPr>
          <p:spPr>
            <a:xfrm>
              <a:off x="41022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44390"/>
            <p:cNvSpPr/>
            <p:nvPr/>
          </p:nvSpPr>
          <p:spPr>
            <a:xfrm>
              <a:off x="4102200" y="194616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44391"/>
            <p:cNvSpPr/>
            <p:nvPr/>
          </p:nvSpPr>
          <p:spPr>
            <a:xfrm>
              <a:off x="460836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44392"/>
            <p:cNvSpPr/>
            <p:nvPr/>
          </p:nvSpPr>
          <p:spPr>
            <a:xfrm>
              <a:off x="617544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66"/>
                  </a:solidFill>
                  <a:latin typeface="Verdana"/>
                </a:rPr>
                <a:t>Health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44393"/>
            <p:cNvSpPr/>
            <p:nvPr/>
          </p:nvSpPr>
          <p:spPr>
            <a:xfrm>
              <a:off x="359568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44394"/>
            <p:cNvSpPr/>
            <p:nvPr/>
          </p:nvSpPr>
          <p:spPr>
            <a:xfrm>
              <a:off x="202716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12B-EE03-454D-A377-85B195019D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etirement of doctors in Austria </a:t>
            </a:r>
            <a:br>
              <a:rPr sz="3200"/>
            </a:b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(2007 – 2030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1773360"/>
          <a:ext cx="770400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77040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835280" y="623736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EFA-D864-4485-B923-87C4067BD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ge pyramid of doctors in German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502452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6CC-7FEB-4238-8D9C-F36EA767D9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Doctors needed in Austria 2007–2030, substitution and addition (forecas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14680" y="1827360"/>
            <a:ext cx="662292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6360" y="58770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769-C77C-48DA-BEA2-5F1C365B41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ctors needed in Austria 2007 – 2030, including average number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32000" y="1557360"/>
          <a:ext cx="7313400" cy="40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557360"/>
                    <a:ext cx="73134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58920" y="57340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A6F-D479-4AE9-9031-AFC0FBE6C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Doctors needed in Austria from 2019 – 2030 (balance demand / supply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70160"/>
          <a:ext cx="807552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70160"/>
                    <a:ext cx="80755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4292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338-DD72-4579-97B0-EFF2E8921A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Education dimen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01920" y="1946160"/>
            <a:ext cx="4932360" cy="3030480"/>
            <a:chOff x="2401920" y="1946160"/>
            <a:chExt cx="4932360" cy="3030480"/>
          </a:xfrm>
        </p:grpSpPr>
        <p:sp>
          <p:nvSpPr>
            <p:cNvPr id="129" name="_s140293"/>
            <p:cNvSpPr/>
            <p:nvPr/>
          </p:nvSpPr>
          <p:spPr>
            <a:xfrm>
              <a:off x="41004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40294"/>
            <p:cNvSpPr/>
            <p:nvPr/>
          </p:nvSpPr>
          <p:spPr>
            <a:xfrm>
              <a:off x="4289400" y="1946160"/>
              <a:ext cx="1160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cccc"/>
                  </a:solidFill>
                  <a:latin typeface="Verdana"/>
                </a:rPr>
                <a:t>Education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40295"/>
            <p:cNvSpPr/>
            <p:nvPr/>
          </p:nvSpPr>
          <p:spPr>
            <a:xfrm>
              <a:off x="460692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40296"/>
            <p:cNvSpPr/>
            <p:nvPr/>
          </p:nvSpPr>
          <p:spPr>
            <a:xfrm>
              <a:off x="6173640" y="4592520"/>
              <a:ext cx="1160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0297"/>
            <p:cNvSpPr/>
            <p:nvPr/>
          </p:nvSpPr>
          <p:spPr>
            <a:xfrm>
              <a:off x="359424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40298"/>
            <p:cNvSpPr/>
            <p:nvPr/>
          </p:nvSpPr>
          <p:spPr>
            <a:xfrm>
              <a:off x="2401920" y="4591080"/>
              <a:ext cx="1160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B9C-7B3A-4E70-960C-BBBF11A8F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4:01:17Z</dcterms:created>
  <dc:creator>muster</dc:creator>
  <dc:description/>
  <dc:language>en-US</dc:language>
  <cp:lastModifiedBy>CFWB</cp:lastModifiedBy>
  <dcterms:modified xsi:type="dcterms:W3CDTF">2008-05-28T12:20:59Z</dcterms:modified>
  <cp:revision>85</cp:revision>
  <dc:subject/>
  <dc:title>Folie 1</dc:title>
</cp:coreProperties>
</file>