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F063-F805-44D2-A230-31B597B7CE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D27F-C192-41CB-99A0-91954F3A88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7AA-5C31-4AC4-B1F2-BCCB5967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791-FA71-4AC8-8F5B-632FC7FF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E66-6187-4862-AE55-14FEB04A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7AE-B0F9-4CAD-B846-96EB1A63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DFCA-E696-429C-87CE-E761A2EF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AD18-EDCD-49C1-A9B6-10F6EA44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C9FE-F54D-40F7-8501-736C9A38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66AA-B6E0-4960-B29A-F967C2F0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435B-987C-4C98-AB03-442A0F4E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9FAD-FE39-4FB2-A51A-3963C7DA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4AE2-2B1D-422E-99AC-E44FF416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A9F-F3C2-4281-92FB-636B09C2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479E-536C-496F-8DCD-90A8DC46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3EC6-47BC-4097-9597-69C80CC3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2CCD-8B41-46C1-8A0D-68089EDE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1099-48E3-4B9F-9BF7-FC6D80F4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39E8-5A83-44DA-B899-ED21D18E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A63-57D0-4FD3-844D-9CA494F2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393-EFAF-4985-9BCF-69DEA25A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019-30AD-40F4-91A5-EB78D642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C18-31F1-4BFA-B714-3A3B8FE1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D40-0948-4E45-A5FD-DBAF328B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FEC-0F02-45AA-9DD7-D7BE8720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0BC-5D44-46BE-88A2-F3F11A63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4C3E-7150-4D81-A600-D47E1F5244FE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D85D-978C-41DA-9119-CB5706A5E9F8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Kathleen.Robertson@scotland.gsi.gov.uk" TargetMode="External"/><Relationship Id="rId2" Type="http://schemas.openxmlformats.org/officeDocument/2006/relationships/hyperlink" Target="mailto:Johanna.wockatz@education.ministry.se" TargetMode="External"/><Relationship Id="rId3" Type="http://schemas.openxmlformats.org/officeDocument/2006/relationships/hyperlink" Target="mailto:a.m.t.inthout@minocw.n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Expert Network on Portability of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Grants and Loan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 Presentation of Members of the Expert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2004 Dutch presidency of the European Counc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2005-2007 Chair of the Bologna working group on portability of grants and loa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London communiqué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ay 2007 change of the Dutch student financial support la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1 September 2007 students could take grants and loans for a full study abro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700000" y="277920"/>
            <a:ext cx="5986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Past and present develop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7" descr="NETH0001"/>
          <p:cNvPicPr/>
          <p:nvPr/>
        </p:nvPicPr>
        <p:blipFill>
          <a:blip r:embed="rId1"/>
          <a:stretch/>
        </p:blipFill>
        <p:spPr>
          <a:xfrm>
            <a:off x="0" y="0"/>
            <a:ext cx="22683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romoting this instrument for more student mobility in Europ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o create a flexible and easy system  to control portable grants and loa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hare experience with other count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ntacts with countries for multi- and bilateral agreements in the field of portability of grants and loa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771280" y="277920"/>
            <a:ext cx="5915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Why member of the Expert Networ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Picture 7" descr="NETH0001"/>
          <p:cNvPicPr/>
          <p:nvPr/>
        </p:nvPicPr>
        <p:blipFill>
          <a:blip r:embed="rId1"/>
          <a:stretch/>
        </p:blipFill>
        <p:spPr>
          <a:xfrm>
            <a:off x="0" y="0"/>
            <a:ext cx="234000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11280" y="277920"/>
            <a:ext cx="6275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tuation concerning porta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8" descr="GEOR0001"/>
          <p:cNvPicPr/>
          <p:nvPr/>
        </p:nvPicPr>
        <p:blipFill>
          <a:blip r:embed="rId1"/>
          <a:stretch/>
        </p:blipFill>
        <p:spPr>
          <a:xfrm>
            <a:off x="0" y="0"/>
            <a:ext cx="2195640" cy="14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214200" y="2786040"/>
          <a:ext cx="8572680" cy="3886200"/>
        </p:xfrm>
        <a:graphic>
          <a:graphicData uri="http://schemas.openxmlformats.org/drawingml/2006/table">
            <a:tbl>
              <a:tblPr/>
              <a:tblGrid>
                <a:gridCol w="1071720"/>
                <a:gridCol w="1214280"/>
                <a:gridCol w="1071720"/>
                <a:gridCol w="1136520"/>
                <a:gridCol w="1079640"/>
                <a:gridCol w="927000"/>
                <a:gridCol w="928800"/>
                <a:gridCol w="11430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y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ype of Suppo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ational HE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oreign HE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Priv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Institu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Priv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Institut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cy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Gra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scholarsh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51% full or part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USD 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F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F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F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5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Lo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27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n-US" sz="1400" spc="-1" strike="noStrike" baseline="30000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 cy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Gra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scholarsh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F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1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Lo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27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  cy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Gra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scholarsh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F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0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Lo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97" name="Rectangle 7"/>
          <p:cNvSpPr/>
          <p:nvPr/>
        </p:nvSpPr>
        <p:spPr>
          <a:xfrm>
            <a:off x="571680" y="171468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GB" sz="18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 cycle – no portable grants and loa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 cycle -  portable grants and loa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 cycle – no grants and loans neither for national nor for foreig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357720" y="2428920"/>
            <a:ext cx="54720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oES initiated HEI funding refor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eorgia joined Bologna Pro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556000" y="277920"/>
            <a:ext cx="613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Past and present develop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Picture 7" descr="GEOR0001"/>
          <p:cNvPicPr/>
          <p:nvPr/>
        </p:nvPicPr>
        <p:blipFill>
          <a:blip r:embed="rId1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214200" y="24051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ast: 200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-1428840" y="2857680"/>
            <a:ext cx="57866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214200" y="4010040"/>
            <a:ext cx="31435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esent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ecognizing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he nee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or furth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357720" y="4000680"/>
            <a:ext cx="54720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National HE financing policy to be revised an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National mobility strategy to be develop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00000" y="277920"/>
            <a:ext cx="5986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y member of the Expert Networ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7" descr="GEOR0001"/>
          <p:cNvPicPr/>
          <p:nvPr/>
        </p:nvPicPr>
        <p:blipFill>
          <a:blip r:embed="rId1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357120" y="17859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Future: 2008-200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Diagram 8" descr=""/>
          <p:cNvPicPr/>
          <p:nvPr/>
        </p:nvPicPr>
        <p:blipFill>
          <a:blip r:embed="rId2"/>
          <a:stretch/>
        </p:blipFill>
        <p:spPr>
          <a:xfrm>
            <a:off x="4206960" y="2139840"/>
            <a:ext cx="4943520" cy="4151520"/>
          </a:xfrm>
          <a:prstGeom prst="rect">
            <a:avLst/>
          </a:prstGeom>
          <a:ln w="0">
            <a:noFill/>
          </a:ln>
        </p:spPr>
      </p:pic>
      <p:pic>
        <p:nvPicPr>
          <p:cNvPr id="209" name="Diagram 16" descr=""/>
          <p:cNvPicPr/>
          <p:nvPr/>
        </p:nvPicPr>
        <p:blipFill>
          <a:blip r:embed="rId3"/>
          <a:stretch/>
        </p:blipFill>
        <p:spPr>
          <a:xfrm>
            <a:off x="298440" y="2322360"/>
            <a:ext cx="43592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cotland has approximately 285,000 students in higher education in college and universit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cotland supports students to participate in Erasmus, Socrates etc - 1000 stud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cotland is an importer of students - 8000 from non UK EU countries; 40,000 from overs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3" descr="UNKG0101"/>
          <p:cNvPicPr/>
          <p:nvPr/>
        </p:nvPicPr>
        <p:blipFill>
          <a:blip r:embed="rId1"/>
          <a:stretch/>
        </p:blipFill>
        <p:spPr>
          <a:xfrm>
            <a:off x="0" y="0"/>
            <a:ext cx="2268360" cy="13730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2484360" y="26028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340000" y="0"/>
            <a:ext cx="58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ccff"/>
                </a:solidFill>
                <a:latin typeface="Verdana"/>
              </a:rPr>
              <a:t>Situation concerning portabilit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rgen Communiqué (2005):  commitment to facilitate the portability of grants and lo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cottish Government's aim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ternational Framework - recognises international activities contribute to creating a more successful country, increasing sustainable economic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ternational Lifelong Learning Strategy – aim to support universal employability of all our stud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4" descr="UNKG0101"/>
          <p:cNvPicPr/>
          <p:nvPr/>
        </p:nvPicPr>
        <p:blipFill>
          <a:blip r:embed="rId1"/>
          <a:stretch/>
        </p:blipFill>
        <p:spPr>
          <a:xfrm>
            <a:off x="0" y="0"/>
            <a:ext cx="2195640" cy="13273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2340000" y="189000"/>
            <a:ext cx="62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ccff"/>
                </a:solidFill>
                <a:latin typeface="Verdana"/>
              </a:rPr>
              <a:t>Past and present develop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cottish Ministers are committed to investigating the feasibility of introducing portable student support for Scottish students studying outside the UK in Europe and world wide and at least a pilot model introduced by 20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ncourage Scottish students to gain experience of living and studying overseas; encourage a wider outlook; develop skills that will make them more employab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3" descr="UNKG0101"/>
          <p:cNvPicPr/>
          <p:nvPr/>
        </p:nvPicPr>
        <p:blipFill>
          <a:blip r:embed="rId1"/>
          <a:stretch/>
        </p:blipFill>
        <p:spPr>
          <a:xfrm>
            <a:off x="0" y="0"/>
            <a:ext cx="2195640" cy="13273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2340000" y="189000"/>
            <a:ext cx="62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ccff"/>
                </a:solidFill>
                <a:latin typeface="Verdana"/>
              </a:rPr>
              <a:t>Past and present develop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Have project in place to consider feasibilit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Financial, statistics, experience from other countr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inisters approved detailed consideration of two proposed mod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irroring support currently given to students studying in (1) Scotland and (2) Rest of U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Picture 3" descr="UNKG0101"/>
          <p:cNvPicPr/>
          <p:nvPr/>
        </p:nvPicPr>
        <p:blipFill>
          <a:blip r:embed="rId1"/>
          <a:stretch/>
        </p:blipFill>
        <p:spPr>
          <a:xfrm>
            <a:off x="0" y="0"/>
            <a:ext cx="2195640" cy="13273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2340000" y="189000"/>
            <a:ext cx="62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ccff"/>
                </a:solidFill>
                <a:latin typeface="Verdana"/>
              </a:rPr>
              <a:t>Past and present develop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upport the Network focus on both policy and delivery exper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Network of student support policy exper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upported initial advice to Ministers to gain commitment for feasibility study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hare policy experiences of countries with or thinking of, introducing  portable student support – financial, legislative,  benefits of poli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4" descr="UNKG0101"/>
          <p:cNvPicPr/>
          <p:nvPr/>
        </p:nvPicPr>
        <p:blipFill>
          <a:blip r:embed="rId1"/>
          <a:stretch/>
        </p:blipFill>
        <p:spPr>
          <a:xfrm>
            <a:off x="0" y="0"/>
            <a:ext cx="2050920" cy="1241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2124000" y="0"/>
            <a:ext cx="633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ccff"/>
                </a:solidFill>
                <a:latin typeface="Verdana"/>
              </a:rPr>
              <a:t>Why member of the Expert Network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004 Conference in Noordwijk on grants and lo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005 Bergen Communiqué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[…] </a:t>
            </a:r>
            <a:r>
              <a:rPr b="0" i="1" lang="nl-NL" sz="2000" spc="-1" strike="noStrike">
                <a:solidFill>
                  <a:srgbClr val="ffffff"/>
                </a:solidFill>
                <a:latin typeface="Verdana"/>
              </a:rPr>
              <a:t>Commitment to faciliate the portability of grants and loa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Working group on student financial suppor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007 London Communiqué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Verdana"/>
              </a:rPr>
              <a:t>[…] To set up a network of national experts to share  information, and help to identify and overcome to portability of grants and loa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007 Expert Network on portability of grants and lo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Network of student support delivery expe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hare experiences of countries with portability – administrative issues, IT systems, IA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s support model develops shared experience will influence desig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nce up and running network of contacts will support information on courses, qualifications etc in countries Scottish students studying i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3" descr="UNKG0101"/>
          <p:cNvPicPr/>
          <p:nvPr/>
        </p:nvPicPr>
        <p:blipFill>
          <a:blip r:embed="rId1"/>
          <a:stretch/>
        </p:blipFill>
        <p:spPr>
          <a:xfrm>
            <a:off x="0" y="0"/>
            <a:ext cx="2050920" cy="12412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2124000" y="0"/>
            <a:ext cx="633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ccff"/>
                </a:solidFill>
                <a:latin typeface="Verdana"/>
              </a:rPr>
              <a:t>Why member of the Expert Network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763640" y="33336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6ccff"/>
                </a:solidFill>
                <a:latin typeface="Verdana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Verdana"/>
              </a:rPr>
              <a:t>Chair of the Expert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athleen Roberts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Kathleen.Robertson@scotland.gsi.gov.u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Johanna Wockat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Johanna.wockatz@education.ministry.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drik in ‘t Ho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a.m.t.inthout@minocw.n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ountry's situation concerning portab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ast and present develop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y member of the Expert Net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84000" y="277920"/>
            <a:ext cx="6202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ituation concerning porta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weden offers portability of study support for studies abro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or a short period of time or for a full degre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with no geographical limit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he size of the loan varies depending of the host count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 supplementary loan can be awarded for tuition fees, travel expenses and insur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The student as well as the host education institutions must meet certain condi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Portability for foreign stud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84000" y="277920"/>
            <a:ext cx="6202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ituation concerning porta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Total number of students that receives Swedish student support: approximately 900 0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Total number of students in post-secondary education with Swedish study support studying in Sweden: approximately 300 000 (60% women, 40% me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Number of students in post-secondary education with Swedish study support studying abroad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approximately 27 0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ree movers: 62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articipants in an exchange program: 23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Non-academic language course: 15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The Bologna pro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Berlin, Bergen and London communiqués committed to facilitate portability of loans and grants and identify and overcome obstac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weden’s situation – small country, a need to broaden one’s horizons, get a global perspective,  international exper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wedish aim: create a framework that facilitates mobility and exchange, remove obstacles to internationalis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portable study support is an important p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484000" y="277920"/>
            <a:ext cx="6202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ast and present develop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288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Committed through the Bologna proc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mportant to have a forum for discussion for both policy and delivery expe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Conta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haring experi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Nordic coop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nformation exch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to avoid double clai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484000" y="277920"/>
            <a:ext cx="6202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Why member of the Expert Networ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5640" y="260280"/>
            <a:ext cx="611964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Situation concerning porta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ixed support of grants and loa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 basic grant for each stud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dditional grant for students with parents that can’t afford to contribu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 loan for living co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 loan to pay for tuition fe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Free public transportation either during weekdays or weeken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11" descr="NETH0001"/>
          <p:cNvPicPr/>
          <p:nvPr/>
        </p:nvPicPr>
        <p:blipFill>
          <a:blip r:embed="rId1"/>
          <a:stretch/>
        </p:blipFill>
        <p:spPr>
          <a:xfrm>
            <a:off x="0" y="0"/>
            <a:ext cx="227952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55640" y="260280"/>
            <a:ext cx="611964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Situation concerning porta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ortable to all countri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f all normal requirements to receive support are fulfill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d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tudent has lived 3 out of the last 6 years in The Netherlan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Quality and level of the foreign program is suffic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11" descr="NETH0001"/>
          <p:cNvPicPr/>
          <p:nvPr/>
        </p:nvPicPr>
        <p:blipFill>
          <a:blip r:embed="rId1"/>
          <a:stretch/>
        </p:blipFill>
        <p:spPr>
          <a:xfrm>
            <a:off x="0" y="0"/>
            <a:ext cx="227952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5:00:50Z</dcterms:created>
  <dc:creator>o202mie</dc:creator>
  <dc:description/>
  <dc:language>en-US</dc:language>
  <cp:lastModifiedBy>rackeco</cp:lastModifiedBy>
  <dcterms:modified xsi:type="dcterms:W3CDTF">2008-06-02T12:50:30Z</dcterms:modified>
  <cp:revision>38</cp:revision>
  <dc:subject/>
  <dc:title>Expert Network on portability of Grants and Lo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bjective-Caveats">
    <vt:lpwstr/>
  </property>
  <property fmtid="{D5CDD505-2E9C-101B-9397-08002B2CF9AE}" pid="3" name="Objective-Classification">
    <vt:lpwstr>Not classified</vt:lpwstr>
  </property>
  <property fmtid="{D5CDD505-2E9C-101B-9397-08002B2CF9AE}" pid="4" name="Objective-Comment">
    <vt:lpwstr/>
  </property>
  <property fmtid="{D5CDD505-2E9C-101B-9397-08002B2CF9AE}" pid="5" name="Objective-CreationStamp">
    <vt:filetime>2008-05-12T00:00:00Z</vt:filetime>
  </property>
  <property fmtid="{D5CDD505-2E9C-101B-9397-08002B2CF9AE}" pid="6" name="Objective-Date Received [system]">
    <vt:lpwstr/>
  </property>
  <property fmtid="{D5CDD505-2E9C-101B-9397-08002B2CF9AE}" pid="7" name="Objective-Date of Original [system]">
    <vt:lpwstr/>
  </property>
  <property fmtid="{D5CDD505-2E9C-101B-9397-08002B2CF9AE}" pid="8" name="Objective-DatePublished">
    <vt:filetime>2008-05-21T00:00:00Z</vt:filetime>
  </property>
  <property fmtid="{D5CDD505-2E9C-101B-9397-08002B2CF9AE}" pid="9" name="Objective-FileNumber">
    <vt:lpwstr/>
  </property>
  <property fmtid="{D5CDD505-2E9C-101B-9397-08002B2CF9AE}" pid="10" name="Objective-Id">
    <vt:lpwstr>D157762</vt:lpwstr>
  </property>
  <property fmtid="{D5CDD505-2E9C-101B-9397-08002B2CF9AE}" pid="11" name="Objective-IsApproved">
    <vt:lpwstr>No</vt:lpwstr>
  </property>
  <property fmtid="{D5CDD505-2E9C-101B-9397-08002B2CF9AE}" pid="12" name="Objective-IsPublished">
    <vt:lpwstr>Yes</vt:lpwstr>
  </property>
  <property fmtid="{D5CDD505-2E9C-101B-9397-08002B2CF9AE}" pid="13" name="Objective-ModificationStamp">
    <vt:filetime>2008-05-21T00:00:00Z</vt:filetime>
  </property>
  <property fmtid="{D5CDD505-2E9C-101B-9397-08002B2CF9AE}" pid="14" name="Objective-Owner">
    <vt:lpwstr>Robertson, Kathleen K (u201115)</vt:lpwstr>
  </property>
  <property fmtid="{D5CDD505-2E9C-101B-9397-08002B2CF9AE}" pid="15" name="Objective-Parent">
    <vt:lpwstr>Residency criteria for students: Advice and policy: Student finance: File Part 2: 2007-</vt:lpwstr>
  </property>
  <property fmtid="{D5CDD505-2E9C-101B-9397-08002B2CF9AE}" pid="16" name="Objective-Path">
    <vt:lpwstr>Objective Global Folder:SG File Plan:Education, careers and employment:Education and skills:Student finance:Advice and policy: Student finance:Residency criteria for students: Advice and policy: Student finance: File Part 2: 2007-:</vt:lpwstr>
  </property>
  <property fmtid="{D5CDD505-2E9C-101B-9397-08002B2CF9AE}" pid="17" name="Objective-State">
    <vt:lpwstr>Published</vt:lpwstr>
  </property>
  <property fmtid="{D5CDD505-2E9C-101B-9397-08002B2CF9AE}" pid="18" name="Objective-Title">
    <vt:lpwstr>Bologna process - experts group - Brussels seminar presentation - scotland</vt:lpwstr>
  </property>
  <property fmtid="{D5CDD505-2E9C-101B-9397-08002B2CF9AE}" pid="19" name="Objective-Version">
    <vt:lpwstr>2.0</vt:lpwstr>
  </property>
  <property fmtid="{D5CDD505-2E9C-101B-9397-08002B2CF9AE}" pid="20" name="Objective-VersionComment">
    <vt:lpwstr>Version 2</vt:lpwstr>
  </property>
  <property fmtid="{D5CDD505-2E9C-101B-9397-08002B2CF9AE}" pid="21" name="Objective-VersionNumber">
    <vt:r8>4</vt:r8>
  </property>
</Properties>
</file>