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738-E632-4913-9AFA-E00B13D4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39D-6548-4DB8-B128-AB220415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8B1-70A4-42CF-9954-2012C291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4C3-AA5D-43CF-AE59-095B89E7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59C-ABB5-4F46-A2A1-01491DB2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D3C-96FE-4A1E-9950-6D630B3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8B6-73AC-4936-A191-E08D5EFA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B91-562F-4144-B0E6-67C8677A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BB9-09FA-4D1A-B303-B360C8A0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794-C4F8-4271-8268-CB2C466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1BD-94BB-413F-9A7A-8F8EA9D7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9E2-8293-427C-979A-E30527DE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AE9-1CAC-4A63-927D-822803A5C66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nseignement.be/prof/espaces/sup/mobilite/index.asp" TargetMode="External"/><Relationship Id="rId3" Type="http://schemas.openxmlformats.org/officeDocument/2006/relationships/hyperlink" Target="http://www.oecd.org/" TargetMode="External"/><Relationship Id="rId4" Type="http://schemas.openxmlformats.org/officeDocument/2006/relationships/hyperlink" Target="http://www.eurydice.org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933720"/>
            <a:ext cx="914400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stering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Student Mobility: Next Ste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29 Ma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3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2997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Bologna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By Pascale Genbrug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International Relations’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492280"/>
            <a:ext cx="7993080" cy="165600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Comic Sans MS"/>
              </a:rPr>
              <a:t>Attractiveness of HEI from students’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773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ffffff"/>
                </a:solidFill>
                <a:latin typeface="Comic Sans MS"/>
              </a:rPr>
              <a:t>Attractiveness of HEI from students’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924280"/>
            <a:ext cx="7993080" cy="100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ducational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148280"/>
            <a:ext cx="7993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2)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372280"/>
            <a:ext cx="7993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3) Financial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73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1) Attractiveness of HEI from an educational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924280"/>
            <a:ext cx="7993080" cy="100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148280"/>
            <a:ext cx="7993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372280"/>
            <a:ext cx="7993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gher Education Institution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773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2) Attractiveness of HEI depends on the country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2708280"/>
            <a:ext cx="7993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4437000"/>
            <a:ext cx="7993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ulture and men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373720"/>
            <a:ext cx="799308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st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500280"/>
            <a:ext cx="7993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essibility and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773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omic Sans MS"/>
              </a:rPr>
              <a:t>3) Attractiveness of HEI from a financial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924280"/>
            <a:ext cx="7993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st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645000"/>
            <a:ext cx="7993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557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Comic Sans MS"/>
              </a:rPr>
              <a:t>Attractiveness of HEI from students’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3141720"/>
            <a:ext cx="7993080" cy="21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Main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nseignement.be/prof/espaces/sup/mobilite/index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ec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urydic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557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omic Sans MS"/>
              </a:rPr>
              <a:t>Attractiveness of HEI from students’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573360"/>
            <a:ext cx="799308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40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324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350028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omic Sans MS"/>
              </a:rPr>
              <a:t>Union de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BE" sz="1800" spc="-1" strike="noStrike">
                <a:solidFill>
                  <a:srgbClr val="000000"/>
                </a:solidFill>
                <a:latin typeface="Comic Sans MS"/>
              </a:rPr>
              <a:t>tudiants de la Communauté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omic Sans MS"/>
              </a:rPr>
              <a:t>Avenue des Arts, 50/Bte 19 - 02/541.8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omic Sans MS"/>
              </a:rPr>
              <a:t>info@unecof.be - 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3:57:27Z</dcterms:created>
  <dc:creator>Xavier Dupont</dc:creator>
  <dc:description/>
  <dc:language>en-US</dc:language>
  <cp:lastModifiedBy>CFWB</cp:lastModifiedBy>
  <dcterms:modified xsi:type="dcterms:W3CDTF">2008-05-28T06:51:15Z</dcterms:modified>
  <cp:revision>76</cp:revision>
  <dc:subject/>
  <dc:title>Diapositive 1</dc:title>
</cp:coreProperties>
</file>