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4923-ADC9-4A23-99CA-8CEDA23C659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862F-7F36-432D-9BE2-3E1D56650C3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1E4B-4450-41FC-88B0-1FE217FFDCC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7FA6-1891-4FB1-A595-3866C0DB01D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9316-2B28-4BF6-BE0C-520984F9EC6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4DE6-F3B2-4AFE-B9B9-1E51CD003AF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rasmus mobility is certainly a European success story - growing from a modest 3.000 students in 1987,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[1]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to the current situation where almost 160.000 students participate every year.  Five years ago, we celebrated one million Erasmus students. We aim to celebrate three million by 201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Erasmus is still growing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 The new EU Member States have increased their figures by 10%. Erasmus mobility from candidate country Turkey grew by 56%. The UK figures are going up again after some years of decline.  However, in other countries, growth is slowing, or even decreasing. The overall growth rate was only 3% last year, compared to 7% in earlier yea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601A-238D-47FA-B58C-DFF93A42D69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rasmus mobility is certainly a European success story - growing from a modest 3.000 students in 1987,[1] to the current situation where almost 160.000 students participate every year.  Five years ago, we celebrated one million Erasmus students. We aim to celebrate three million by 201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Erasmus is still growing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 The new EU Member States have increased their figures by 10%. Erasmus mobility from candidate country Turkey grew by 56%. The UK figures are going up again after some years of decline.  However, in other countries, growth is slowing, or even decreasing. The overall growth rate was only 3% last year, compared to 7% in earlier yea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7777-8EF6-42D9-9A64-A31F5533471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rasmus mobility is certainly a European success story - growing from a modest 3.000 students in 1987,[1] to the current situation where almost 160.000 students participate every year.  Five years ago, we celebrated one million Erasmus students. We aim to celebrate three million by 201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Erasmus is still growing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 The new EU Member States have increased their figures by 10%. Erasmus mobility from candidate country Turkey grew by 56%. The UK figures are going up again after some years of decline.  However, in other countries, growth is slowing, or even decreasing. The overall growth rate was only 3% last year, compared to 7% in earlier yea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3376-85C3-46E4-9900-E216ED63071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E8C9-AC73-448F-97A6-A2EA8EDCFE3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B9C7-856D-45FB-9AA3-5A1E1E86060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DA06-1440-4005-83B7-41BDE8530C0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21F1C-1B0B-4F6B-B838-4E1E9D8236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F6EC5-EAD6-4D83-AC2C-6DD5655752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4A986-9093-42F2-B980-BFDC0E7F0A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EF3D9-BFD1-4498-9195-292237AE44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CB01C-4969-403A-8F6C-748629E7DF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D2E85-B899-4C1B-AE95-F6EFB2FBFB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0A1E0-B236-4432-9B77-E8B27B24E8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FC24D-5D1B-47EB-B051-30CFE976D8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32AC8-3D64-486F-B04C-F1F6964148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C1701-FB55-4AD9-8EAF-845093AAFB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686FF-9D97-42E3-9216-ACA21EDD19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4923E-5620-4BF8-8995-A1C0971ED3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PPT-Titel_EAC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Text Box 4"/>
          <p:cNvSpPr/>
          <p:nvPr/>
        </p:nvSpPr>
        <p:spPr>
          <a:xfrm>
            <a:off x="7858080" y="6324120"/>
            <a:ext cx="1257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Tahoma"/>
              </a:rPr>
              <a:t>ecdc.europa.e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7" descr="PPT-Innen_EAC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sldNum" idx="1"/>
          </p:nvPr>
        </p:nvSpPr>
        <p:spPr>
          <a:xfrm>
            <a:off x="6741720" y="6481440"/>
            <a:ext cx="213372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CD27-198B-4B64-ABDA-78030648B734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12"/>
          <p:cNvSpPr/>
          <p:nvPr/>
        </p:nvSpPr>
        <p:spPr>
          <a:xfrm>
            <a:off x="826920" y="17928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9"/>
          <p:cNvSpPr/>
          <p:nvPr/>
        </p:nvSpPr>
        <p:spPr>
          <a:xfrm>
            <a:off x="660240" y="4595760"/>
            <a:ext cx="7848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2060"/>
                </a:solidFill>
                <a:latin typeface="Tahoma"/>
                <a:ea typeface="Tahoma"/>
              </a:rPr>
              <a:t>Christian Tau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DG Education and Culture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8"/>
          <p:cNvSpPr/>
          <p:nvPr/>
        </p:nvSpPr>
        <p:spPr>
          <a:xfrm>
            <a:off x="264960" y="2276640"/>
            <a:ext cx="8691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Fostering student mobility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ff0000"/>
                </a:solidFill>
                <a:latin typeface="Tahoma"/>
              </a:rPr>
              <a:t>Next step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41400" y="228600"/>
            <a:ext cx="46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95280" y="2287440"/>
            <a:ext cx="8369280" cy="39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8920" indent="355680">
              <a:lnSpc>
                <a:spcPct val="100000"/>
              </a:lnSpc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21b7d"/>
                </a:solidFill>
                <a:latin typeface="Tahoma"/>
              </a:rPr>
              <a:t>CHE developed a multidimensional ranking as a student information tool for German 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355680">
              <a:lnSpc>
                <a:spcPct val="100000"/>
              </a:lnSpc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21b7d"/>
                </a:solidFill>
                <a:latin typeface="Tahoma"/>
              </a:rPr>
              <a:t>Commission support for the CHE pilot project (Netherlands, Fland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355680">
              <a:lnSpc>
                <a:spcPct val="100000"/>
              </a:lnSpc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21b7d"/>
                </a:solidFill>
                <a:latin typeface="Tahoma"/>
              </a:rPr>
              <a:t>Possibly extension to other European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355680">
              <a:lnSpc>
                <a:spcPct val="100000"/>
              </a:lnSpc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9520" y="1079640"/>
            <a:ext cx="84646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3300"/>
                </a:solidFill>
                <a:latin typeface="Tahoma"/>
              </a:rPr>
              <a:t>Mobility needs transparenc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3300"/>
                </a:solidFill>
                <a:latin typeface="Tahoma"/>
              </a:rPr>
              <a:t>Ra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95280" y="2287440"/>
            <a:ext cx="8369280" cy="29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8920" indent="355680">
              <a:lnSpc>
                <a:spcPct val="100000"/>
              </a:lnSpc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21b7d"/>
                </a:solidFill>
                <a:latin typeface="Tahoma"/>
              </a:rPr>
              <a:t>Ranking requires clarity on types of institutions: CHEPS typology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355680">
              <a:lnSpc>
                <a:spcPct val="100000"/>
              </a:lnSpc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21b7d"/>
                </a:solidFill>
                <a:latin typeface="Tahoma"/>
              </a:rPr>
              <a:t>Categories: Teaching, research, international orientation, LLL engagement, institutional characteristic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9520" y="1079640"/>
            <a:ext cx="84646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3300"/>
                </a:solidFill>
                <a:latin typeface="Tahoma"/>
              </a:rPr>
              <a:t>Mobility needs transparenc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3300"/>
                </a:solidFill>
                <a:latin typeface="Tahoma"/>
              </a:rPr>
              <a:t>Typology of H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95280" y="2409840"/>
            <a:ext cx="836928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8920" indent="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355680">
              <a:lnSpc>
                <a:spcPct val="100000"/>
              </a:lnSpc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21b7d"/>
                </a:solidFill>
                <a:latin typeface="Tahoma"/>
              </a:rPr>
              <a:t>Commission will contribute expertise gathered in various projects, like the classification project or Tu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9520" y="1079640"/>
            <a:ext cx="84646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3300"/>
                </a:solidFill>
                <a:latin typeface="Tahoma"/>
              </a:rPr>
              <a:t>OECD project on assess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3300"/>
                </a:solidFill>
                <a:latin typeface="Tahoma"/>
              </a:rPr>
              <a:t>HE learning 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ianummer 1"/>
          <p:cNvSpPr/>
          <p:nvPr/>
        </p:nvSpPr>
        <p:spPr>
          <a:xfrm>
            <a:off x="6742080" y="648180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34FB-986E-4BB6-B7C3-B0551E17C4D8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66760" y="241200"/>
            <a:ext cx="8013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Tahoma"/>
              </a:rPr>
              <a:t>New id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hthoek 4"/>
          <p:cNvSpPr/>
          <p:nvPr/>
        </p:nvSpPr>
        <p:spPr>
          <a:xfrm>
            <a:off x="177840" y="1536840"/>
            <a:ext cx="8966160" cy="40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BE" sz="2800" spc="-1" strike="noStrike">
                <a:solidFill>
                  <a:srgbClr val="021b7d"/>
                </a:solidFill>
                <a:latin typeface="Tahoma"/>
              </a:rPr>
              <a:t>Flexibility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: a rucksack of mobility credits for each student to spend at first, second or third cycle, for study or placement ab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800" spc="-1" strike="noStrike">
                <a:solidFill>
                  <a:srgbClr val="021b7d"/>
                </a:solidFill>
                <a:latin typeface="Tahoma"/>
              </a:rPr>
              <a:t>European Student loans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 : Commission and European Investment Bank discuss possible approa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800" spc="-1" strike="noStrike">
                <a:solidFill>
                  <a:srgbClr val="021b7d"/>
                </a:solidFill>
                <a:latin typeface="Tahoma"/>
              </a:rPr>
              <a:t>Teacher and researcher mobility: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 long term remains difficult (pensions, social security)-&gt; Communication on « better careers and more mobility », May 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dianummer 1"/>
          <p:cNvSpPr/>
          <p:nvPr/>
        </p:nvSpPr>
        <p:spPr>
          <a:xfrm>
            <a:off x="6742080" y="648180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152A-87D6-4539-B018-91A6C5EA77A9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266760" y="241200"/>
            <a:ext cx="8013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Tahoma"/>
              </a:rPr>
              <a:t>New id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hthoek 4"/>
          <p:cNvSpPr/>
          <p:nvPr/>
        </p:nvSpPr>
        <p:spPr>
          <a:xfrm>
            <a:off x="177840" y="927000"/>
            <a:ext cx="896616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800" spc="-1" strike="noStrike">
                <a:solidFill>
                  <a:srgbClr val="021b7d"/>
                </a:solidFill>
                <a:latin typeface="Tahoma"/>
              </a:rPr>
              <a:t>Common objective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	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by 2015 15% of all graduates should have been         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	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mob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800" spc="-1" strike="noStrike">
                <a:solidFill>
                  <a:srgbClr val="021b7d"/>
                </a:solidFill>
                <a:latin typeface="Tahoma"/>
              </a:rPr>
              <a:t>Two layer approach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	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combination of Erasmus and Erasmus Mund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021b7d"/>
                </a:solidFill>
                <a:latin typeface="Tahoma"/>
              </a:rPr>
              <a:t>Consequence: More funding i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	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from governments, but also from regions, 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	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communities, enterprise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jdelijke aanduiding voor dianummer 1"/>
          <p:cNvSpPr/>
          <p:nvPr/>
        </p:nvSpPr>
        <p:spPr>
          <a:xfrm>
            <a:off x="6742080" y="648180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1E7E-81AC-4304-BC4E-1470C01C0EA6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636480" y="2763720"/>
            <a:ext cx="70995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THANK YOU 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ijdelijke aanduiding voor dianummer 1"/>
          <p:cNvSpPr/>
          <p:nvPr/>
        </p:nvSpPr>
        <p:spPr>
          <a:xfrm>
            <a:off x="6742080" y="648180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17E2-1353-490A-8723-7D1FCDB28FE1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1092240" y="1739880"/>
            <a:ext cx="8051760" cy="29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 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Erasm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 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Erasmus Mund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 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Bologna squee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 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Mobility requires transpar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 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New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803160" y="444600"/>
            <a:ext cx="6311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Tahoma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1"/>
          <p:cNvSpPr/>
          <p:nvPr/>
        </p:nvSpPr>
        <p:spPr>
          <a:xfrm>
            <a:off x="6742080" y="648180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3076-790C-46DB-9868-16E0FC99867D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203040" y="1104840"/>
            <a:ext cx="8940960" cy="59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Has been around for a long time but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has never been higher on the European political agend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 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one of the priorities of the French presid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Commission: High level group of experts, to deliver report in Ju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Council has asked Commission to provide report on impact of Erasmus and Erasmus Mundus, Septemb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European Parliament is preparing report on Bolog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803160" y="444600"/>
            <a:ext cx="6311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Tahoma"/>
              </a:rPr>
              <a:t>Mo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dianummer 1"/>
          <p:cNvSpPr/>
          <p:nvPr/>
        </p:nvSpPr>
        <p:spPr>
          <a:xfrm>
            <a:off x="6742080" y="648180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B07B-8DFE-4894-BAB8-11BB419EBFC4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596880" y="1473120"/>
            <a:ext cx="8547120" cy="40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21b7d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21b7d"/>
                </a:solidFill>
                <a:latin typeface="Tahoma"/>
              </a:rPr>
              <a:t>1987: 3,244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21b7d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21b7d"/>
                </a:solidFill>
                <a:latin typeface="Tahoma"/>
              </a:rPr>
              <a:t>2007: 160,000 stud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21b7d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21b7d"/>
                </a:solidFill>
                <a:latin typeface="Tahoma"/>
              </a:rPr>
              <a:t>From 1,7 million to 3 million (20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21b7d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21b7d"/>
                </a:solidFill>
                <a:latin typeface="Tahoma"/>
              </a:rPr>
              <a:t>3,4 % of graduates (including non-Erasmus: 1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803160" y="444600"/>
            <a:ext cx="63118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Tahoma"/>
              </a:rPr>
              <a:t>Erasmu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ahoma"/>
              </a:rPr>
              <a:t>Towards Mobility For 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jdelijke aanduiding voor dianummer 1"/>
          <p:cNvSpPr/>
          <p:nvPr/>
        </p:nvSpPr>
        <p:spPr>
          <a:xfrm>
            <a:off x="6742080" y="648180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E374-5685-4766-A5D6-C857053CFC67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66760" y="241200"/>
            <a:ext cx="80136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Tahoma"/>
              </a:rPr>
              <a:t>External dimens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Tahoma"/>
              </a:rPr>
              <a:t>Erasmus Mund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hthoek 4"/>
          <p:cNvSpPr/>
          <p:nvPr/>
        </p:nvSpPr>
        <p:spPr>
          <a:xfrm>
            <a:off x="241200" y="1346040"/>
            <a:ext cx="8724960" cy="47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21b7d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21b7d"/>
                </a:solidFill>
                <a:latin typeface="Tahoma"/>
              </a:rPr>
              <a:t>New EU flagship programme since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21b7d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21b7d"/>
                </a:solidFill>
                <a:latin typeface="Tahoma"/>
              </a:rPr>
              <a:t>Promotion of European Joint/double master deg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21b7d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21b7d"/>
                </a:solidFill>
                <a:latin typeface="Tahoma"/>
              </a:rPr>
              <a:t>Attracting talented students worldw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21b7d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21b7d"/>
                </a:solidFill>
                <a:latin typeface="Tahoma"/>
              </a:rPr>
              <a:t>103 masters courses funded and some 6000 students and scholars supported so f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 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New enlarged phase from 2009 to 2013 with a 900m€ budget, including doctoral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www.study-in-Europe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ijdelijke aanduiding voor dianummer 1"/>
          <p:cNvSpPr/>
          <p:nvPr/>
        </p:nvSpPr>
        <p:spPr>
          <a:xfrm>
            <a:off x="6742080" y="648180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D73F-68E1-4F5B-B447-652382B49BFC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584280" y="1714680"/>
            <a:ext cx="8394480" cy="53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 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Erasmus mobility is stagnating or declining in some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21b7d"/>
                </a:solidFill>
                <a:latin typeface="Tahoma"/>
              </a:rPr>
              <a:t> 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Problem of curricular design – 5 years packed into 3 years-&gt; no mobility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 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Some HEI may have a preference for fee-paying non-European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 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Stagnating or decreasing Erasmus figures also in countries that are not or not yet affected by Bologna restruct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03160" y="444600"/>
            <a:ext cx="63118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ff0000"/>
                </a:solidFill>
                <a:latin typeface="Tahoma"/>
              </a:rPr>
              <a:t>Points of concern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ff0000"/>
                </a:solidFill>
                <a:latin typeface="Tahoma"/>
              </a:rPr>
              <a:t>Bologna squeez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dianummer 1"/>
          <p:cNvSpPr/>
          <p:nvPr/>
        </p:nvSpPr>
        <p:spPr>
          <a:xfrm>
            <a:off x="6742080" y="648180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0EF4-5E58-430B-A6C6-B18634F61059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165240" y="1714680"/>
            <a:ext cx="8978760" cy="50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800" spc="-1" strike="noStrike">
                <a:solidFill>
                  <a:srgbClr val="021b7d"/>
                </a:solidFill>
                <a:latin typeface="Tahoma"/>
              </a:rPr>
              <a:t>Vertical mobility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 (degree mobility): lack of transparency for students, lack of funding, by many HEI perceived as a threat rather than an opport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 </a:t>
            </a:r>
            <a:r>
              <a:rPr b="0" i="1" lang="fr-BE" sz="2800" spc="-1" strike="noStrike">
                <a:solidFill>
                  <a:srgbClr val="021b7d"/>
                </a:solidFill>
                <a:latin typeface="Tahoma"/>
              </a:rPr>
              <a:t>Horizontal mobility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 (credit mobility): needs more preparation than in the traditional one tier programmes – learning agreements, guaranteed recog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 u="sng">
                <a:solidFill>
                  <a:srgbClr val="021b7d"/>
                </a:solidFill>
                <a:uFillTx/>
                <a:latin typeface="Tahoma"/>
              </a:rPr>
              <a:t>All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 programmes should have a mobility window, also 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800" spc="-1" strike="noStrike">
                <a:solidFill>
                  <a:srgbClr val="021b7d"/>
                </a:solidFill>
                <a:latin typeface="Tahoma"/>
              </a:rPr>
              <a:t>Joint programmes, joint degrees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: very promising but require even more intensive preparation, QA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73040" y="444600"/>
            <a:ext cx="6858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ff0000"/>
                </a:solidFill>
                <a:latin typeface="Tahoma"/>
              </a:rPr>
              <a:t>Changing mobility patterns, new challe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ianummer 1"/>
          <p:cNvSpPr/>
          <p:nvPr/>
        </p:nvSpPr>
        <p:spPr>
          <a:xfrm>
            <a:off x="6742080" y="648180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B08D-A5FA-44B7-B2DF-3D151093A408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17520" y="990720"/>
            <a:ext cx="8013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Tahoma"/>
              </a:rPr>
              <a:t>Existing tools to boost mo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hthoek 4"/>
          <p:cNvSpPr/>
          <p:nvPr/>
        </p:nvSpPr>
        <p:spPr>
          <a:xfrm>
            <a:off x="584280" y="1727280"/>
            <a:ext cx="76960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spcAft>
                <a:spcPts val="2001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1b7d"/>
                </a:solidFill>
                <a:latin typeface="Tahoma"/>
              </a:rPr>
              <a:t>Bologna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spcAft>
                <a:spcPts val="2001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21b7d"/>
                </a:solidFill>
                <a:latin typeface="Tahoma"/>
              </a:rPr>
              <a:t>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spcAft>
                <a:spcPts val="2001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1b7d"/>
                </a:solidFill>
                <a:latin typeface="Tahoma"/>
              </a:rPr>
              <a:t>European Qualifications Framework for Lifelong Learning (EQ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spcAft>
                <a:spcPts val="2001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1b7d"/>
                </a:solidFill>
                <a:latin typeface="Tahoma"/>
              </a:rPr>
              <a:t>European Quality Assurance Register in Higher Education (EQ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41280" y="2268360"/>
            <a:ext cx="8369280" cy="29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8920" indent="355680">
              <a:lnSpc>
                <a:spcPct val="100000"/>
              </a:lnSpc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21b7d"/>
                </a:solidFill>
                <a:latin typeface="Tahoma"/>
              </a:rPr>
              <a:t>Make use of existing national registers of HEI and program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355680">
              <a:lnSpc>
                <a:spcPct val="100000"/>
              </a:lnSpc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21b7d"/>
                </a:solidFill>
                <a:latin typeface="Tahoma"/>
              </a:rPr>
              <a:t>Enrich them with performance data in education, research, inno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355680">
              <a:lnSpc>
                <a:spcPct val="100000"/>
              </a:lnSpc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21b7d"/>
                </a:solidFill>
                <a:latin typeface="Tahoma"/>
              </a:rPr>
              <a:t>Mid-2008: DG RTD will launch call for tender for integrated European statistical information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81040"/>
            <a:ext cx="84646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3300"/>
                </a:solidFill>
                <a:latin typeface="Tahoma"/>
              </a:rPr>
              <a:t>Mobility needs transparenc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3300"/>
                </a:solidFill>
                <a:latin typeface="Tahoma"/>
              </a:rPr>
              <a:t>European database of H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a</dc:creator>
  <dc:description/>
  <dc:language>en-US</dc:language>
  <cp:lastModifiedBy>colloques</cp:lastModifiedBy>
  <dcterms:modified xsi:type="dcterms:W3CDTF">2008-05-30T06:59:25Z</dcterms:modified>
  <cp:revision>7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90408986</vt:r8>
  </property>
  <property fmtid="{D5CDD505-2E9C-101B-9397-08002B2CF9AE}" pid="3" name="_AuthorEmail">
    <vt:lpwstr>Eva.WENIGOVA@ec.europa.eu</vt:lpwstr>
  </property>
  <property fmtid="{D5CDD505-2E9C-101B-9397-08002B2CF9AE}" pid="4" name="_AuthorEmailDisplayName">
    <vt:lpwstr>WENIGOVA Eva (CAB-FIGEL)</vt:lpwstr>
  </property>
  <property fmtid="{D5CDD505-2E9C-101B-9397-08002B2CF9AE}" pid="5" name="_EmailEntryID">
    <vt:lpwstr>000000009937BAF179A2AA41AA9520B01A65E4E1070097BEE4CEBF8ED54E88C4DD8F8EB2DEBC000005D54D63000097BEE4CEBF8ED54E88C4DD8F8EB2DEBC000005D55BD20000</vt:lpwstr>
  </property>
  <property fmtid="{D5CDD505-2E9C-101B-9397-08002B2CF9AE}" pid="6" name="_EmailStoreID">
    <vt:lpwstr>0000000038A1BB1005E5101AA1BB08002B2A56C200006D737073742E646C6C00000000004E495441F9BFB80100AA0037D96E000000573A5C73616D6D6164695C4D7920466F6C64657273322D323030362D30372D32372E70737400</vt:lpwstr>
  </property>
  <property fmtid="{D5CDD505-2E9C-101B-9397-08002B2CF9AE}" pid="7" name="_EmailSubject">
    <vt:lpwstr>slides of JF</vt:lpwstr>
  </property>
  <property fmtid="{D5CDD505-2E9C-101B-9397-08002B2CF9AE}" pid="8" name="_NewReviewCycle">
    <vt:lpwstr/>
  </property>
  <property fmtid="{D5CDD505-2E9C-101B-9397-08002B2CF9AE}" pid="9" name="_ReviewingToolsShownOnce">
    <vt:lpwstr/>
  </property>
  <property fmtid="{D5CDD505-2E9C-101B-9397-08002B2CF9AE}" pid="10" name="_TentativeReviewCycleID">
    <vt:r8>2134519411</vt:r8>
  </property>
</Properties>
</file>