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0EB3-6B0A-4339-B97D-563910BD8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8159-DCBA-444D-9E96-DCD311CA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DAEE-28CB-46CC-B383-05F00F595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60FF-66D9-42FD-9F56-64E90D8FD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1CCF-6117-46D3-B7D7-3E9A6CAC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7CF3-A5C9-4EE9-BEB3-455264FD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1C12-3623-4B22-90F3-7149409D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53AB-0009-4ADF-BCD4-53071257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0D01-35BB-429B-A552-6A46D23B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23F2-83C7-40A5-AA9E-319A2E3A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1B16-8E38-4083-B88E-EBE23488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8BA7-47CF-489A-9267-3A73C683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066320" y="6437160"/>
            <a:ext cx="76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1752480" y="64371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629400" y="64371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F618-3B87-40F8-9A59-9F04CEA26E66}" type="slidenum">
              <a:rPr b="0" lang="nl-NL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126800"/>
            <a:ext cx="4579920" cy="15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ofessionalisation of Bachelor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03680"/>
            <a:ext cx="43513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baseline="-25000">
                <a:solidFill>
                  <a:srgbClr val="ffffff"/>
                </a:solidFill>
                <a:latin typeface="Arial"/>
              </a:rPr>
              <a:t>Preparing Bachelors for the labou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072800" y="2133720"/>
            <a:ext cx="767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elf-evaluation of competence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too low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     just right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too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nowledg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5%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49%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        1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actical skills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7%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58%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ing together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7%           64%              1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dependence                19%           67%              1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cision making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8%           52%              2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munication              33%           57%              1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ssertiveness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        25%           53%              2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1066320" y="410760"/>
            <a:ext cx="75438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Professionalisation of Bache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9685440" y="6315120"/>
            <a:ext cx="637920" cy="54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xembourg 6-7-November 200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AFB5-951E-4176-B13D-98A5BEAC0E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072800" y="2133720"/>
            <a:ext cx="767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Further 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3% continue their formal edu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% lower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1% at Bachelor’s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68% at Master’s lev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5% take part in courses or company training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1066320" y="410760"/>
            <a:ext cx="75438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Professionalisation of Bache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9685440" y="6315120"/>
            <a:ext cx="637920" cy="54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xembourg 6-7-November 200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3466-8C85-4964-B18D-5C3F037AEB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042920" y="1989000"/>
            <a:ext cx="7602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272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entative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7240" indent="-327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lear professional profile of Bachelor, in combination with work experience, appears to have positive impact on employ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7240" indent="-327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mployers like ‘tailor-made’ Bachel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7240" indent="-327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rest in Master programmes is signific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920" indent="-245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stponement of start working lif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920" indent="-245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urther development alongside paid work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72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1066320" y="410760"/>
            <a:ext cx="75438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Professionalisation of Bache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9685440" y="6315120"/>
            <a:ext cx="637920" cy="54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xembourg 6-7-November 200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46DC-86B1-4537-B913-EECAA31D3C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2971440"/>
            <a:ext cx="1849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Arial"/>
              </a:rPr>
              <a:t>Thank you!</a:t>
            </a:r>
            <a:br>
              <a:rPr sz="1600"/>
            </a:br>
            <a:br>
              <a:rPr sz="1600"/>
            </a:br>
            <a:r>
              <a:rPr b="1" lang="nl-NL" sz="1600" spc="-1" strike="noStrike">
                <a:solidFill>
                  <a:srgbClr val="ffffff"/>
                </a:solidFill>
                <a:latin typeface="Arial"/>
              </a:rPr>
              <a:t>Email:</a:t>
            </a:r>
            <a:br>
              <a:rPr sz="1600"/>
            </a:br>
            <a:r>
              <a:rPr b="1" lang="nl-NL" sz="1600" spc="-1" strike="noStrike">
                <a:solidFill>
                  <a:srgbClr val="ffffff"/>
                </a:solidFill>
                <a:latin typeface="Arial"/>
              </a:rPr>
              <a:t>p.e.van.der.werf@pl.hanze.n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76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s van der Wer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nzehogeschool Gron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nze University Groningen, University of Applied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national Relations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mber of the Dutch team of Bologna Expe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320" y="410760"/>
            <a:ext cx="75438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Professionalisation of Bache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1004760"/>
            <a:ext cx="76201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xembourg 6-7-November 200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B941-346B-4DAE-95AA-9A3F33C13B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76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ployability of undergraduates (Bachelor’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key element of the Bologna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egree awarded after the first cycle shall also be relevant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uropean labour market as an appropriate leve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lification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universities which traditionally offered ‘undivided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ter degrees: a dilem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Universities of Applied Sciences: core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066320" y="410760"/>
            <a:ext cx="75438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Professionalisation of Bache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004760"/>
            <a:ext cx="76201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xembourg 6-7-November 200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1D81-4D2A-4C59-BD5D-539AEDD3AA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410760"/>
            <a:ext cx="75438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Professionalisation of Bache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1640" y="2133720"/>
            <a:ext cx="7867440" cy="55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utch higher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racterized by a binar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-existenc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 research universities (212,000 student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-year Bachelor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1 universities of applied sciences (374,000 stud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-year Bachelor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xembourg 6-7-November 200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5E65-5057-4316-A66A-60A87E874C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71280" y="2133360"/>
            <a:ext cx="7848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Universities of Applied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fessional profile = clearly related to partic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obs/car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urriculum focuses on 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in emphasis on undergraduate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wing number of Master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mphasis on applied resear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839080" y="6324480"/>
            <a:ext cx="557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1066320" y="410760"/>
            <a:ext cx="75438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Professionalisation of Bache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004760"/>
            <a:ext cx="76201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xembourg 6-7-November 2008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7A25-A459-478C-B164-ACB1B4F14C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71280" y="2133360"/>
            <a:ext cx="7848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rofessional focus in Bachelor progra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mphasis on practical application of knowled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roughout the curricul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project work; problem-based lear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rticipation in applied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y element: mandatory work placement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t least 6 months (30 ECTS cred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839080" y="6324480"/>
            <a:ext cx="557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title"/>
          </p:nvPr>
        </p:nvSpPr>
        <p:spPr>
          <a:xfrm>
            <a:off x="1066320" y="410760"/>
            <a:ext cx="75438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Professionalisation of Bache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xembourg 6-7-November 2008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E2EA-FACB-4D35-980B-1775D8DB53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066680" y="2133360"/>
            <a:ext cx="78264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andatory work placements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an organisational challeng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titute of 20.000 studenten – every year roughly 3,500 students on work plac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st of them in the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. 700 ab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sues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ding companies/organ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tching students with pla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 and supervison of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quality assurance (placement assignment, assess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066320" y="410760"/>
            <a:ext cx="75438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Professionalisation of Bache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1004760"/>
            <a:ext cx="76201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 rot="10800000">
            <a:off x="8686080" y="6125400"/>
            <a:ext cx="70956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xembourg 6-7-November 200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6291-E94D-428E-A97B-1389FA1FBA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072800" y="2133720"/>
            <a:ext cx="767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mployability of UAS Bachelor gradu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ased on research by Netherlands Association of USA over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arget group: graduates - 18 months after grad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nual transfer to labour market: 64,000 UAS student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2% of graduates of UAS find a job within 3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85% have a job at the ‘right’ level (Bachel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84% have a job in the professional field for which they were 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1066320" y="410760"/>
            <a:ext cx="75438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Professionalisation of Bache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685440" y="6315120"/>
            <a:ext cx="637920" cy="54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xembourg 6-7-November 200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AC72-C59E-4158-9EA6-F8E29FA710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072800" y="2133720"/>
            <a:ext cx="767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mpetencies of UAS Bachel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0% - study programme is good basis for start on the labour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0% - study programme is good basis for further development of skills and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gramme as preparation for professional practice - 6.6 (on a scale of 1-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66320" y="410760"/>
            <a:ext cx="75438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Professionalisation of Bache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685440" y="6315120"/>
            <a:ext cx="637920" cy="54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xembourg 6-7-November 200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0287-88DA-4726-A968-A135E93D60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12:56:33Z</dcterms:created>
  <dc:creator>Ruben van der Made</dc:creator>
  <dc:description/>
  <dc:language>en-US</dc:language>
  <cp:lastModifiedBy>wepi</cp:lastModifiedBy>
  <cp:lastPrinted>2008-02-25T09:14:55Z</cp:lastPrinted>
  <dcterms:modified xsi:type="dcterms:W3CDTF">2008-11-03T15:02:24Z</dcterms:modified>
  <cp:revision>49</cp:revision>
  <dc:subject/>
  <dc:title>TITEL VAN DE PRESENTATIE</dc:title>
</cp:coreProperties>
</file>