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3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DDB-B540-48D6-8E15-ABBC4469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629136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187280" y="5427000"/>
            <a:ext cx="629136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15A-5604-495E-BC8F-B8479307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4110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87280" y="542700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411080" y="542700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170-7DDF-4A22-B4FE-4253B0F9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4520" y="469908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442120" y="469908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187280" y="542700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4520" y="542700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442120" y="542700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976-2AB4-4577-B4D0-F8AC6D98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E3C6-B617-4CD2-9F33-68F60573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87280" y="4699080"/>
            <a:ext cx="629136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27B8-8A1F-427F-8BC1-4628A69A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6291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9AB0-8FDE-446B-B4E0-0FAD5F16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3070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11080" y="4699080"/>
            <a:ext cx="3070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9F75-3BE9-46CF-9D98-15F02422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32D3-7C5B-4690-848C-76E5DB0E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87280" y="1125360"/>
            <a:ext cx="69660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E322-677E-4063-BDC9-0C3F9BCD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1080" y="4699080"/>
            <a:ext cx="3070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542700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13EA-1140-4410-9417-5690C607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187280" y="4699080"/>
            <a:ext cx="629136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F02-2AA6-4C13-8DE0-8336926F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3070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10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411080" y="542700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A3DE-DE4D-42D9-82EE-222811B8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110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7280" y="5427000"/>
            <a:ext cx="629136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BA20-D1AD-499C-B023-1BF87F4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629136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87280" y="5427000"/>
            <a:ext cx="629136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D574-7C26-4BCD-B18B-EE55D541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110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7280" y="542700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411080" y="542700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569E-87EE-40A6-B9F5-58BD2F32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4520" y="469908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442120" y="469908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87280" y="542700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4520" y="542700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442120" y="5427000"/>
            <a:ext cx="202572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BF2F-E920-40E4-A673-8E081757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629136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2EA-EBC2-498B-9BA9-6D13A51C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3070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1080" y="4699080"/>
            <a:ext cx="3070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77B-EFB5-46DC-85FA-84D0F992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E5B-9CC3-4CCD-9122-C2664372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87280" y="1125360"/>
            <a:ext cx="69660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599-A6ED-43CC-8ABC-273B44A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11080" y="4699080"/>
            <a:ext cx="3070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542700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0D2-3FA0-46C8-A08D-445A912A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307008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10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11080" y="542700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80E-9146-43AE-8F2F-12E409D9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72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11080" y="4699080"/>
            <a:ext cx="307008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7280" y="5427000"/>
            <a:ext cx="6291360" cy="66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332-66C0-4E71-BBD8-3734E7ED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844640"/>
            <a:ext cx="8172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66D4-5454-4766-9C8C-9D1F7004860B}" type="slidenum">
              <a:rPr b="0" lang="en-US" sz="10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34920" y="1722600"/>
            <a:ext cx="8277480" cy="0"/>
          </a:xfrm>
          <a:prstGeom prst="line">
            <a:avLst/>
          </a:prstGeom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900000" y="6381720"/>
            <a:ext cx="8277120" cy="468360"/>
            <a:chOff x="900000" y="6381720"/>
            <a:chExt cx="8277120" cy="468360"/>
          </a:xfrm>
        </p:grpSpPr>
        <p:sp>
          <p:nvSpPr>
            <p:cNvPr id="7" name=""/>
            <p:cNvSpPr/>
            <p:nvPr/>
          </p:nvSpPr>
          <p:spPr>
            <a:xfrm>
              <a:off x="900000" y="6381720"/>
              <a:ext cx="8277120" cy="468360"/>
            </a:xfrm>
            <a:prstGeom prst="rect">
              <a:avLst/>
            </a:prstGeom>
            <a:gradFill rotWithShape="0">
              <a:gsLst>
                <a:gs pos="0">
                  <a:srgbClr val="00a0d3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i="1" lang="fr-BE" sz="1400" spc="-1" strike="noStrike">
                  <a:solidFill>
                    <a:srgbClr val="ffffff"/>
                  </a:solidFill>
                  <a:latin typeface="Arial"/>
                </a:rPr>
                <a:t>European Social Fun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968400" y="6437520"/>
              <a:ext cx="364680" cy="358560"/>
              <a:chOff x="968400" y="6437520"/>
              <a:chExt cx="364680" cy="358560"/>
            </a:xfrm>
          </p:grpSpPr>
          <p:sp>
            <p:nvSpPr>
              <p:cNvPr id="9" name=""/>
              <p:cNvSpPr/>
              <p:nvPr/>
            </p:nvSpPr>
            <p:spPr>
              <a:xfrm>
                <a:off x="1125000" y="6437520"/>
                <a:ext cx="51840" cy="51120"/>
              </a:xfrm>
              <a:custGeom>
                <a:avLst/>
                <a:gdLst/>
                <a:ahLst/>
                <a:rect l="l" t="t" r="r" b="b"/>
                <a:pathLst>
                  <a:path w="305" h="302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4"/>
                    </a:lnTo>
                    <a:lnTo>
                      <a:pt x="90" y="191"/>
                    </a:lnTo>
                    <a:lnTo>
                      <a:pt x="51" y="302"/>
                    </a:lnTo>
                    <a:lnTo>
                      <a:pt x="153" y="241"/>
                    </a:lnTo>
                    <a:lnTo>
                      <a:pt x="255" y="302"/>
                    </a:lnTo>
                    <a:lnTo>
                      <a:pt x="217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01680" y="645840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7" h="302">
                    <a:moveTo>
                      <a:pt x="151" y="0"/>
                    </a:moveTo>
                    <a:lnTo>
                      <a:pt x="116" y="113"/>
                    </a:lnTo>
                    <a:lnTo>
                      <a:pt x="0" y="113"/>
                    </a:lnTo>
                    <a:lnTo>
                      <a:pt x="91" y="190"/>
                    </a:lnTo>
                    <a:lnTo>
                      <a:pt x="52" y="302"/>
                    </a:lnTo>
                    <a:lnTo>
                      <a:pt x="155" y="240"/>
                    </a:lnTo>
                    <a:lnTo>
                      <a:pt x="255" y="302"/>
                    </a:lnTo>
                    <a:lnTo>
                      <a:pt x="217" y="188"/>
                    </a:lnTo>
                    <a:lnTo>
                      <a:pt x="307" y="113"/>
                    </a:lnTo>
                    <a:lnTo>
                      <a:pt x="193" y="113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58920" y="651672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5" h="302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2" y="302"/>
                    </a:lnTo>
                    <a:lnTo>
                      <a:pt x="154" y="241"/>
                    </a:lnTo>
                    <a:lnTo>
                      <a:pt x="254" y="302"/>
                    </a:lnTo>
                    <a:lnTo>
                      <a:pt x="216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280880" y="659016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05" h="301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2" y="301"/>
                    </a:lnTo>
                    <a:lnTo>
                      <a:pt x="154" y="240"/>
                    </a:lnTo>
                    <a:lnTo>
                      <a:pt x="254" y="301"/>
                    </a:lnTo>
                    <a:lnTo>
                      <a:pt x="216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258920" y="666864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5" h="302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2" y="302"/>
                    </a:lnTo>
                    <a:lnTo>
                      <a:pt x="154" y="240"/>
                    </a:lnTo>
                    <a:lnTo>
                      <a:pt x="254" y="302"/>
                    </a:lnTo>
                    <a:lnTo>
                      <a:pt x="216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203120" y="672300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7" h="302">
                    <a:moveTo>
                      <a:pt x="151" y="0"/>
                    </a:moveTo>
                    <a:lnTo>
                      <a:pt x="116" y="114"/>
                    </a:lnTo>
                    <a:lnTo>
                      <a:pt x="0" y="113"/>
                    </a:lnTo>
                    <a:lnTo>
                      <a:pt x="92" y="190"/>
                    </a:lnTo>
                    <a:lnTo>
                      <a:pt x="52" y="302"/>
                    </a:lnTo>
                    <a:lnTo>
                      <a:pt x="155" y="240"/>
                    </a:lnTo>
                    <a:lnTo>
                      <a:pt x="255" y="302"/>
                    </a:lnTo>
                    <a:lnTo>
                      <a:pt x="217" y="188"/>
                    </a:lnTo>
                    <a:lnTo>
                      <a:pt x="307" y="114"/>
                    </a:lnTo>
                    <a:lnTo>
                      <a:pt x="193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25000" y="674496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7" h="302">
                    <a:moveTo>
                      <a:pt x="152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1" y="191"/>
                    </a:lnTo>
                    <a:lnTo>
                      <a:pt x="52" y="302"/>
                    </a:lnTo>
                    <a:lnTo>
                      <a:pt x="155" y="240"/>
                    </a:lnTo>
                    <a:lnTo>
                      <a:pt x="256" y="302"/>
                    </a:lnTo>
                    <a:lnTo>
                      <a:pt x="217" y="189"/>
                    </a:lnTo>
                    <a:lnTo>
                      <a:pt x="307" y="114"/>
                    </a:lnTo>
                    <a:lnTo>
                      <a:pt x="193" y="114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46160" y="672444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6" h="302">
                    <a:moveTo>
                      <a:pt x="151" y="0"/>
                    </a:moveTo>
                    <a:lnTo>
                      <a:pt x="115" y="113"/>
                    </a:lnTo>
                    <a:lnTo>
                      <a:pt x="0" y="113"/>
                    </a:lnTo>
                    <a:lnTo>
                      <a:pt x="90" y="190"/>
                    </a:lnTo>
                    <a:lnTo>
                      <a:pt x="51" y="302"/>
                    </a:lnTo>
                    <a:lnTo>
                      <a:pt x="153" y="240"/>
                    </a:lnTo>
                    <a:lnTo>
                      <a:pt x="255" y="302"/>
                    </a:lnTo>
                    <a:lnTo>
                      <a:pt x="217" y="188"/>
                    </a:lnTo>
                    <a:lnTo>
                      <a:pt x="306" y="113"/>
                    </a:lnTo>
                    <a:lnTo>
                      <a:pt x="191" y="113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88560" y="666864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5" h="302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2" y="302"/>
                    </a:lnTo>
                    <a:lnTo>
                      <a:pt x="154" y="240"/>
                    </a:lnTo>
                    <a:lnTo>
                      <a:pt x="254" y="302"/>
                    </a:lnTo>
                    <a:lnTo>
                      <a:pt x="216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68400" y="65916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05" h="301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1" y="301"/>
                    </a:lnTo>
                    <a:lnTo>
                      <a:pt x="153" y="240"/>
                    </a:lnTo>
                    <a:lnTo>
                      <a:pt x="255" y="301"/>
                    </a:lnTo>
                    <a:lnTo>
                      <a:pt x="217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990000" y="651672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5" h="302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2" y="302"/>
                    </a:lnTo>
                    <a:lnTo>
                      <a:pt x="154" y="241"/>
                    </a:lnTo>
                    <a:lnTo>
                      <a:pt x="254" y="302"/>
                    </a:lnTo>
                    <a:lnTo>
                      <a:pt x="216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46160" y="645840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6" h="302">
                    <a:moveTo>
                      <a:pt x="151" y="0"/>
                    </a:moveTo>
                    <a:lnTo>
                      <a:pt x="115" y="113"/>
                    </a:lnTo>
                    <a:lnTo>
                      <a:pt x="0" y="113"/>
                    </a:lnTo>
                    <a:lnTo>
                      <a:pt x="90" y="190"/>
                    </a:lnTo>
                    <a:lnTo>
                      <a:pt x="51" y="302"/>
                    </a:lnTo>
                    <a:lnTo>
                      <a:pt x="153" y="240"/>
                    </a:lnTo>
                    <a:lnTo>
                      <a:pt x="255" y="302"/>
                    </a:lnTo>
                    <a:lnTo>
                      <a:pt x="217" y="188"/>
                    </a:lnTo>
                    <a:lnTo>
                      <a:pt x="306" y="113"/>
                    </a:lnTo>
                    <a:lnTo>
                      <a:pt x="191" y="113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1F1D-C0C1-4DE4-B634-D37FDBF47C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4920" y="1733400"/>
            <a:ext cx="8277480" cy="0"/>
          </a:xfrm>
          <a:prstGeom prst="line">
            <a:avLst/>
          </a:prstGeom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00000" y="6381720"/>
            <a:ext cx="8277120" cy="468360"/>
            <a:chOff x="900000" y="6381720"/>
            <a:chExt cx="8277120" cy="468360"/>
          </a:xfrm>
        </p:grpSpPr>
        <p:sp>
          <p:nvSpPr>
            <p:cNvPr id="64" name=""/>
            <p:cNvSpPr/>
            <p:nvPr/>
          </p:nvSpPr>
          <p:spPr>
            <a:xfrm>
              <a:off x="900000" y="6381720"/>
              <a:ext cx="8277120" cy="468360"/>
            </a:xfrm>
            <a:prstGeom prst="rect">
              <a:avLst/>
            </a:prstGeom>
            <a:gradFill rotWithShape="0">
              <a:gsLst>
                <a:gs pos="0">
                  <a:srgbClr val="00a0d3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BE" sz="1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i="1" lang="fr-BE" sz="1400" spc="-1" strike="noStrike">
                  <a:solidFill>
                    <a:srgbClr val="ffffff"/>
                  </a:solidFill>
                  <a:latin typeface="Arial"/>
                </a:rPr>
                <a:t>European Social Fun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968400" y="6437520"/>
              <a:ext cx="364680" cy="358560"/>
              <a:chOff x="968400" y="6437520"/>
              <a:chExt cx="364680" cy="358560"/>
            </a:xfrm>
          </p:grpSpPr>
          <p:sp>
            <p:nvSpPr>
              <p:cNvPr id="66" name=""/>
              <p:cNvSpPr/>
              <p:nvPr/>
            </p:nvSpPr>
            <p:spPr>
              <a:xfrm>
                <a:off x="1125000" y="6437520"/>
                <a:ext cx="51840" cy="51120"/>
              </a:xfrm>
              <a:custGeom>
                <a:avLst/>
                <a:gdLst/>
                <a:ahLst/>
                <a:rect l="l" t="t" r="r" b="b"/>
                <a:pathLst>
                  <a:path w="305" h="302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4"/>
                    </a:lnTo>
                    <a:lnTo>
                      <a:pt x="90" y="191"/>
                    </a:lnTo>
                    <a:lnTo>
                      <a:pt x="51" y="302"/>
                    </a:lnTo>
                    <a:lnTo>
                      <a:pt x="153" y="241"/>
                    </a:lnTo>
                    <a:lnTo>
                      <a:pt x="255" y="302"/>
                    </a:lnTo>
                    <a:lnTo>
                      <a:pt x="217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201680" y="645840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7" h="302">
                    <a:moveTo>
                      <a:pt x="151" y="0"/>
                    </a:moveTo>
                    <a:lnTo>
                      <a:pt x="116" y="113"/>
                    </a:lnTo>
                    <a:lnTo>
                      <a:pt x="0" y="113"/>
                    </a:lnTo>
                    <a:lnTo>
                      <a:pt x="91" y="190"/>
                    </a:lnTo>
                    <a:lnTo>
                      <a:pt x="52" y="302"/>
                    </a:lnTo>
                    <a:lnTo>
                      <a:pt x="155" y="240"/>
                    </a:lnTo>
                    <a:lnTo>
                      <a:pt x="255" y="302"/>
                    </a:lnTo>
                    <a:lnTo>
                      <a:pt x="217" y="188"/>
                    </a:lnTo>
                    <a:lnTo>
                      <a:pt x="307" y="113"/>
                    </a:lnTo>
                    <a:lnTo>
                      <a:pt x="193" y="113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258920" y="651672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5" h="302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2" y="302"/>
                    </a:lnTo>
                    <a:lnTo>
                      <a:pt x="154" y="241"/>
                    </a:lnTo>
                    <a:lnTo>
                      <a:pt x="254" y="302"/>
                    </a:lnTo>
                    <a:lnTo>
                      <a:pt x="216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80880" y="659016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05" h="301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2" y="301"/>
                    </a:lnTo>
                    <a:lnTo>
                      <a:pt x="154" y="240"/>
                    </a:lnTo>
                    <a:lnTo>
                      <a:pt x="254" y="301"/>
                    </a:lnTo>
                    <a:lnTo>
                      <a:pt x="216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58920" y="666864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5" h="302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2" y="302"/>
                    </a:lnTo>
                    <a:lnTo>
                      <a:pt x="154" y="240"/>
                    </a:lnTo>
                    <a:lnTo>
                      <a:pt x="254" y="302"/>
                    </a:lnTo>
                    <a:lnTo>
                      <a:pt x="216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203120" y="672300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7" h="302">
                    <a:moveTo>
                      <a:pt x="151" y="0"/>
                    </a:moveTo>
                    <a:lnTo>
                      <a:pt x="116" y="114"/>
                    </a:lnTo>
                    <a:lnTo>
                      <a:pt x="0" y="113"/>
                    </a:lnTo>
                    <a:lnTo>
                      <a:pt x="92" y="190"/>
                    </a:lnTo>
                    <a:lnTo>
                      <a:pt x="52" y="302"/>
                    </a:lnTo>
                    <a:lnTo>
                      <a:pt x="155" y="240"/>
                    </a:lnTo>
                    <a:lnTo>
                      <a:pt x="255" y="302"/>
                    </a:lnTo>
                    <a:lnTo>
                      <a:pt x="217" y="188"/>
                    </a:lnTo>
                    <a:lnTo>
                      <a:pt x="307" y="114"/>
                    </a:lnTo>
                    <a:lnTo>
                      <a:pt x="193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25000" y="674496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7" h="302">
                    <a:moveTo>
                      <a:pt x="152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1" y="191"/>
                    </a:lnTo>
                    <a:lnTo>
                      <a:pt x="52" y="302"/>
                    </a:lnTo>
                    <a:lnTo>
                      <a:pt x="155" y="240"/>
                    </a:lnTo>
                    <a:lnTo>
                      <a:pt x="256" y="302"/>
                    </a:lnTo>
                    <a:lnTo>
                      <a:pt x="217" y="189"/>
                    </a:lnTo>
                    <a:lnTo>
                      <a:pt x="307" y="114"/>
                    </a:lnTo>
                    <a:lnTo>
                      <a:pt x="193" y="114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46160" y="672444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6" h="302">
                    <a:moveTo>
                      <a:pt x="151" y="0"/>
                    </a:moveTo>
                    <a:lnTo>
                      <a:pt x="115" y="113"/>
                    </a:lnTo>
                    <a:lnTo>
                      <a:pt x="0" y="113"/>
                    </a:lnTo>
                    <a:lnTo>
                      <a:pt x="90" y="190"/>
                    </a:lnTo>
                    <a:lnTo>
                      <a:pt x="51" y="302"/>
                    </a:lnTo>
                    <a:lnTo>
                      <a:pt x="153" y="240"/>
                    </a:lnTo>
                    <a:lnTo>
                      <a:pt x="255" y="302"/>
                    </a:lnTo>
                    <a:lnTo>
                      <a:pt x="217" y="188"/>
                    </a:lnTo>
                    <a:lnTo>
                      <a:pt x="306" y="113"/>
                    </a:lnTo>
                    <a:lnTo>
                      <a:pt x="191" y="113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88560" y="666864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5" h="302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2" y="302"/>
                    </a:lnTo>
                    <a:lnTo>
                      <a:pt x="154" y="240"/>
                    </a:lnTo>
                    <a:lnTo>
                      <a:pt x="254" y="302"/>
                    </a:lnTo>
                    <a:lnTo>
                      <a:pt x="216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68400" y="65916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305" h="301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1" y="301"/>
                    </a:lnTo>
                    <a:lnTo>
                      <a:pt x="153" y="240"/>
                    </a:lnTo>
                    <a:lnTo>
                      <a:pt x="255" y="301"/>
                    </a:lnTo>
                    <a:lnTo>
                      <a:pt x="217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90000" y="651672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5" h="302">
                    <a:moveTo>
                      <a:pt x="151" y="0"/>
                    </a:moveTo>
                    <a:lnTo>
                      <a:pt x="115" y="114"/>
                    </a:lnTo>
                    <a:lnTo>
                      <a:pt x="0" y="113"/>
                    </a:lnTo>
                    <a:lnTo>
                      <a:pt x="90" y="191"/>
                    </a:lnTo>
                    <a:lnTo>
                      <a:pt x="52" y="302"/>
                    </a:lnTo>
                    <a:lnTo>
                      <a:pt x="154" y="241"/>
                    </a:lnTo>
                    <a:lnTo>
                      <a:pt x="254" y="302"/>
                    </a:lnTo>
                    <a:lnTo>
                      <a:pt x="216" y="189"/>
                    </a:lnTo>
                    <a:lnTo>
                      <a:pt x="305" y="114"/>
                    </a:lnTo>
                    <a:lnTo>
                      <a:pt x="192" y="11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46160" y="6458400"/>
                <a:ext cx="52200" cy="51120"/>
              </a:xfrm>
              <a:custGeom>
                <a:avLst/>
                <a:gdLst/>
                <a:ahLst/>
                <a:rect l="l" t="t" r="r" b="b"/>
                <a:pathLst>
                  <a:path w="306" h="302">
                    <a:moveTo>
                      <a:pt x="151" y="0"/>
                    </a:moveTo>
                    <a:lnTo>
                      <a:pt x="115" y="113"/>
                    </a:lnTo>
                    <a:lnTo>
                      <a:pt x="0" y="113"/>
                    </a:lnTo>
                    <a:lnTo>
                      <a:pt x="90" y="190"/>
                    </a:lnTo>
                    <a:lnTo>
                      <a:pt x="51" y="302"/>
                    </a:lnTo>
                    <a:lnTo>
                      <a:pt x="153" y="240"/>
                    </a:lnTo>
                    <a:lnTo>
                      <a:pt x="255" y="302"/>
                    </a:lnTo>
                    <a:lnTo>
                      <a:pt x="217" y="188"/>
                    </a:lnTo>
                    <a:lnTo>
                      <a:pt x="306" y="113"/>
                    </a:lnTo>
                    <a:lnTo>
                      <a:pt x="191" y="113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696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Bologna Process Seminar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Employability:</a:t>
            </a:r>
            <a:br>
              <a:rPr sz="28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e Employers’ Perspective and its Implications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7280" y="4699080"/>
            <a:ext cx="76327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Coyn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, European Social Fun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Commiss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 November 200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The Medium-Term Future: skills forecasts - US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71640" y="2954160"/>
          <a:ext cx="401004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54160"/>
                    <a:ext cx="40100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971640" y="1743120"/>
          <a:ext cx="8153280" cy="42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743120"/>
                    <a:ext cx="815328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03280" y="2637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28924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he 10 US industries with the largest wage/salary and employment growth 2006-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09560" y="2637000"/>
          <a:ext cx="6743880" cy="3566520"/>
        </p:xfrm>
        <a:graphic>
          <a:graphicData uri="http://schemas.openxmlformats.org/drawingml/2006/table">
            <a:tbl>
              <a:tblPr/>
              <a:tblGrid>
                <a:gridCol w="4229280"/>
                <a:gridCol w="685800"/>
                <a:gridCol w="914400"/>
                <a:gridCol w="914400"/>
              </a:tblGrid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Indust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Employ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Chan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Perc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-  Management, scientific, and technical consulting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   serv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-  Employment serv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-  General medical and surgical hospitals, public and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priv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-  Elementary and secondary schools, public and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priv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-  Local government, excluding education and hospitals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-  Offices of physicians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-  Limited-service eating plac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-  Colleges, universities, and professional schools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public and priv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-  Computer systems design and related serv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-  Home health care servi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92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3,657 4,98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8,34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5,594 2,154 4,019 3,43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1,2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8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1,63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4,348 5,67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8,98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6,206 2,687 4,548 3,93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1,768 1,3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77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18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13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7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10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24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13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14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38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t-MT" sz="12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55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5681880" y="47775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3440" y="620316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: US Bureau of Labour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What do students study?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71640" y="2954160"/>
          <a:ext cx="401004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54160"/>
                    <a:ext cx="40100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71640" y="1743120"/>
          <a:ext cx="8153280" cy="42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743120"/>
                    <a:ext cx="815328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403280" y="2637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81880" y="47775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470320" y="2181240"/>
          <a:ext cx="5341680" cy="40179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0320" y="2181240"/>
                    <a:ext cx="53416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1916280"/>
            <a:ext cx="64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Students: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think about what you can offer before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you choose a course!</a:t>
            </a:r>
            <a:br>
              <a:rPr sz="2000"/>
            </a:b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Universities: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think about what jobs your students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can get if they follow your courses</a:t>
            </a:r>
            <a:br>
              <a:rPr sz="20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Governments :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how does the student subject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profile match your current and future nee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400"/>
            </a:br>
            <a:br>
              <a:rPr sz="3600"/>
            </a:b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Thank you very much!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400" spc="-1" strike="noStrike">
                <a:solidFill>
                  <a:srgbClr val="66ccff"/>
                </a:solidFill>
                <a:latin typeface="Arial"/>
              </a:rPr>
              <a:t>Student numbers 1975</a:t>
            </a:r>
            <a:br>
              <a:rPr sz="24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4560" y="1771560"/>
          <a:ext cx="785808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771560"/>
                    <a:ext cx="78580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219640" y="4941720"/>
            <a:ext cx="3313080" cy="94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EU-27: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Student numbers 1975 : 7 046 000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15-year olds : 7 522 000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Proportion: 9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990720" y="1776240"/>
          <a:ext cx="8172360" cy="45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76240"/>
                    <a:ext cx="817236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400" spc="-1" strike="noStrike">
                <a:solidFill>
                  <a:srgbClr val="66ccff"/>
                </a:solidFill>
                <a:latin typeface="Arial"/>
              </a:rPr>
              <a:t>Student numbers 2006</a:t>
            </a:r>
            <a:br>
              <a:rPr sz="24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71640" y="3110040"/>
          <a:ext cx="4008240" cy="186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110040"/>
                    <a:ext cx="4008240" cy="18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"/>
          <p:cNvGrpSpPr/>
          <p:nvPr/>
        </p:nvGrpSpPr>
        <p:grpSpPr>
          <a:xfrm>
            <a:off x="1349280" y="2565360"/>
            <a:ext cx="7361280" cy="3628440"/>
            <a:chOff x="1349280" y="2565360"/>
            <a:chExt cx="7361280" cy="3628440"/>
          </a:xfrm>
        </p:grpSpPr>
        <p:sp>
          <p:nvSpPr>
            <p:cNvPr id="128" name=""/>
            <p:cNvSpPr/>
            <p:nvPr/>
          </p:nvSpPr>
          <p:spPr>
            <a:xfrm>
              <a:off x="2124000" y="2565360"/>
              <a:ext cx="57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266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84360" y="2679840"/>
              <a:ext cx="57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13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4000" y="2793960"/>
              <a:ext cx="50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253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6360" y="2924280"/>
              <a:ext cx="50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206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4920" y="3068640"/>
              <a:ext cx="50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261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50920" y="3182760"/>
              <a:ext cx="50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57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0720" y="3332160"/>
              <a:ext cx="50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59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01840" y="3487680"/>
              <a:ext cx="50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475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56720" y="3560760"/>
              <a:ext cx="50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03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07280" y="3716280"/>
              <a:ext cx="503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275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48000" y="38606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634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05120" y="397512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45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41480" y="414972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51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80360" y="4264200"/>
              <a:ext cx="622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60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79480" y="4378320"/>
              <a:ext cx="488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74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11320" y="455148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55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49280" y="468324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76360" y="480996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188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76560" y="491184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291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31000" y="503856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91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4360" y="520056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16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52720" y="5315040"/>
              <a:ext cx="54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03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96920" y="5445000"/>
              <a:ext cx="54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250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561960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522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2720" y="573408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452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06760" y="584820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341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7160" y="5962680"/>
              <a:ext cx="542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289%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291280" y="2516040"/>
            <a:ext cx="3419280" cy="946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EU27: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Student numbers 2006: 18 747 000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15-year olds 2006: 5 691 000</a:t>
            </a:r>
            <a:br>
              <a:rPr sz="1400"/>
            </a:b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Proportion: 329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400" spc="-1" strike="noStrike">
                <a:solidFill>
                  <a:srgbClr val="66ccff"/>
                </a:solidFill>
                <a:latin typeface="Arial"/>
              </a:rPr>
              <a:t>Student numbers 2006/1975</a:t>
            </a:r>
            <a:br>
              <a:rPr sz="24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14600" y="1844640"/>
          <a:ext cx="688500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4600" y="1844640"/>
                    <a:ext cx="6885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Employability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8172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omponents of Employ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Assets: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skills and knowledge, personal and social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Marketing and Deployment Skills: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managing your career and trans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Presentation: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getting the jo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The Medium-Term Futur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71640" y="2954160"/>
          <a:ext cx="401004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54160"/>
                    <a:ext cx="40100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971640" y="1743120"/>
          <a:ext cx="8153280" cy="473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743120"/>
                    <a:ext cx="815328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403280" y="2637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844640"/>
            <a:ext cx="8172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ffff"/>
                </a:solidFill>
                <a:latin typeface="Arial"/>
              </a:rPr>
              <a:t>Globalisation is likely to continue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More trade in goods an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Greater movement o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Technological and knowledge di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0000"/>
                </a:solidFill>
                <a:latin typeface="Arial"/>
              </a:rPr>
              <a:t>Integrated financial f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BE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fr-BE" sz="2400" spc="-1" strike="noStrike">
                <a:solidFill>
                  <a:srgbClr val="ffffff"/>
                </a:solidFill>
                <a:latin typeface="Arial"/>
              </a:rPr>
              <a:t>though perhaps more slow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The Medium-Term Future: demographic chang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954160"/>
          <a:ext cx="401004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54160"/>
                    <a:ext cx="40100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971640" y="1743120"/>
          <a:ext cx="8153280" cy="473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743120"/>
                    <a:ext cx="815328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403280" y="2637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1844640"/>
            <a:ext cx="3752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By 2020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rease of working age population &gt; 10% in many regions of new MS, DE, 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ines up to 30% in some of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rcRect l="9526" t="10096" r="9526" b="30288"/>
          <a:stretch/>
        </p:blipFill>
        <p:spPr>
          <a:xfrm>
            <a:off x="4724280" y="2276640"/>
            <a:ext cx="4456080" cy="409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The Medium-Term Future: employment rates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2954160"/>
          <a:ext cx="401004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54160"/>
                    <a:ext cx="40100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971640" y="1743120"/>
          <a:ext cx="8153280" cy="473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743120"/>
                    <a:ext cx="815328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403280" y="2637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1844640"/>
            <a:ext cx="3698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By 2020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employment rate increase to 70% by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but employment rate &lt; 55% in some regions in FR, HU, IT &amp; 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rcRect l="9518" t="11106" r="9518" b="30288"/>
          <a:stretch/>
        </p:blipFill>
        <p:spPr>
          <a:xfrm>
            <a:off x="4670280" y="2205000"/>
            <a:ext cx="4524480" cy="4170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aeaea"/>
                </a:solidFill>
                <a:latin typeface="Arial"/>
              </a:rPr>
              <a:t>Bologna Process Employability Seminar </a:t>
            </a:r>
            <a:br>
              <a:rPr sz="2800"/>
            </a:br>
            <a:br>
              <a:rPr sz="2800"/>
            </a:br>
            <a:r>
              <a:rPr b="1" lang="fr-B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The Medium-Term Future: skills forecasts - EU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71640" y="2954160"/>
          <a:ext cx="401004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54160"/>
                    <a:ext cx="40100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313240" y="1844640"/>
          <a:ext cx="3651480" cy="21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3240" y="1844640"/>
                    <a:ext cx="365148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403280" y="2637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1640" y="1771560"/>
          <a:ext cx="8172360" cy="4556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1771560"/>
                    <a:ext cx="817236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348000" y="2119320"/>
            <a:ext cx="52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mand by occupation, broad groups (change in millions)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-15, EU-25, Norway &amp; Switzerl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55640" y="2637000"/>
            <a:ext cx="2521080" cy="2846520"/>
            <a:chOff x="755640" y="2637000"/>
            <a:chExt cx="2521080" cy="2846520"/>
          </a:xfrm>
        </p:grpSpPr>
        <p:sp>
          <p:nvSpPr>
            <p:cNvPr id="194" name=""/>
            <p:cNvSpPr/>
            <p:nvPr/>
          </p:nvSpPr>
          <p:spPr>
            <a:xfrm>
              <a:off x="1403280" y="2637000"/>
              <a:ext cx="1873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Legislators, senior officials</a:t>
              </a:r>
              <a:br>
                <a:rPr sz="1000"/>
              </a:b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&amp; manage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47640" y="2976840"/>
              <a:ext cx="172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Professiona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6000" y="3221280"/>
              <a:ext cx="216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Technicians &amp; associates professiona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19280" y="3618000"/>
              <a:ext cx="165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lerk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71640" y="3846600"/>
              <a:ext cx="230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ice workers &amp; shop &amp; market sales worke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16000" y="4191120"/>
              <a:ext cx="216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Skilled agricultural &amp; fishery worke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87280" y="4565880"/>
              <a:ext cx="208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Craft  &amp; related traders workers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5640" y="4810320"/>
              <a:ext cx="2521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Plant &amp; machine operators &amp; assembler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7280" y="5237280"/>
              <a:ext cx="208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</a:rPr>
                <a:t>Elementary occupation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08:23:10Z</dcterms:created>
  <dc:creator>seypegu</dc:creator>
  <dc:description/>
  <dc:language>en-US</dc:language>
  <cp:lastModifiedBy>rackeco</cp:lastModifiedBy>
  <dcterms:modified xsi:type="dcterms:W3CDTF">2008-11-05T22:35:31Z</dcterms:modified>
  <cp:revision>245</cp:revision>
  <dc:subject/>
  <dc:title>Adaptability in the EES</dc:title>
</cp:coreProperties>
</file>