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848844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8800" y="3632760"/>
            <a:ext cx="848844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832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8800" y="363276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8320" y="363276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9080" y="161748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9000" y="161748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8800" y="363276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9080" y="363276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9000" y="3632760"/>
            <a:ext cx="273312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8800" y="1617480"/>
            <a:ext cx="84884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84884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414216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8320" y="1617480"/>
            <a:ext cx="414216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19160" y="337680"/>
            <a:ext cx="850104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8320" y="1617480"/>
            <a:ext cx="414216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8800" y="363276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414216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832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8320" y="363276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880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8320" y="1617480"/>
            <a:ext cx="414216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8800" y="3632760"/>
            <a:ext cx="8488440" cy="18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5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115c2e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8800" y="1617480"/>
            <a:ext cx="84884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-26028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5236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0340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79400" indent="-20304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6570720" indent="-472140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6570720" indent="-472140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6570720" indent="-4721400">
              <a:lnSpc>
                <a:spcPct val="85000"/>
              </a:lnSpc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52920" y="6218280"/>
            <a:ext cx="1833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361800"/>
            <a:ext cx="80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800" spc="-1" strike="noStrike">
              <a:solidFill>
                <a:srgbClr val="115c2e"/>
              </a:solidFill>
              <a:latin typeface="Gill Alt One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7DE8D1C-2F49-41E1-B4A3-A6160E96D2D5}" type="datetime">
              <a:rPr b="0" lang="de-CH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115c2e"/>
              </a:solidFill>
              <a:latin typeface="Gill Alt One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16890A-8A66-4ECB-9957-A17F5764C051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115c2e"/>
              </a:solidFill>
              <a:latin typeface="Gill Alt One MT"/>
            </a:endParaRPr>
          </a:p>
        </p:txBody>
      </p:sp>
      <p:pic>
        <p:nvPicPr>
          <p:cNvPr id="4" name="Picture 6" descr="USGe2P1M"/>
          <p:cNvPicPr/>
          <p:nvPr/>
        </p:nvPicPr>
        <p:blipFill>
          <a:blip r:embed="rId2"/>
          <a:stretch/>
        </p:blipFill>
        <p:spPr>
          <a:xfrm>
            <a:off x="208080" y="6149880"/>
            <a:ext cx="24080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katrin.schuler@student.unisg.ch" TargetMode="External"/><Relationship Id="rId2" Type="http://schemas.openxmlformats.org/officeDocument/2006/relationships/hyperlink" Target="mailto:sabina.crameri@student.unisg.ch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80920" y="1643040"/>
            <a:ext cx="416736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25480" y="76320"/>
            <a:ext cx="808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208160" y="2000160"/>
            <a:ext cx="853128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5d11"/>
                </a:solidFill>
                <a:latin typeface="Arial"/>
              </a:rPr>
              <a:t>Employability of Bachelor Graduates</a:t>
            </a:r>
            <a:endParaRPr b="0" lang="en-US" sz="36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5d11"/>
                </a:solidFill>
                <a:latin typeface="Arial"/>
              </a:rPr>
              <a:t>Student View</a:t>
            </a:r>
            <a:endParaRPr b="0" lang="en-US" sz="28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5d11"/>
                </a:solidFill>
                <a:latin typeface="Arial"/>
              </a:rPr>
              <a:t>Katrin Schuler, B.A. (HSG)</a:t>
            </a:r>
            <a:endParaRPr b="0" lang="en-US" sz="20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5d11"/>
                </a:solidFill>
                <a:latin typeface="Arial"/>
              </a:rPr>
              <a:t>Sabina</a:t>
            </a:r>
            <a:r>
              <a:rPr b="1" lang="en-US" sz="2000" spc="-1" strike="noStrike">
                <a:solidFill>
                  <a:srgbClr val="1a5d1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a5d11"/>
                </a:solidFill>
                <a:latin typeface="Arial"/>
              </a:rPr>
              <a:t>Crameri, B.A. (HSG)</a:t>
            </a:r>
            <a:endParaRPr b="0" lang="en-US" sz="2000" spc="-1" strike="noStrike">
              <a:solidFill>
                <a:srgbClr val="115c2e"/>
              </a:solidFill>
              <a:latin typeface="Gill Alt One MT"/>
            </a:endParaRPr>
          </a:p>
        </p:txBody>
      </p:sp>
      <p:pic>
        <p:nvPicPr>
          <p:cNvPr id="44" name="Picture 25" descr=""/>
          <p:cNvPicPr/>
          <p:nvPr/>
        </p:nvPicPr>
        <p:blipFill>
          <a:blip r:embed="rId1"/>
          <a:stretch/>
        </p:blipFill>
        <p:spPr>
          <a:xfrm>
            <a:off x="200160" y="333360"/>
            <a:ext cx="4465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pieren 8"/>
          <p:cNvGrpSpPr/>
          <p:nvPr/>
        </p:nvGrpSpPr>
        <p:grpSpPr>
          <a:xfrm>
            <a:off x="6810480" y="5643720"/>
            <a:ext cx="1928880" cy="809640"/>
            <a:chOff x="6810480" y="5643720"/>
            <a:chExt cx="1928880" cy="809640"/>
          </a:xfrm>
        </p:grpSpPr>
        <p:pic>
          <p:nvPicPr>
            <p:cNvPr id="46" name="Picture 16" descr=""/>
            <p:cNvPicPr/>
            <p:nvPr/>
          </p:nvPicPr>
          <p:blipFill>
            <a:blip r:embed="rId2"/>
            <a:stretch/>
          </p:blipFill>
          <p:spPr>
            <a:xfrm>
              <a:off x="8001360" y="5715000"/>
              <a:ext cx="738000" cy="7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6" descr=""/>
            <p:cNvPicPr/>
            <p:nvPr/>
          </p:nvPicPr>
          <p:blipFill>
            <a:blip r:embed="rId3"/>
            <a:stretch/>
          </p:blipFill>
          <p:spPr>
            <a:xfrm>
              <a:off x="6810480" y="5643720"/>
              <a:ext cx="1078200" cy="78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hteck 8"/>
          <p:cNvSpPr/>
          <p:nvPr/>
        </p:nvSpPr>
        <p:spPr>
          <a:xfrm>
            <a:off x="0" y="5943600"/>
            <a:ext cx="2914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4152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5c2e"/>
                </a:solidFill>
                <a:latin typeface="Arial"/>
              </a:rPr>
              <a:t>Appreciation of a HSG degree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422000"/>
            <a:ext cx="798048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Rectangle 11" descr=""/>
          <p:cNvPicPr/>
          <p:nvPr/>
        </p:nvPicPr>
        <p:blipFill>
          <a:blip r:embed="rId1"/>
          <a:stretch/>
        </p:blipFill>
        <p:spPr>
          <a:xfrm>
            <a:off x="914400" y="1060560"/>
            <a:ext cx="7400880" cy="528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223040" y="6446880"/>
            <a:ext cx="28018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000" spc="-1" strike="noStrike">
                <a:solidFill>
                  <a:srgbClr val="115c2e"/>
                </a:solidFill>
                <a:latin typeface="Arial"/>
              </a:rPr>
              <a:t>Source: University of St.Gallen, 2008</a:t>
            </a:r>
            <a:endParaRPr b="0" lang="en-US" sz="10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18800" y="1143000"/>
            <a:ext cx="55054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The University of St.Gallen (HSG) at a G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Program architecture / Cour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Employ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udents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ur Background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18800" y="1141560"/>
            <a:ext cx="814860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115c2e"/>
                </a:solidFill>
                <a:latin typeface="Arial"/>
              </a:rPr>
              <a:t>Katrin Sch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duc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A. in Business Administration, currently Masterstud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ccounting and Finance at University of St.G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ractical Experienc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-time work before and while University, Internship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BM Switzerland and 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115c2e"/>
                </a:solidFill>
                <a:latin typeface="Arial"/>
              </a:rPr>
              <a:t>Sabina Cram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duc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A. in Business Administration, currently Masterstud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rketing, Services and Communications a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of St.G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ractical Experi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-time work before and while University, Internship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Unilever and PricewaterhouseCoo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ur Experiences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2200" y="1143000"/>
            <a:ext cx="814860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48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hat extend are bachelor graduates employ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receptivity about complex f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comeptences more wide then de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erstart with a bachelor degree is more suitable in some positions than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8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kind of expectations do employers have towards bache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wareness about the skills that a bachelor already 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companies accept bachelors only for internships. A bachelor degree is not seen as a completed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 between HR and line of service mana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8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8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8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3840" y="2854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ur Experiences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52200" y="1071360"/>
            <a:ext cx="848844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52360" indent="-25236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d the bachelor education prepare accurately for a job e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postition of content, independent and contextual studies prepares in a good way for a start in working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emental activities enhance employ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ness between university and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SC brings students in contact with companies at an early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2360" indent="-25236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did you choose to go back to Univer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ination with mentor and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gap year helps to chose the master deg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244440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ertainty about career opportunities for bachelor graduates from a certain career-level o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2360" indent="-25236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3840" y="35676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Undergraduate Studies: 5 majors</a:t>
            </a:r>
            <a:br>
              <a:rPr sz="2800"/>
            </a:br>
            <a:r>
              <a:rPr b="0" lang="de-DE" sz="2800" spc="-1" strike="noStrike">
                <a:solidFill>
                  <a:srgbClr val="116b35"/>
                </a:solidFill>
                <a:latin typeface="Arial"/>
              </a:rPr>
              <a:t>10 Master's Programs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5400" y="2246400"/>
            <a:ext cx="1428480" cy="757080"/>
          </a:xfrm>
          <a:prstGeom prst="rect">
            <a:avLst/>
          </a:prstGeom>
          <a:solidFill>
            <a:srgbClr val="3f74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5400" y="3130560"/>
            <a:ext cx="1428480" cy="755640"/>
          </a:xfrm>
          <a:prstGeom prst="rect">
            <a:avLst/>
          </a:prstGeom>
          <a:solidFill>
            <a:srgbClr val="54a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95400" y="3978360"/>
            <a:ext cx="1428480" cy="755640"/>
          </a:xfrm>
          <a:prstGeom prst="rect">
            <a:avLst/>
          </a:prstGeom>
          <a:solidFill>
            <a:srgbClr val="c96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95400" y="4802040"/>
            <a:ext cx="1428480" cy="757440"/>
          </a:xfrm>
          <a:prstGeom prst="rect">
            <a:avLst/>
          </a:prstGeom>
          <a:solidFill>
            <a:srgbClr val="ed9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6680" y="2390760"/>
            <a:ext cx="1601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usiness Administration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66680" y="3398760"/>
            <a:ext cx="15303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91960" indent="-2919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6680" y="4191120"/>
            <a:ext cx="13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ternational Affair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95400" y="5640480"/>
            <a:ext cx="1428480" cy="755640"/>
          </a:xfrm>
          <a:prstGeom prst="rect">
            <a:avLst/>
          </a:prstGeom>
          <a:solidFill>
            <a:srgbClr val="fbc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166680" y="5775480"/>
            <a:ext cx="1244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 and Econ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66680" y="5051520"/>
            <a:ext cx="958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91960" indent="-2919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677960" y="2324160"/>
            <a:ext cx="270036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677960" y="3135240"/>
            <a:ext cx="270036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1960" indent="-2919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677960" y="3979800"/>
            <a:ext cx="270036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663560" y="4844880"/>
            <a:ext cx="271800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1677960" y="5668920"/>
            <a:ext cx="270036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8" name="Textfeld 22"/>
          <p:cNvSpPr/>
          <p:nvPr/>
        </p:nvSpPr>
        <p:spPr>
          <a:xfrm>
            <a:off x="1663560" y="2513160"/>
            <a:ext cx="2686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usiness Administration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09" name="Textfeld 25"/>
          <p:cNvSpPr/>
          <p:nvPr/>
        </p:nvSpPr>
        <p:spPr>
          <a:xfrm>
            <a:off x="1663560" y="5799240"/>
            <a:ext cx="2686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 and Ecom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0" name="Textfeld 26"/>
          <p:cNvSpPr/>
          <p:nvPr/>
        </p:nvSpPr>
        <p:spPr>
          <a:xfrm>
            <a:off x="1663560" y="4941720"/>
            <a:ext cx="2686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1" name="Textfeld 27"/>
          <p:cNvSpPr/>
          <p:nvPr/>
        </p:nvSpPr>
        <p:spPr>
          <a:xfrm>
            <a:off x="1663560" y="4156200"/>
            <a:ext cx="2686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1960" indent="-291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Gill Alt One MT"/>
              </a:rPr>
              <a:t>International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Affair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291960" indent="-2919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2" name="Rectangle 1027"/>
          <p:cNvSpPr/>
          <p:nvPr/>
        </p:nvSpPr>
        <p:spPr>
          <a:xfrm>
            <a:off x="4524480" y="1666800"/>
            <a:ext cx="5143320" cy="165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3" name="Rectangle 1028"/>
          <p:cNvSpPr/>
          <p:nvPr/>
        </p:nvSpPr>
        <p:spPr>
          <a:xfrm>
            <a:off x="4524480" y="3467160"/>
            <a:ext cx="5143320" cy="72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4" name="Rectangle 1029"/>
          <p:cNvSpPr/>
          <p:nvPr/>
        </p:nvSpPr>
        <p:spPr>
          <a:xfrm>
            <a:off x="4524480" y="4344840"/>
            <a:ext cx="5143320" cy="64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4540320" y="5064120"/>
            <a:ext cx="5127480" cy="649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6" name="Rectangle 1031"/>
          <p:cNvSpPr/>
          <p:nvPr/>
        </p:nvSpPr>
        <p:spPr>
          <a:xfrm>
            <a:off x="4540320" y="5784840"/>
            <a:ext cx="5127480" cy="64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4524480" y="3538440"/>
            <a:ext cx="6354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Quantitative Economics and Finance (taught in English)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8" name="Rectangle 1035"/>
          <p:cNvSpPr/>
          <p:nvPr/>
        </p:nvSpPr>
        <p:spPr>
          <a:xfrm>
            <a:off x="4559400" y="4470480"/>
            <a:ext cx="4260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90440" indent="-190440">
              <a:lnSpc>
                <a:spcPct val="75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International Affairs and Governance (taught in English or German)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75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19" name="Rectangle 1036"/>
          <p:cNvSpPr/>
          <p:nvPr/>
        </p:nvSpPr>
        <p:spPr>
          <a:xfrm>
            <a:off x="4565520" y="5253120"/>
            <a:ext cx="4260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90440" indent="-1904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20" name="Rectangle 1037"/>
          <p:cNvSpPr/>
          <p:nvPr/>
        </p:nvSpPr>
        <p:spPr>
          <a:xfrm>
            <a:off x="4524480" y="1752480"/>
            <a:ext cx="6013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formation, Media and Technology Management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Strategy and International Management (taught in English)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keting, Services and Communication Management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ccounting and Finance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  <a:p>
            <a:pPr marL="190440" indent="-190440">
              <a:lnSpc>
                <a:spcPct val="85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70c0"/>
                </a:solidFill>
                <a:latin typeface="Arial"/>
              </a:rPr>
              <a:t>Banking and Finance (taught in English)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21" name="Rectangle 1038"/>
          <p:cNvSpPr/>
          <p:nvPr/>
        </p:nvSpPr>
        <p:spPr>
          <a:xfrm>
            <a:off x="4565520" y="5970600"/>
            <a:ext cx="42609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190440" indent="-1904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Law and Economics</a:t>
            </a:r>
            <a:endParaRPr b="0" lang="en-US" sz="15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122" name="Textfeld 40"/>
          <p:cNvSpPr/>
          <p:nvPr/>
        </p:nvSpPr>
        <p:spPr>
          <a:xfrm>
            <a:off x="490680" y="1101600"/>
            <a:ext cx="9215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context between the Bachelor Education and the chosen Master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ee?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2800" spc="-1" strike="noStrike">
                <a:solidFill>
                  <a:srgbClr val="115c2e"/>
                </a:solidFill>
                <a:latin typeface="Arial"/>
              </a:rPr>
              <a:t>Contact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19160" y="1213920"/>
            <a:ext cx="472608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ity of St.Gallen (H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fourstr.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-9000 St. Ga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: +41 (0)71 224 21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ail:  info@unisg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unisg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atrin Sch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de-CH" sz="18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katrin.schuler@student.unisg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abina Cram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de-CH" sz="1800" spc="-1" strike="noStrike" u="sng">
                <a:solidFill>
                  <a:srgbClr val="cc00cc"/>
                </a:solidFill>
                <a:uFillTx/>
                <a:latin typeface="Arial"/>
                <a:hlinkClick r:id="rId2"/>
              </a:rPr>
              <a:t>sabina.crameri@student.unisg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6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StGallen"/>
          <p:cNvPicPr/>
          <p:nvPr/>
        </p:nvPicPr>
        <p:blipFill>
          <a:blip r:embed="rId3"/>
          <a:stretch/>
        </p:blipFill>
        <p:spPr>
          <a:xfrm>
            <a:off x="5524560" y="1197000"/>
            <a:ext cx="366696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B-Gebäude aussen mit Wiese"/>
          <p:cNvPicPr/>
          <p:nvPr/>
        </p:nvPicPr>
        <p:blipFill>
          <a:blip r:embed="rId1"/>
          <a:stretch/>
        </p:blipFill>
        <p:spPr>
          <a:xfrm>
            <a:off x="1065240" y="1197000"/>
            <a:ext cx="8210520" cy="4375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271600" y="1714680"/>
            <a:ext cx="58248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115c2e"/>
                </a:solidFill>
                <a:latin typeface="Gill Alt One MT"/>
              </a:rPr>
              <a:t>Thank you</a:t>
            </a:r>
            <a:r>
              <a:rPr b="0" lang="en-US" sz="3600" spc="-1" strike="noStrike">
                <a:solidFill>
                  <a:srgbClr val="1a5d11"/>
                </a:solidFill>
                <a:latin typeface="Gill Alt One MT"/>
              </a:rPr>
              <a:t> </a:t>
            </a:r>
            <a:r>
              <a:rPr b="0" lang="en-US" sz="3600" spc="-1" strike="noStrike">
                <a:solidFill>
                  <a:srgbClr val="115c2e"/>
                </a:solidFill>
                <a:latin typeface="Gill Alt One MT"/>
              </a:rPr>
              <a:t>for your attention!</a:t>
            </a:r>
            <a:endParaRPr b="0" lang="en-US" sz="36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2e5c35"/>
                </a:solidFill>
                <a:latin typeface="Arial"/>
              </a:rPr>
              <a:t>Special academic offers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6160" y="1158840"/>
            <a:ext cx="5549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shmen's week (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ching and mentoring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tudent initiatives (campus cred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Partneruniversities: Possibility of one to two semesters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 Term” at Singapore Management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degree: CEMS M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degree in Master's Programs with international partner universities: Sciences Po (Paris), Fletcher School (Boston), Nanyang Technical University (Singapore), Bocconi (Milan), Erasmus (Rotterdam), ESADE (Barcelona), HEC (Paris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33520" y="152280"/>
            <a:ext cx="808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pic>
        <p:nvPicPr>
          <p:cNvPr id="131" name="Picture 7" descr="p8696960"/>
          <p:cNvPicPr/>
          <p:nvPr/>
        </p:nvPicPr>
        <p:blipFill>
          <a:blip r:embed="rId1"/>
          <a:stretch/>
        </p:blipFill>
        <p:spPr>
          <a:xfrm>
            <a:off x="6667560" y="1214280"/>
            <a:ext cx="269712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23480" y="1143000"/>
            <a:ext cx="821556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St.Gallen (HSG) at a G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Program architecture / Cour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Employ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Students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Uni_Fahnen"/>
          <p:cNvPicPr/>
          <p:nvPr/>
        </p:nvPicPr>
        <p:blipFill>
          <a:blip r:embed="rId1"/>
          <a:stretch/>
        </p:blipFill>
        <p:spPr>
          <a:xfrm>
            <a:off x="4809960" y="2571840"/>
            <a:ext cx="422928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33560" y="33624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2800" spc="-1" strike="noStrike">
                <a:solidFill>
                  <a:srgbClr val="115c2e"/>
                </a:solidFill>
                <a:latin typeface="Arial"/>
              </a:rPr>
              <a:t>University of St.Gallen (HSG)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76160" y="5157720"/>
            <a:ext cx="889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0280" indent="-2602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52360" y="1550880"/>
            <a:ext cx="475164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stablished 1898 in the heyday of the embroidery industry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elsakademie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5,900 students, 80 nations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Gill Alt One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Alt One MT"/>
              </a:rPr>
              <a:t>Faculty</a:t>
            </a:r>
            <a:r>
              <a:rPr b="0" lang="en-US" sz="1800" spc="-1" strike="noStrike">
                <a:solidFill>
                  <a:srgbClr val="ff0000"/>
                </a:solidFill>
                <a:latin typeface="Gill Alt One MT"/>
              </a:rPr>
              <a:t>: 80 professorships; 360 lecturers, assistants and visiting professors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Gill Alt One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Alt One MT"/>
              </a:rPr>
              <a:t>Operative units</a:t>
            </a:r>
            <a:r>
              <a:rPr b="0" lang="en-US" sz="1800" spc="-1" strike="noStrike">
                <a:solidFill>
                  <a:srgbClr val="ff0000"/>
                </a:solidFill>
                <a:latin typeface="Gill Alt One MT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Gill Alt One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Alt One MT"/>
              </a:rPr>
              <a:t>30+ institutes and research centers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logna Syste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2001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fiel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nagement, Economics, International Relations, Law, 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.A. HSG, M.A. HSG, Dr. HSG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.D. HSG, MBA, EMBA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  <a:p>
            <a:pPr marL="363600" indent="-363600">
              <a:lnSpc>
                <a:spcPts val="25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redi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QUIS and AACSB (first in German-speaking world)</a:t>
            </a:r>
            <a:endParaRPr b="0" lang="en-US" sz="1800" spc="-1" strike="noStrike">
              <a:solidFill>
                <a:srgbClr val="115c2e"/>
              </a:solidFill>
              <a:latin typeface="Gill Alt One MT"/>
            </a:endParaRPr>
          </a:p>
        </p:txBody>
      </p:sp>
      <p:pic>
        <p:nvPicPr>
          <p:cNvPr id="56" name="Picture 20" descr="StGallen"/>
          <p:cNvPicPr/>
          <p:nvPr/>
        </p:nvPicPr>
        <p:blipFill>
          <a:blip r:embed="rId1"/>
          <a:stretch/>
        </p:blipFill>
        <p:spPr>
          <a:xfrm>
            <a:off x="6184800" y="1660680"/>
            <a:ext cx="3230640" cy="43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newequisaccredited"/>
          <p:cNvPicPr/>
          <p:nvPr/>
        </p:nvPicPr>
        <p:blipFill>
          <a:blip r:embed="rId2"/>
          <a:stretch/>
        </p:blipFill>
        <p:spPr>
          <a:xfrm>
            <a:off x="7732800" y="6105600"/>
            <a:ext cx="885600" cy="53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ACSB_Blau"/>
          <p:cNvPicPr/>
          <p:nvPr/>
        </p:nvPicPr>
        <p:blipFill>
          <a:blip r:embed="rId3"/>
          <a:stretch/>
        </p:blipFill>
        <p:spPr>
          <a:xfrm>
            <a:off x="8861400" y="6118200"/>
            <a:ext cx="574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8800" y="1143000"/>
            <a:ext cx="55054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The University of St.Gallen (HSG) at a G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architecture / Cour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Employ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Students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115c2e"/>
                </a:solidFill>
                <a:latin typeface="Arial"/>
              </a:rPr>
              <a:t>Program architecture: 3 levels – 3 pillars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63" name="Rectangle 221"/>
          <p:cNvSpPr/>
          <p:nvPr/>
        </p:nvSpPr>
        <p:spPr>
          <a:xfrm>
            <a:off x="952560" y="5143680"/>
            <a:ext cx="85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this model, the HSG satisfies the demands of society and the economy for graduates with intellectual flexibility and intercultural qualifications.</a:t>
            </a:r>
            <a:endParaRPr b="0" lang="en-US" sz="1600" spc="-1" strike="noStrike">
              <a:solidFill>
                <a:srgbClr val="115c2e"/>
              </a:solidFill>
              <a:latin typeface="Gill Alt One MT"/>
            </a:endParaRPr>
          </a:p>
        </p:txBody>
      </p:sp>
      <p:pic>
        <p:nvPicPr>
          <p:cNvPr id="64" name="Picture 58" descr="Grafik_Studienarchitektur_E"/>
          <p:cNvPicPr/>
          <p:nvPr/>
        </p:nvPicPr>
        <p:blipFill>
          <a:blip r:embed="rId1"/>
          <a:stretch/>
        </p:blipFill>
        <p:spPr>
          <a:xfrm>
            <a:off x="733320" y="1285920"/>
            <a:ext cx="861228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3840" y="309600"/>
            <a:ext cx="67564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5c2e"/>
                </a:solidFill>
                <a:latin typeface="Arial"/>
              </a:rPr>
              <a:t>Duration, Practice and Satisfaction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3480" y="1176120"/>
            <a:ext cx="815364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tion of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uration of studies, Bachelor's degree: 3,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uration of studies, Master's degree: 1,75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of studies, B.A./M.A., weighted with continuation rate: 4,8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% of B.A. graduates complete an internship of at least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% of B.A. an 73% of M.A. students are in gainful 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's Level: 93% would choose the HSG and the same major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's Level: 92% would choose the HSG and the same master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7205760" y="6437160"/>
            <a:ext cx="271440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1000" spc="-1" strike="noStrike">
                <a:solidFill>
                  <a:srgbClr val="115c2e"/>
                </a:solidFill>
                <a:latin typeface="Arial"/>
              </a:rPr>
              <a:t>Source: University of St.Gallen, 2008</a:t>
            </a:r>
            <a:endParaRPr b="0" lang="en-US" sz="10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1281240" y="1805040"/>
            <a:ext cx="363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116b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5c2e"/>
              </a:solidFill>
              <a:latin typeface="Gill Alt One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9160" y="33300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8800" y="1143000"/>
            <a:ext cx="550548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The University of St.Gallen (HSG) at a G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Program architecture / Cour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loy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100000"/>
              </a:lnSpc>
              <a:spcBef>
                <a:spcPts val="1199"/>
              </a:spcBef>
              <a:buClr>
                <a:srgbClr val="bfbfb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800" spc="-1" strike="noStrike">
                <a:solidFill>
                  <a:srgbClr val="bfbfbf"/>
                </a:solidFill>
                <a:latin typeface="Arial"/>
              </a:rPr>
              <a:t>Students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Career Services Center (CSC-HSG)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5240" y="1152000"/>
            <a:ext cx="7888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niversity of St.Gallen Career Services Center (CSC-HSG) defines itself as a strategic partner and impulse giver for recruiting organizations. To students of the University of St.Gallen, the CSC-HSG offers a wide variety of servi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52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er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50840" indent="-252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SC-HSG Career Development Programme (Hands-on seminars and workshops on topics such as: Assessment Center training, career planning, CV and cover letter workshops, interview techniques, self-marketing, and personality testing (MBTI), among other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0840" indent="-252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on-One Career Coun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0840" indent="-252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Documents-Check (by Company Representativ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0840" indent="-252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thek (A selection of up-to-date media on all aspects of your job application 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0840" indent="-252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SC-HSG Application Guid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52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l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nline platform with Job Listings and Newsletter, for Event Registrations and CV publ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52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SC-HSG International Internship Programme (I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52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The Investment Banking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19160" y="337680"/>
            <a:ext cx="8501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de-DE" sz="2800" spc="-1" strike="noStrike">
                <a:solidFill>
                  <a:srgbClr val="115c2e"/>
                </a:solidFill>
                <a:latin typeface="Arial"/>
              </a:rPr>
              <a:t>HSG Alumni</a:t>
            </a:r>
            <a:endParaRPr b="1" lang="en-US" sz="2800" spc="-1" strike="noStrike">
              <a:solidFill>
                <a:srgbClr val="115c2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5240" y="1143000"/>
            <a:ext cx="78883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TT" sz="1800" spc="-1" strike="noStrike">
                <a:solidFill>
                  <a:srgbClr val="000000"/>
                </a:solidFill>
                <a:latin typeface="Arial"/>
              </a:rPr>
              <a:t>HSG Alumni: Official organization of forme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TT" sz="1800" spc="-1" strike="noStrike">
                <a:solidFill>
                  <a:srgbClr val="000000"/>
                </a:solidFill>
                <a:latin typeface="Arial"/>
              </a:rPr>
              <a:t>More than 19'000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TT" sz="1800" spc="-1" strike="noStrike">
                <a:solidFill>
                  <a:srgbClr val="000000"/>
                </a:solidFill>
                <a:latin typeface="Arial"/>
              </a:rPr>
              <a:t>80 Alumni Clubs on 4 conti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-raising, Fund-raising and Brain-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TT" sz="1800" spc="-1" strike="noStrike">
                <a:solidFill>
                  <a:srgbClr val="000000"/>
                </a:solidFill>
                <a:latin typeface="Arial"/>
              </a:rPr>
              <a:t>Numerous events and information platforms</a:t>
            </a:r>
            <a:br>
              <a:rPr sz="1800"/>
            </a:br>
            <a:r>
              <a:rPr b="0" lang="en-T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BKeel\Desktop\3. Internationale HSG Alumni Konferenz 2006_HSG Alumni_.jpg"/>
          <p:cNvPicPr/>
          <p:nvPr/>
        </p:nvPicPr>
        <p:blipFill>
          <a:blip r:embed="rId1"/>
          <a:stretch/>
        </p:blipFill>
        <p:spPr>
          <a:xfrm>
            <a:off x="1065240" y="3071880"/>
            <a:ext cx="5626080" cy="3143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881760" y="5629320"/>
            <a:ext cx="246852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ternationa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SG Alumni Conferenc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St. Moritz.</a:t>
            </a:r>
            <a:endParaRPr b="0" lang="en-US" sz="1600" spc="-1" strike="noStrike">
              <a:solidFill>
                <a:srgbClr val="115c2e"/>
              </a:solidFill>
              <a:latin typeface="Gill Alt One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2:34:08Z</dcterms:created>
  <dc:creator>JBruecker</dc:creator>
  <dc:description/>
  <dc:language>en-US</dc:language>
  <cp:lastModifiedBy>Sabina Crameri</cp:lastModifiedBy>
  <cp:lastPrinted>2004-03-01T02:28:13Z</cp:lastPrinted>
  <dcterms:modified xsi:type="dcterms:W3CDTF">2008-11-06T10:36:48Z</dcterms:modified>
  <cp:revision>1187</cp:revision>
  <dc:subject/>
  <dc:title>Gaststudierende</dc:title>
</cp:coreProperties>
</file>