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B97-A6FD-4CDA-9C7D-E2FDF0D0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525-D401-48B9-9A88-EAD5324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787-3493-43BF-96F1-B28ECADE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089-7082-4F75-AAC1-A28377A1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5E7-90A8-4AD3-9F3B-3C95FEC5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930B-DE0A-44B2-AB92-40B5911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CCF2-7F7D-484A-895D-1189D6C0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89B9-4C61-41FF-9716-D031089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EB9C-A6A2-4BD3-A075-CC6533B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44B-3B17-4554-82F2-71A47C6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8358-CC7A-44E9-B4A7-0F2461A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5E0-9C38-40AC-8883-639FB7D9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FFC6-26AD-47D1-987A-87DA276A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0F4-2482-4551-A8BE-E72ABCED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DCB-ACD2-4BB9-85B1-3B95991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E1EC-38EB-4ECB-86FD-71F9AC89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641-AFA1-437F-B792-1F5EF568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217-5DF4-45A9-AE51-B3DF4786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059-06EB-4AC6-BF0C-71B225A9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37D-C937-4FD5-864D-44943FBC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6E2-7425-410B-B117-B116135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6F7-FF5D-4280-8C33-A624770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95F-E82D-451E-ACC0-019C5C5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D74-8C1B-46A3-BA03-F8C6DF8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6058-90F6-4D3B-BBE4-9C5DF72DF21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EF86-3158-4B5D-87C9-78BCDB0F9B3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RECOGNITION OF DEGREES FOR THE LABOR MARKE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jur Bergan, Council of Euro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ologna conference on employabilit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uxembourg, November 6 – 7, 200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 Black"/>
              </a:rPr>
              <a:t>TYPES OF RECOGN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ade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r education institu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a few countries: Ministry, Ministry commission, ENIC/NAR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fessional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e j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ly professional bod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fessional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e fac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ployers (most often by a decision on whether to hir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KEY QUES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 ou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good enoug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 ou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good enoug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“</a:t>
            </a: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THE SYSTEM”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ystem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Qualifications framewor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ree tier degree system; possibilities for intermediate degre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gal ba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uncil of Europe/UNESCO Recognition Conven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U Directives for regulated prof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actical suppo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“</a:t>
            </a: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SYSTEM SUPPORT”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tional information cent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IC and NARIC Networ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tional information points for professional recogn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iploma Sup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QF suppor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ecff"/>
                </a:solidFill>
                <a:latin typeface="Arial Black"/>
              </a:rPr>
              <a:t>PRACTIC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derstanding of the concept of qualific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derstanding qualifications framewo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cus on learning outcomes or on procedure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nsparent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By whom to whom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act public authorities/ institutions/ employ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le of national information cen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ho are the right interlocuto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 Black"/>
              </a:rPr>
              <a:t>WHAT IS A QUALIFICATION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orklo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Pro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7:12:57Z</dcterms:created>
  <dc:creator>bergan</dc:creator>
  <dc:description/>
  <dc:language>en-US</dc:language>
  <cp:lastModifiedBy>bergan</cp:lastModifiedBy>
  <dcterms:modified xsi:type="dcterms:W3CDTF">2008-11-04T07:54:44Z</dcterms:modified>
  <cp:revision>27</cp:revision>
  <dc:subject/>
  <dc:title>RECOGNITION OF DEGREES FOR THE LABOR MARK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6431378</vt:r8>
  </property>
  <property fmtid="{D5CDD505-2E9C-101B-9397-08002B2CF9AE}" pid="3" name="_AuthorEmail">
    <vt:lpwstr>Sjur.BERGAN@coe.int</vt:lpwstr>
  </property>
  <property fmtid="{D5CDD505-2E9C-101B-9397-08002B2CF9AE}" pid="4" name="_AuthorEmailDisplayName">
    <vt:lpwstr>BERGAN Sjur</vt:lpwstr>
  </property>
  <property fmtid="{D5CDD505-2E9C-101B-9397-08002B2CF9AE}" pid="5" name="_EmailSubject">
    <vt:lpwstr>Power Point employability confernece</vt:lpwstr>
  </property>
  <property fmtid="{D5CDD505-2E9C-101B-9397-08002B2CF9AE}" pid="6" name="_NewReviewCycle">
    <vt:lpwstr/>
  </property>
</Properties>
</file>