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907588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767880" y="270000"/>
            <a:ext cx="3040200" cy="4651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0" bIns="0" anchor="t">
            <a:noAutofit/>
          </a:bodyPr>
          <a:p>
            <a:pPr marL="216000" indent="0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207960" y="27000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  <a:defRPr b="0" lang="en-IE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fld id="{0C61988C-BBC7-4892-B2C6-3D0E81F93127}" type="datetime3">
              <a:rPr b="0" lang="en-IE" sz="900" spc="-1" strike="noStrike">
                <a:solidFill>
                  <a:srgbClr val="000000"/>
                </a:solidFill>
                <a:latin typeface="Times New Roman"/>
              </a:rPr>
              <a:t>29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4"/>
          </p:nvPr>
        </p:nvSpPr>
        <p:spPr>
          <a:xfrm>
            <a:off x="704880" y="8639280"/>
            <a:ext cx="2217600" cy="4651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  <a:defRPr b="0" lang="en-IE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5"/>
          </p:nvPr>
        </p:nvSpPr>
        <p:spPr>
          <a:xfrm>
            <a:off x="3968640" y="8647200"/>
            <a:ext cx="2291040" cy="465120"/>
          </a:xfrm>
          <a:prstGeom prst="rect">
            <a:avLst/>
          </a:prstGeom>
          <a:noFill/>
          <a:ln w="0">
            <a:noFill/>
          </a:ln>
        </p:spPr>
        <p:txBody>
          <a:bodyPr lIns="15840" rIns="1584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  <a:defRPr b="0" i="1" lang="en-IE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fld id="{E1D99B69-2683-4042-9D54-A63290C1948E}" type="slidenum">
              <a:rPr b="0" i="1" lang="en-IE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774360" y="4805280"/>
            <a:ext cx="5499000" cy="3470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Img"/>
          </p:nvPr>
        </p:nvSpPr>
        <p:spPr>
          <a:xfrm>
            <a:off x="1049400" y="752400"/>
            <a:ext cx="4911840" cy="340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50040" y="8951760"/>
            <a:ext cx="10717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65873D0-C1F2-4FC9-B4A1-02A6AD0DC033}" type="slidenum">
              <a:rPr b="0" lang="en-I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4600" y="4361040"/>
            <a:ext cx="4845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560" y="4618080"/>
            <a:ext cx="549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06880" y="231840"/>
            <a:ext cx="304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68640" y="8796240"/>
            <a:ext cx="3043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0" bIns="0" anchor="b">
            <a:noAutofit/>
          </a:bodyPr>
          <a:p>
            <a:pPr algn="r"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240" y="879624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3240" y="11160"/>
            <a:ext cx="3041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0960" y="4618080"/>
            <a:ext cx="551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4600" y="4361040"/>
            <a:ext cx="4845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49400" y="752400"/>
            <a:ext cx="4911840" cy="34005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4360" y="4805280"/>
            <a:ext cx="5499000" cy="34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CFD53-4E6C-4DB3-A1B5-A73A021E2A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415D-C040-4D63-82B1-B336E25B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025B-6033-42FB-A389-CFC917F7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D053E-B93C-4656-84A3-10A074A719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AE8B8-1468-4586-9A24-F7D36C37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3A842-0A26-4C43-B82D-90813285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9FECD-EDB0-435A-B498-798A9014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BD8B-3F31-4415-BE52-364D3CDA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274AF-DBDE-4342-B76B-7FF5CE20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C267-122B-4A6F-B263-EEF67105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D404-D067-4CA5-8D62-E461FF92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1956-2DE7-4111-9DF7-915C697E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855" t="0" r="0" b="2915"/>
          <a:stretch/>
        </p:blipFill>
        <p:spPr>
          <a:xfrm>
            <a:off x="0" y="0"/>
            <a:ext cx="158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589640" y="6504120"/>
            <a:ext cx="11937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800" spc="-1" strike="noStrike">
                <a:solidFill>
                  <a:srgbClr val="919191"/>
                </a:solidFill>
                <a:latin typeface="Arial"/>
              </a:rPr>
              <a:t>© Copyright IEE S.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8845560" y="6504120"/>
            <a:ext cx="698400" cy="20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i="1" lang="en-US" sz="800" spc="-1" strike="noStrike">
                <a:solidFill>
                  <a:srgbClr val="919191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919191"/>
                </a:solidFill>
                <a:latin typeface="Times New Roman"/>
              </a:rPr>
              <a:t>07.11.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-3515" t="0" r="0" b="0"/>
          <a:stretch/>
        </p:blipFill>
        <p:spPr>
          <a:xfrm>
            <a:off x="8312040" y="160200"/>
            <a:ext cx="1262160" cy="6526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82560" y="641520"/>
            <a:ext cx="6648480" cy="0"/>
          </a:xfrm>
          <a:prstGeom prst="line">
            <a:avLst/>
          </a:prstGeom>
          <a:ln w="12600">
            <a:solidFill>
              <a:srgbClr val="b10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36000" y="6504120"/>
            <a:ext cx="576360" cy="31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Times New Roman"/>
              </a:rPr>
              <a:t>Page</a:t>
            </a:r>
            <a:r>
              <a:rPr b="1" i="1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BAC2D87-7122-456B-8414-6CB0A133893F}" type="slidenum">
              <a:rPr b="1" i="1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15960" y="339840"/>
            <a:ext cx="5581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1"/>
              </a:rPr>
              <a:t>Masters, PhDs and Public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b10026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b10026"/>
              </a:buClr>
              <a:buFont typeface="Arial"/>
              <a:buChar char="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12760">
              <a:lnSpc>
                <a:spcPct val="80000"/>
              </a:lnSpc>
              <a:spcBef>
                <a:spcPts val="601"/>
              </a:spcBef>
              <a:buClr>
                <a:srgbClr val="919191"/>
              </a:buClr>
              <a:buFont typeface="Arial"/>
              <a:buChar char="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19191"/>
              </a:buClr>
              <a:buFont typeface="Arial"/>
              <a:buChar char="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§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§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400"/>
              </a:spcBef>
              <a:buClr>
                <a:srgbClr val="0000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400"/>
              </a:spcBef>
              <a:buClr>
                <a:srgbClr val="0000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0" t="0" r="4014" b="0"/>
          <a:stretch/>
        </p:blipFill>
        <p:spPr>
          <a:xfrm>
            <a:off x="0" y="0"/>
            <a:ext cx="9906120" cy="686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90600" y="6488280"/>
            <a:ext cx="20199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© Copyright IEE S.A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354880" y="160200"/>
            <a:ext cx="1219320" cy="65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3880" y="641520"/>
            <a:ext cx="7885080" cy="0"/>
          </a:xfrm>
          <a:prstGeom prst="line">
            <a:avLst/>
          </a:prstGeom>
          <a:ln w="12600">
            <a:solidFill>
              <a:srgbClr val="b10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601"/>
              </a:spcBef>
              <a:buClr>
                <a:srgbClr val="919191"/>
              </a:buClr>
              <a:buFont typeface="Arial"/>
              <a:buChar char="§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§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0000"/>
              </a:lnSpc>
              <a:spcBef>
                <a:spcPts val="601"/>
              </a:spcBef>
              <a:buClr>
                <a:srgbClr val="cecece"/>
              </a:buClr>
              <a:buFont typeface="Arial"/>
              <a:buChar char="§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17440" y="736560"/>
            <a:ext cx="782352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logna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xembourg 6-7.11.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77800" y="860400"/>
            <a:ext cx="5085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0026"/>
                </a:solidFill>
                <a:latin typeface="Arial"/>
              </a:rPr>
              <a:t>Company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9600" y="1650960"/>
            <a:ext cx="829620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and Production of Electronic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: Company startup with 5 employees in Luxembo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: 1500 employees world-wide ( EU, US, ASI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10% of turnover spent for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engineers and scientists in R&amp;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m Master, 10% PhDs, FH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 different citizenships, multidisciplinary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s, Software, Physics, Chemistry, Mathematic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Research Collaborations ( not limited to E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D candidates make thesis within I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B856C-DF62-4A83-97FC-10E1061DB843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102BF-17C3-4E57-9A45-A89A2A97F0B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77800" y="895320"/>
            <a:ext cx="5085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0026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9600" y="1650960"/>
            <a:ext cx="792468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: Customers and competitors are multi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changing state of the art, especially in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short development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functionality expected from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of systems is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standards become more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prices are de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 means: Competing with the Best world-wid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F1E3F-9A98-41D2-985C-982E8C691FD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2FE35-F096-45B3-AF05-F93157F35F4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77800" y="995400"/>
            <a:ext cx="779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0026"/>
                </a:solidFill>
                <a:latin typeface="Arial"/>
              </a:rPr>
              <a:t>Major obstacles to doctoral 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68440" y="1819440"/>
            <a:ext cx="829620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nough qualified and motivated candidates for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research topics is much higher than number of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d Engineers and Scientists are missing in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hurdles for non-EU candidates are too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U-wide systematic coordination to find good PhD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make it difficult to catch up with fast changing 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riented, structured thinking is mi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ology to handle complexity is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A4C2E-9FBB-46DE-AE99-44070ED81CFD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F6F73-EC8A-4AFB-BF0F-71763F56158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77800" y="860400"/>
            <a:ext cx="5085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0026"/>
                </a:solidFill>
                <a:latin typeface="Arial"/>
              </a:rPr>
              <a:t>W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68440" y="1616040"/>
            <a:ext cx="829620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s and Electronics or Software Engin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degree or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ed in their specific ‘ Science ‘ ( no high-flyer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d theoretical background and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e for reality and ability to link theory to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manage complexity with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al Model based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design of experiments ( DoE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first ( but not for ever ) then do it right ‘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3E02-7070-4847-934C-06268DF1BD7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6AB2E-64B1-4946-905B-6A1CCDDCAA6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77800" y="860400"/>
            <a:ext cx="5085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0026"/>
                </a:solidFill>
                <a:latin typeface="Arial"/>
              </a:rPr>
              <a:t>Public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57280" y="1200240"/>
            <a:ext cx="829620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 view: Research aims at creating new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view: Research aims at creating innovativ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chmark to find best collaboration partners world-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IPR is important part of the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 on company’s own knowledge dec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limited to local or regional universities, only excellence 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24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Research must be ahead of industry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ies must protect IP for EU economies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tart-up companies expected out of Public Research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BA9E1-03E7-4D59-9FE5-689B022B283B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7EF2E-5016-43D2-A6F3-3C3F783CA2F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7520" y="1011240"/>
            <a:ext cx="50846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b10026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b1002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2200" y="1362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01920" y="1700280"/>
            <a:ext cx="84042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 means competing with the best world-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needs high-level Masters and Ph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economic needs have to be evaluated and commun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must be adapted to future economic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Research must be ahead of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5135400"/>
            <a:ext cx="838224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l economy will suffer severe restrictions due to the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b1002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Research must increase efforts to become more com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12720" y="4535640"/>
            <a:ext cx="5085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0026"/>
                </a:solidFill>
                <a:latin typeface="Arial"/>
              </a:rPr>
              <a:t>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3F7D-33F7-42C5-A7BB-E43DE095783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A0F0F-DD1A-434F-8C4B-3F03904FAF2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1:31:31Z</dcterms:created>
  <dc:creator>Gabriele Tanson, Sara Nobels</dc:creator>
  <dc:description/>
  <cp:keywords/>
  <dc:language>en-US</dc:language>
  <cp:lastModifiedBy>rackeco</cp:lastModifiedBy>
  <cp:lastPrinted>2007-05-21T07:04:13Z</cp:lastPrinted>
  <dcterms:modified xsi:type="dcterms:W3CDTF">2008-11-12T14:08:46Z</dcterms:modified>
  <cp:revision>394</cp:revision>
  <dc:subject/>
  <dc:title>Presentation template and guidelines</dc:title>
</cp:coreProperties>
</file>