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23550" cy="7559675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E27-364D-472B-B603-6C234838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4200" y="377784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C7D-FC51-48E6-96C8-AC1C85A1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184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8E9-7A39-4AB4-B874-98347EBB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260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1064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420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260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1064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A9B-7AC9-4906-BC73-346678F2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23640"/>
            <a:ext cx="951876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660-C18A-4B6C-B74C-9D3DFE32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184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4200" y="377784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184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9260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10640" y="125856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420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9260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10640" y="3777840"/>
            <a:ext cx="30646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2D9-050B-4C89-B7A1-5CFDCD44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4D-D4DD-4AD9-AF7E-E5C8034A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319-726F-44DD-868D-17273E3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23640"/>
            <a:ext cx="951876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6F1-1B40-4BF3-8F18-5B8C3A86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098-8450-4E4D-B313-1002ABE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1840" y="377784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6E4-7FDB-4820-A00B-11895F4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1840" y="1258560"/>
            <a:ext cx="464508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4200" y="3777840"/>
            <a:ext cx="9518760" cy="2300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54F-717C-4AC0-AC44-0D6FE57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2d338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1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9840" indent="-247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247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2000" indent="-2491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2000" indent="-2491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2000" indent="-2491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3280" y="6804000"/>
            <a:ext cx="1081080" cy="23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4560" y="6804000"/>
            <a:ext cx="1895400" cy="238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93280" y="7002360"/>
            <a:ext cx="847800" cy="238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A9BEE24C-C5DE-4E31-8DAE-9B42EF6E5DC7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107040" y="6415200"/>
            <a:ext cx="384804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5080" y="181080"/>
            <a:ext cx="10188360" cy="5938560"/>
          </a:xfrm>
          <a:prstGeom prst="rect">
            <a:avLst/>
          </a:prstGeom>
          <a:solidFill>
            <a:srgbClr val="2d33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7040" y="2349000"/>
            <a:ext cx="9028080" cy="16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07040" y="6415200"/>
            <a:ext cx="384804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914400"/>
            <a:ext cx="90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mployability: The Employers’ Perspective and its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ffical Bologna Seminar 6-7.11.2008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Workshop 1: Awareness-raising among the employers on the value of bachelor qualifications and associated learning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aana Lehto/Tradeka Ltd.,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ku Kopon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4DF-F76B-4ADC-BEBC-446A2B50A2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.10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3925800"/>
            <a:ext cx="6480000" cy="2879640"/>
          </a:xfrm>
          <a:prstGeom prst="rect">
            <a:avLst/>
          </a:prstGeom>
          <a:noFill/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23440" y="3925800"/>
            <a:ext cx="647640" cy="2879640"/>
          </a:xfrm>
          <a:prstGeom prst="rect">
            <a:avLst/>
          </a:prstGeom>
          <a:noFill/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6445080"/>
            <a:ext cx="648000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484360"/>
            <a:ext cx="2879640" cy="936720"/>
          </a:xfrm>
          <a:prstGeom prst="rect">
            <a:avLst/>
          </a:prstGeom>
          <a:noFill/>
          <a:ln w="9360">
            <a:solidFill>
              <a:srgbClr val="bac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91080" y="2484360"/>
            <a:ext cx="2879640" cy="936720"/>
          </a:xfrm>
          <a:prstGeom prst="rect">
            <a:avLst/>
          </a:prstGeom>
          <a:noFill/>
          <a:ln w="9360">
            <a:solidFill>
              <a:srgbClr val="bac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25440"/>
            <a:ext cx="0" cy="172728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052720"/>
            <a:ext cx="287964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70360" y="1476360"/>
            <a:ext cx="0" cy="57636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38360" y="1476360"/>
            <a:ext cx="43200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38360" y="899640"/>
            <a:ext cx="0" cy="57636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11080" y="900000"/>
            <a:ext cx="172692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11440" y="325440"/>
            <a:ext cx="0" cy="57456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25440"/>
            <a:ext cx="72072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1080" y="2052720"/>
            <a:ext cx="287964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91080" y="1044720"/>
            <a:ext cx="0" cy="100800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70720" y="757080"/>
            <a:ext cx="0" cy="129564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91080" y="1044720"/>
            <a:ext cx="144000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30720" y="757080"/>
            <a:ext cx="143964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31080" y="757080"/>
            <a:ext cx="0" cy="28764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1080" y="325440"/>
            <a:ext cx="287964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91080" y="325440"/>
            <a:ext cx="0" cy="57456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70720" y="325440"/>
            <a:ext cx="0" cy="35892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900000"/>
            <a:ext cx="129528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86000" y="684360"/>
            <a:ext cx="158436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86360" y="684000"/>
            <a:ext cx="0" cy="21564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91440" y="1044720"/>
            <a:ext cx="1513080" cy="936360"/>
          </a:xfrm>
          <a:prstGeom prst="ellipse">
            <a:avLst/>
          </a:prstGeom>
          <a:noFill/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91440" y="2197080"/>
            <a:ext cx="1513080" cy="936720"/>
          </a:xfrm>
          <a:prstGeom prst="ellipse">
            <a:avLst/>
          </a:prstGeom>
          <a:noFill/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39080" y="3205080"/>
            <a:ext cx="144720" cy="432000"/>
          </a:xfrm>
          <a:prstGeom prst="upArrow">
            <a:avLst>
              <a:gd name="adj1" fmla="val 50000"/>
              <a:gd name="adj2" fmla="val 74627"/>
            </a:avLst>
          </a:prstGeom>
          <a:noFill/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254720" y="2268360"/>
            <a:ext cx="0" cy="21600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254720" y="1907640"/>
            <a:ext cx="1008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54720" y="2268360"/>
            <a:ext cx="57636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047080" y="1907640"/>
            <a:ext cx="288720" cy="21780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47080" y="2268360"/>
            <a:ext cx="216000" cy="7308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7133760" y="2274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Work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7864560" y="504000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Compulsory scho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0200" y="1116000"/>
            <a:ext cx="132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Spe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voc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qual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0200" y="2268360"/>
            <a:ext cx="132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Fur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voc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qual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50720" y="363708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Work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90720" y="3637080"/>
            <a:ext cx="0" cy="28872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637080"/>
            <a:ext cx="72072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1440" y="3637080"/>
            <a:ext cx="0" cy="28872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48920" y="507672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Basic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51080" y="64450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Pre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2600" y="2557440"/>
            <a:ext cx="210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Matri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ex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Upper seconda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9320" y="2629080"/>
            <a:ext cx="228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Vocational qual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Vocational school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apprenticeship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38360" y="900000"/>
            <a:ext cx="2095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Master’s deg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Barcelor’s deg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Univers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3080" y="325440"/>
            <a:ext cx="56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D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L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31840" y="1116000"/>
            <a:ext cx="198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Bachelor polytech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deg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Polytech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86760" y="325440"/>
            <a:ext cx="23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Polytechnic postgrad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deg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1800" y="3637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70360" y="1405080"/>
            <a:ext cx="360360" cy="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831080" y="541080"/>
            <a:ext cx="0" cy="863640"/>
          </a:xfrm>
          <a:prstGeom prst="line">
            <a:avLst/>
          </a:prstGeom>
          <a:ln w="9360">
            <a:solidFill>
              <a:srgbClr val="d10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15080" y="541440"/>
            <a:ext cx="216000" cy="0"/>
          </a:xfrm>
          <a:prstGeom prst="line">
            <a:avLst/>
          </a:prstGeom>
          <a:ln w="9360">
            <a:solidFill>
              <a:srgbClr val="d100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30360" y="419040"/>
            <a:ext cx="116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(min. 3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230720" y="3708360"/>
            <a:ext cx="0" cy="21744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0360" y="3708360"/>
            <a:ext cx="360072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430360" y="3565080"/>
            <a:ext cx="0" cy="14292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31080" y="3565080"/>
            <a:ext cx="0" cy="14292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54360" y="2413080"/>
            <a:ext cx="0" cy="7128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4360" y="2413080"/>
            <a:ext cx="57636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30720" y="2413080"/>
            <a:ext cx="0" cy="115236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30720" y="3565440"/>
            <a:ext cx="64764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8360" y="3420720"/>
            <a:ext cx="0" cy="14292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51080" y="2268360"/>
            <a:ext cx="0" cy="21600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311800" y="2268360"/>
            <a:ext cx="0" cy="21600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62360" y="2268360"/>
            <a:ext cx="273672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62360" y="2125800"/>
            <a:ext cx="0" cy="14256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99080" y="2125800"/>
            <a:ext cx="0" cy="142560"/>
          </a:xfrm>
          <a:prstGeom prst="line">
            <a:avLst/>
          </a:prstGeom>
          <a:ln w="9360">
            <a:solidFill>
              <a:srgbClr val="2d33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2530080" y="3471480"/>
            <a:ext cx="60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fi-FI" sz="3200" spc="-1" strike="noStrike">
                <a:solidFill>
                  <a:srgbClr val="2d338e"/>
                </a:solidFill>
                <a:latin typeface="Arial"/>
              </a:rPr>
              <a:t>Finnish Edu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2160" y="3924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2160" y="4213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2160" y="4500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160" y="4716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2160" y="5005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2160" y="5221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2160" y="5508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2160" y="5797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2160" y="6084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32520" y="651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32520" y="622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31080" y="3924360"/>
            <a:ext cx="28908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31080" y="3924360"/>
            <a:ext cx="0" cy="288108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31080" y="6805440"/>
            <a:ext cx="289080" cy="0"/>
          </a:xfrm>
          <a:prstGeom prst="line">
            <a:avLst/>
          </a:prstGeom>
          <a:ln w="9360">
            <a:solidFill>
              <a:srgbClr val="2d3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59800" y="4429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59800" y="47163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32520" y="5797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59800" y="49323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59800" y="5508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60880" y="5221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32520" y="6013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59800" y="41403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59800" y="39243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2160" y="1763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2160" y="1547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2160" y="133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2160" y="111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2160" y="90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11800" y="1763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1800" y="1476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11800" y="118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11800" y="90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2160" y="313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2160" y="277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2484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84880" y="3132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84880" y="277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84880" y="2484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2d338e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60880" y="363708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200" spc="-1" strike="noStrike">
                <a:solidFill>
                  <a:srgbClr val="2d338e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ku Kopon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F62-0738-4C77-9059-C13D6AC777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.10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751800" y="1620720"/>
            <a:ext cx="215892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59800" y="1908000"/>
            <a:ext cx="115092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1800" y="2844720"/>
            <a:ext cx="215892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51080" y="1620720"/>
            <a:ext cx="1008000" cy="18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51800" y="1908000"/>
            <a:ext cx="1008000" cy="936720"/>
          </a:xfrm>
          <a:prstGeom prst="rect">
            <a:avLst/>
          </a:prstGeom>
          <a:solidFill>
            <a:srgbClr val="a8c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51080" y="3421080"/>
            <a:ext cx="2160720" cy="1079640"/>
          </a:xfrm>
          <a:prstGeom prst="rect">
            <a:avLst/>
          </a:prstGeom>
          <a:solidFill>
            <a:srgbClr val="a8c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51800" y="4068720"/>
            <a:ext cx="2158920" cy="1871640"/>
          </a:xfrm>
          <a:prstGeom prst="rect">
            <a:avLst/>
          </a:prstGeom>
          <a:solidFill>
            <a:srgbClr val="bac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51080" y="4500720"/>
            <a:ext cx="2160720" cy="1439640"/>
          </a:xfrm>
          <a:prstGeom prst="rect">
            <a:avLst/>
          </a:prstGeom>
          <a:solidFill>
            <a:srgbClr val="bac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2d338e"/>
                </a:solidFill>
                <a:latin typeface="Arial"/>
              </a:rPr>
              <a:t>Finnish degree system of higher education</a:t>
            </a: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1440" y="5940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711440" y="1547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4720" y="5940360"/>
            <a:ext cx="7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8000" y="5364000"/>
            <a:ext cx="730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1620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11800" y="1620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51800" y="1620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10720" y="1620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41600" y="6013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13960" y="60134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ech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hhochsch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" y="169236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red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51080" y="4500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14320" y="4716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51080" y="34210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51800" y="4068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51800" y="284472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59080" y="1620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51800" y="1908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59800" y="1979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6160" y="3708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3600" y="19810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32880" y="1981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57600" y="44290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´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30320" y="3060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53600" y="19810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33600" y="1620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38000" y="54370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638000" y="4500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38000" y="4932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638000" y="3492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638000" y="39974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638000" y="3060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638000" y="26290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59080" y="1620720"/>
            <a:ext cx="11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11440" y="406872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ku Kop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AA3-05AF-41ED-B630-42834903E7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.10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GB" sz="2800" spc="-1" strike="noStrike">
                <a:solidFill>
                  <a:srgbClr val="2d338e"/>
                </a:solidFill>
                <a:latin typeface="Arial"/>
              </a:rPr>
              <a:t>Workplace-orientation the core of polytechnic studies</a:t>
            </a:r>
            <a:endParaRPr b="1" lang="en-US" sz="2800" spc="-1" strike="noStrike">
              <a:solidFill>
                <a:srgbClr val="2d338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4200" y="1258560"/>
            <a:ext cx="9518760" cy="4822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er education is developed as an entity based on a du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legation of responsibilities for universities and polytechnics is clearly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onal networking and co-operation of institutions of higher edu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universities the master level degree is the primary degree used in the working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ytechnic graduates should enter the workplace after receiving a bachelor polytechnic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ku Kopo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90D-350E-45FB-A1A2-923E209BD7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.10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23640"/>
            <a:ext cx="9518760" cy="8586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Predicted educational structure for recruiting </a:t>
            </a:r>
            <a:br>
              <a:rPr sz="1400"/>
            </a:br>
            <a:r>
              <a:rPr b="0" lang="en-US" sz="1400" spc="-1" strike="noStrike">
                <a:solidFill>
                  <a:srgbClr val="2d338e"/>
                </a:solidFill>
                <a:latin typeface="Arial"/>
              </a:rPr>
              <a:t>in EK member companies in 2007, %</a:t>
            </a:r>
            <a:endParaRPr b="1" lang="en-US" sz="1400" spc="-1" strike="noStrike">
              <a:solidFill>
                <a:srgbClr val="2d338e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51080" y="1260360"/>
          <a:ext cx="81342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1260360"/>
                    <a:ext cx="81342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545760" y="6948360"/>
            <a:ext cx="3876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abour force and skill needs survey, EK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ku Kopo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5EF-7B16-46F7-8A6D-44599B3F04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.10.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5:15:53Z</dcterms:created>
  <dc:creator>Markku Koponen</dc:creator>
  <dc:description/>
  <dc:language>en-US</dc:language>
  <cp:lastModifiedBy>Jaana Lehto</cp:lastModifiedBy>
  <cp:lastPrinted>2004-09-02T13:40:17Z</cp:lastPrinted>
  <dcterms:modified xsi:type="dcterms:W3CDTF">2008-11-04T09:48:25Z</dcterms:modified>
  <cp:revision>5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sianumero">
    <vt:lpwstr> </vt:lpwstr>
  </property>
  <property fmtid="{D5CDD505-2E9C-101B-9397-08002B2CF9AE}" pid="3" name="Laatija">
    <vt:lpwstr> </vt:lpwstr>
  </property>
  <property fmtid="{D5CDD505-2E9C-101B-9397-08002B2CF9AE}" pid="4" name="Laatimispvm">
    <vt:lpwstr> </vt:lpwstr>
  </property>
  <property fmtid="{D5CDD505-2E9C-101B-9397-08002B2CF9AE}" pid="5" name="Osasto">
    <vt:lpwstr> </vt:lpwstr>
  </property>
  <property fmtid="{D5CDD505-2E9C-101B-9397-08002B2CF9AE}" pid="6" name="Otsikko">
    <vt:lpwstr> </vt:lpwstr>
  </property>
  <property fmtid="{D5CDD505-2E9C-101B-9397-08002B2CF9AE}" pid="7" name="Tyyppi">
    <vt:lpwstr> </vt:lpwstr>
  </property>
  <property fmtid="{D5CDD505-2E9C-101B-9397-08002B2CF9AE}" pid="8" name="Viite">
    <vt:lpwstr> </vt:lpwstr>
  </property>
</Properties>
</file>