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2A3D6-5618-4217-8A23-FC20A1AA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A8C25-6D5E-407C-9020-843C268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39153-57D1-4E3B-BDD2-CAC928A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919D2-BE04-4615-B890-F16FF8F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20913-BC6B-46FC-8AF0-B9F25CB9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2AF71-B306-4484-81EC-E8A2D50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FB49C-016E-4DE9-860D-CB0008B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987A7-B312-45D0-ABCE-3335EBD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FE623-C036-4951-91ED-1A7933C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2761D-1DAB-4772-9D73-871A2592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29F86-2916-4160-B378-4712DBE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516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944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88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516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944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50907-C57E-4EC9-908D-8CC203C3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2A560-B282-4E3C-BA4E-D6AD4290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928FD-CBCB-44FE-BBAB-58DEA691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18C2C-AB01-4390-970E-2080BD7C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8EC2A-1B48-4E01-8B0C-BC5E6CF9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09292-4A32-4CF7-B7D5-422667F7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0B732-43DC-4BC7-8B60-D24844D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F6FAA-96F3-4E1E-824E-38D88D9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5CF8F-CA38-4A99-8C65-78014F6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71201-04B9-441A-9DDC-BD6A246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A3D80-E6BD-471F-B8CB-D816942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AF6E7-8E5F-493A-BE99-C4BDCCB6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1516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49440" y="12189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8088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1516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49440" y="36468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11CBE-EEB1-4AEF-8EB8-7E8E950A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468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2189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468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251040"/>
            <a:ext cx="5486400" cy="157320"/>
          </a:xfrm>
          <a:prstGeom prst="rect">
            <a:avLst/>
          </a:prstGeom>
          <a:noFill/>
          <a:ln w="0">
            <a:noFill/>
          </a:ln>
        </p:spPr>
        <p:txBody>
          <a:bodyPr lIns="18000" rIns="54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mployability : The Employers’ Perspective and its Implications • Luxembourg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F77F28B-4D1F-40E9-9799-253EAAFE12D8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2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1784160" y="2574720"/>
            <a:ext cx="3508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ept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ED6E-1EED-4B38-B7C2-1FC63AB4B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90F-59DE-4235-851D-1D7CBDA88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1784520" y="2575080"/>
            <a:ext cx="3508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xembourg, 6 et 7 nov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35816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6c58"/>
                </a:solidFill>
                <a:latin typeface="Arial"/>
              </a:rPr>
              <a:t>Docteurs et entreprises :</a:t>
            </a:r>
            <a:r>
              <a:rPr b="0" lang="en-US" sz="4000" spc="-1" strike="noStrike">
                <a:solidFill>
                  <a:srgbClr val="706c58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200" spc="-1" strike="noStrike">
                <a:solidFill>
                  <a:srgbClr val="706c58"/>
                </a:solidFill>
                <a:latin typeface="Arial"/>
              </a:rPr>
              <a:t>un bilan encourageant et des défis à relever</a:t>
            </a:r>
            <a:r>
              <a:rPr b="0" lang="en-US" sz="4000" spc="-1" strike="noStrike">
                <a:solidFill>
                  <a:srgbClr val="706c5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92000" y="3068640"/>
            <a:ext cx="70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abilité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vision des employeurs et leurs im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619280" y="4149720"/>
            <a:ext cx="699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uno CARRI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ésident d’AXONES 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re du bureau en charge de la thématique des docte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ission Recherche, Innovation et Nouvelles Technolog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velopper les dispositifs de mise en relation de l’offre et de la demande de compétences doctorales, de sujets de thèses, de missions et projets en veillant à développer la synergie entre les acteurs reconnus (ANPE, APEC, Association Bernard Gregor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ttre en place des plateformes collaboratives favorisant l’intermédiation et la diffusion des bonnes pratiques dans une double dimension thématique-métiers et territoir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36B8EAD5-7DCA-4DD4-8A74-39C2F31A203D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80880" y="228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es de progrè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3818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ompagner les doctorants dans la construction de leur projet professionnel par l’information, la formation et le consei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D57B995A-1C63-400A-8A4F-6FB7505324CE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726680" cy="4556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380880" y="228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es de progrè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uveaux chant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3818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dalités de mise en œuvre du « contrat doctoral 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orisation et labellisation des formations professionnalisantes complétant le parcours docto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 du doctorat dans une formation tout au long de la vie (possibilité d’accès au parcours doctoral pour des collaborateurs ayant une expérience professionnel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ise en compte de la formation doctorale dans les dispositifs d’Apprentissage (totalité ou partie du parcours) et/ou de Professionnalisation (formations professionnalisantes complémentaires au parcours doctoral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21FA135A-B364-40BD-9F51-20E95C3AA6B9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24000" y="2421000"/>
            <a:ext cx="4897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« Ce n’est pas parce que c’est difficile que nous n’osons p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is c’est parce que nous n’osons pas que c’est difficile. 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énè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220A86F3-45AE-43A0-93FF-F27C40F518F1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578F510F-127A-4658-86F7-8999CFFBDB2F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p ou pas assez de docteurs en Fran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611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umétri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8 000 inscrits en doctorat en 2005 -2006 : 21 % droit et économie, 37 % en lettre et sciences humaines, 42% en sciences  exactes (baisse des effectifs au profit des filières ingénieur qui  croissent de +13,5% depuis 2004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 10 000 diplômés par an au sein de 295 écoles doctorales - population globale d’environ 200 000 docteurs (à titre comparatif environ 37 000 ingénieurs sont diplômés chaque anné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écroissance significative après un pic de 10 881 docteurs en 1997 - depuis 2002-2003 le nombre des diplômés augmente à nouveau régulièrement (8 457 en 2002-2003 =&gt; 9 587 en 2004-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s docteurs représentent en 2004, 1,3% d’une classe d’âge à comparer à 2,8% en Allemagne, 1,8% au Royaume-Uni et à environ 1,5% pour l’Europe des 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510240" y="1700280"/>
            <a:ext cx="2633760" cy="3024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11280" y="5084640"/>
            <a:ext cx="8532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fs 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eux répondre aux besoins et tendre vers 15 000 docteurs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ins 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tractivité des opportunités professionnelles niveau Master / la poursuite d’un Doctorat et la faible appétence pour les sciences et la technolo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A57E0DF3-2E4B-4B89-8187-00E55A758688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ur quelles activités professionnelle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3959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utes disciplines confondues, un tiers des nouveaux docteurs rejoignent le secteur privé chaque année (ils sont 38% trois ans après dont la moitié comme chercheu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% des 10 000 diplômés sont issus des filières scientifiques pour lesquelles la demande des entreprises est structurellement supérieure à l’off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 pourcentage de ceux qui détiennent un emploi de chercheur ou cadre dans le privé varie de 68% dans l’Informatique à 25% en Lettres Sciences Huma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s difficultés se concentrent sur les disciplines sciences humaines et sociales (SHS) : débouchés, durée de réalisation, âge d’obtention et taux d’échec pendant le parcours doct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31720" indent="-2444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 20% effectue une mobilité à l’inter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0720" y="1392120"/>
            <a:ext cx="4824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• Luxembourg •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4BBB373E-D44D-40AB-B2EC-88FFF31A86AD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5122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spcBef>
                <a:spcPts val="22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Le doctorat est le fleuron des universités les plus prestigieuses et les mieux classées dans le palmarès de Shanghai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2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our que cette formation en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devienne pleinement un standard France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, il faut que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son contenu et ses atouts soient plus visibles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, ce qui implique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une meilleure coopération entre les doctorants et les écoles doctorales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 d’une part,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et le monde de l’entreprise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 d’autre part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2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Le doctorat mérite de sortir de l’anonymat social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2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Je constate en effet que de nombreux entrepreneurs et managers ont bénéficié d’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une formation doctorale d’excellence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 sans avoir le réflexe ou la fierté de s’en réclamer. Ils ont tort, car leurs parcours exemplaires doivent beaucoup à cette </a:t>
            </a:r>
            <a:r>
              <a:rPr b="1" i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première expérience professionnelle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 que représente la thèse. 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2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Laurence Parisot, Présidente du MEDE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0">
              <a:spcBef>
                <a:spcPts val="451"/>
              </a:spcBef>
              <a:buNone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5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228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rtir en France le Doctorat de l’anonymat social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• Luxembourg •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51B0C063-D46F-4573-9525-86FB1317A325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67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’apporte la formation pour et par la recherch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56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706B7EC6-7A8F-425A-9051-1BFC840D1CA0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pri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uvent-elles se priver des docteur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424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-24192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uveaux besoins et nouveaux défis : vieillissement, économie d’énergies, protection de l’environnement, santé, autosuffisante alimentaire, éducation, sécurité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-24192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étitivité de nos entreprises dans la compétition mondiale pour garantir qualité de vie et emplo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-24192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ptures technologiques et transformations des besoins et us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-24192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de complexe, incertain, évolutif, multidisciplinaire, métissé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-24192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tation rapide vers une économie de la connaiss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-24192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novation et réallocation des res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rise actuelle renvoi à l’économie réelle et constitue le signe de notre véritable entrée dans le XXIème siècle qui reste à inventer et à constru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2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 entreprises et les compétences doctorales sont au cœur de cette m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4967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• Luxembourg •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A052AC3A-BD88-412D-9DCE-638D4FB0DCEE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 bonnes raisons d’embaucher un docteur pour l’entre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5122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 onze capacités et compétences apportées par une formation par la recherch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îtriser la complexité et l’incertitu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éfricher, éclairer l’avenir et ouvrir des voies pour imaginer le futu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dentifier des problèmes nouveaux permettant d’être à la «frontière des connaissances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er en permanence l’investissement, le réalisme des objectifs à atteindre et les risques associ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îtriser les méthodes de la recher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enter des méthodes nouvelles pour résoudre plus efficacement des problèmes ancie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ailler en équipe interactive avec un esprit d’émulation coopér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biliser des réseaux (notamment internationaux et multidisciplinair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stifier d’une connaissance de l’entreprise et de capacités entrepreneuriales rivalisant avec les meilleures écoles de réfé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voir piloter un projet complexe dans la duré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duire des synthèses et rédiger des argumentaires de qualit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s six attitudes et savoir-faire au service de l’innovation et de la performan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pter le champ mondial comme périmètre d’investigation et de compét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voir se confronter à l’évaluation et à la critique des meilleurs dans sa discip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truire, maintenir et animer des réseaux de compétences généralement multidisciplina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évelopper une capacité d’écoute et de dia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re pugnace et être tenace dans la durée pour atteindre ses objectifs tout en sachant se remettre en cause totalement et à tout mo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43080" indent="-252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re curieux et mobile dans ses axes d’analyse tout en mettant en œuvre une démarche rigoureuse et méthodi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 démarche et une méthode partagées par tous les acteurs pour développer l’emploi des docteurs en entre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6205680" cy="3601800"/>
          </a:xfrm>
          <a:prstGeom prst="rect">
            <a:avLst/>
          </a:prstGeom>
          <a:ln w="0">
            <a:noFill/>
          </a:ln>
        </p:spPr>
      </p:pic>
      <p:sp>
        <p:nvSpPr>
          <p:cNvPr id="187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3ACD0724-3E0A-472E-B85E-D015D6530D38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xes de progrè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381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oriser la formation doctorale et modifier les représentations réciproqu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« Marketer l’offre» en liaison étroite avec les écoles doctorales (exemple : projet Tip-Top associant MEDEF, Ecoles doctorales, Association Bernard Gregory, associations de docteurs et doctorants) : cursus, compétences, bénéfices pour les entreprises, interlocuteur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usciter des rencontres et des coopérations : nombreux forums et colloques associant les représentants du monde académique et des entreprises (national et dans les territoi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3716280"/>
            <a:ext cx="838188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velopper, faire connaître et mobiliser tous les dispositifs existants au bénéfice de l’emploi des docte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professionnalisation et l’insertion professionnelle dans le cadre de la nouvelle autonomie des universit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convention CIFRE, les missions doctorant-conseil, le futur contrat doctoral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incitations financières et fiscales : Crédit Impôt Recherche, Fondations universitaire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Espace réservé du pied de page 3"/>
          <p:cNvSpPr/>
          <p:nvPr/>
        </p:nvSpPr>
        <p:spPr>
          <a:xfrm>
            <a:off x="380880" y="6251400"/>
            <a:ext cx="54864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Employabilty : The Employers’ Perspective and its Implications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Luxembourg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6-7 novembre 2008 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FB2EBEA8-EFE3-49B3-AFFA-59E16F1CE203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5:44:36Z</dcterms:created>
  <dc:creator>Annette Bernardi - Horizon Micro</dc:creator>
  <dc:description/>
  <dc:language>en-US</dc:language>
  <cp:lastModifiedBy>Bruno Carrias</cp:lastModifiedBy>
  <dcterms:modified xsi:type="dcterms:W3CDTF">2008-11-05T14:39:41Z</dcterms:modified>
  <cp:revision>78</cp:revision>
  <dc:subject/>
  <dc:title>Présentation PowerPoint</dc:title>
</cp:coreProperties>
</file>