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461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3284a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23680" y="744120"/>
            <a:ext cx="5149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A42D-5EC3-47FC-A74E-E4048A6F28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meaning atta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man who is not yet married, hence single, or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refer to a first cycle degree, of course, but there is another meaning. According to tis original version it refers t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ng knight following the banner of another because he is too young to display his own banner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t the heart of my discussion – is a bachelor ready, on his or her own, to display their own banner, or credentials in the work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 Flexible – refers to the title of the research project I want to talk about, on the assumptions that bachelors are indeed, flex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09C4-728E-4D40-AEC2-CEDEFB9276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3284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ess that this is RELFEX data only – not yet compared with other statis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towards higher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rataries now have degre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gree classifcatiion matters a great dea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engineering – someone with a 2.2 degree considered a failure by some emplo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university?? Matters a great de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6E69-DA40-4853-B3CF-18E100F38E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3284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K employers look for potential and are prepared to train – Masters only for Certain jobs, MBA important, or for obtaining Chartered status , professional accreditation outside 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ROSS EUROPE ‘ BACHELOR SHOULD BE RELEVANT TO THE LABOUR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an academic, status attached to a degree less so in U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rway completed – no problems, most go straight through to masters – so changes not so mark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long, UK government gives the general direction (Lifelong learning networks) but encourages private/ public partner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C4C1-9B3D-48BE-BAE2-012C9DE9FC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3284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could add the term academic? Even a phd is not so relevant in UK non graduates ON THE WAY TO THE ANGLO-SAXON MODEL BUT NOT YET THERE- INDEED IT MAY NOT BE DESIRABLE AFTER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-cultural status of a degree or profession in society matters hugely on CE – more so than in U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ople use titles less often, even PhD – the role of teaching and learning rooted in different cultural trad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reditation, accountability also very diverse syst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eer guidance as a separate function in universities increasingl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rning outcomes to be clarified, national qualifications framework across Europ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hind such word plays are a number of assumptions about cultural values, traditions, beliefs, differences or convergences. The centre about differences between the Anglo-Saxon higher education systems, or question if we can witness some sort of convergence between Continental Europe and the Anglos Saxon world of higher education and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loyability , OR GERMAN WORD BILDUNG DIFFICULT TO TRANSL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er education in theUK has emerged out of a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beral, collegiate, system where ‘what you know ‘ matters less than ‘who you know- in other words, one where vocational skills or preparation for work did not play a major part, an elitist syste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which to a certain extent is still the case tod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er education, traditionally, did not see its role as preparation for work - the upper classes did not work, of cou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example, Employability many different meanings: in the Anglo- Saxon sense it is usually used in the sense that graduates should be flexible workers who can operate in many different settings – rather than in the sense of preparation for work or even a profession – not occupation led concept [ there a a further sense in relation to obtaining work, any work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ability has recently received more government attention given that the Anglo Saxon sense of higher education relate to character forming, liberal and collegiate educ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er education, many will argue, is still abou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ization and selec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rather than preparation to work  = although recently  changes have taken place. The emphasis however, is ofen not about preparation for work, much more abou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er education In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is important therefore, that we understood deep root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which are also at the heart of Bolog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-led  in the continental system was highlighted for me when I gave a paper at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tional Congress for Psychologi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similar theme – when a young women asked me what title someone would use in the UK who had studies psychology. In the UL you would say I read psychology at university, in German you would be a Diplom-Psychologe,  - while in the UK someone who had read psy. And wanted to obtain professional recognition would have to try to become accredite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tish Psychological Soc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y need to have had first degree, postgraduate qualification, combined with supervised practical experience and completed an accredited training course, in a specialized area, join the British Psychological Society before they can obtain chartered status. – all of this outside higher education – and it is very expensive.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electivity of elite forms means that employers value the ‘selection test’ of HE – identifying ‘best’ people rather than teaching them anything use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Labour market less regulated by credentials ( thus looser relationship between HE content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Much less work placements or internships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-Professional training and certification OUTSID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- More recently, emphasis on providing students with generic transferable skills relevant to em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0477-AB33-449D-95F9-30CC81F69E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3284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utomatic right for entry, s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push towards foundation degrees, two year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place or work-based, possibility for completion towards a bachel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policies for the 16-19 year ol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s development, skills updating, lagging behind other coun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ed skills deficit ,particularly in vocational education and train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% increase in funding for Business-HE collabo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k sample 16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% return, huge problems of ac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3% bache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taught masters ISCE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pics covered in the resear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 programme completed 1999-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ted educational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loyment hi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etences required in the work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 of study programme in relation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C3A9-B7C3-4C38-A525-57067E1C24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3284a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K students both younger and older, government policies towards 16- 19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lls development, perceived skills defici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ure students, access, widening participation, also higher degrees (1/3) taken after work exper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data refers to CE – not bachelors – so it is a comparison with UK bachelors and all degrees in CE –Diplom, Mas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C10A-DC96-46E6-840D-D7700EEF4A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3284a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job?? Translation difficulties, problems with understandings of profession, jobb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‘academic’, it matters where you have studied than what you have studi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rge companies have graduate training schemes before specialis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rs look for personalities, potential, experience, generally prefer elite university (Russell gro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 and  Italy score the lowest– AUSTRIA, Germany Czech REP. FINLAND THE HIGHE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DIFFERENCE ARE LESS NOTICABLE WOTH REGARD TO CURRENT JOB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ARITHIMIC MEANS SCORES FAIRLY EVENLY ACROSS ALL EUROPEAN COUNTRIES  WHEN ASKED TO WHAT EXTENT DOES CURRENT JOB DEMAND KNOWLEDGE AND SKILLS YOU CAN OFF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END OF THE SCALE (IE – USED KNOWLEDGE A LOT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K/EUROPE DIFFERENCES HAVE LARGELY DISAPPEARED BY THE TIME OF CURRENT JOB (AND THEY HAVE NARROWED A LOT 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IS UK A ‘DIFFERENT ROUTE TO THE SAME PLACE’ OR A ‘DIFFERENT ROUTE TO A DIFFERENT PLA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GAIN NORWAY AND SWIzTERLAND SCORED  HIGHEST WITH 80% FOR STARTING WORK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ALY THE SAME AS UK , HOWEV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ASKED ABOUT FUTURE CAREER,UK GRADUATES SEEMED HAPP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MEANS THAT OVER 5 YEARS – UK GRADUATES LEVEL OUT COMAPRED TO THEIR CONTINENTAL COUNTERPAR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NOT IN THE EARLY YEARS AFTER GRAD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24040" y="744480"/>
            <a:ext cx="51498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GRADS ARE MORE LIKELY TO SAY THAT THEY ARE NOT USING KNOWLEDGE AND SKILLS ACQUIRED IN HE – WHICH MAKES THEM ‘OVERQUALIFIED’ WHEN THEIR SHORTER AND LOWER LEVEL COURSES MAKE THEM ‘UNDERQUALIFIE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BE19-6BB0-42FD-A56F-E52EAB3E18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3284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1B71-9FDB-47AC-8CD8-81B2AF87C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94107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614120"/>
            <a:ext cx="94107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5C80-C19B-4DF8-95BF-A979F56F2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71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B351-530D-42E3-A9A2-F2C3BECCA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6960" y="273384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9000" y="273384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61412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6960" y="461412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9000" y="461412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012D-C7CE-402A-A82F-E939CAB87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4CAD7-A0B3-4DA2-BFBC-131F4D6EE3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2733840"/>
            <a:ext cx="941076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AFBA2-710B-47A4-BA71-919DC91181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94107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40619-1EAD-4AA7-A026-58673B02D8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50DAD-6380-4088-8628-BE4AB21FE9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0E59A-552A-48C9-8020-A66D2B206F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1763640"/>
            <a:ext cx="9410760" cy="37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6A307-3C74-4B03-8631-6400B9C100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F1546-C69B-4F87-8A05-A26F0A0A3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733840"/>
            <a:ext cx="941076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29EB-1F6A-4446-BE58-C2DC9EF2D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171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0BE51-76F0-4238-81B1-73C6AEB149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614120"/>
            <a:ext cx="94107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DAEC6-D84B-48B8-B2A5-8F5B0CE185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94107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614120"/>
            <a:ext cx="94107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F00BB-96D3-42C3-891C-975558B024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171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9E080-4651-46DC-9E4F-6EEDABCB2A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6960" y="273384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59000" y="273384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61412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6960" y="461412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59000" y="461412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0691C-A140-462E-B0C9-C1CA66654C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C412-733E-48A6-9126-F16835C11B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2733840"/>
            <a:ext cx="941076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4793-DE8B-45E5-9D97-8471CE2AD2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94107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4434-2667-48E3-BBA5-2BFCCAEA4C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08D0-3867-42D2-ACF8-AB2BA0BA0D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246E-1E05-4AE4-8556-C6448E7A91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94107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2971-C4CC-4532-BA70-817D8BB986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4920" y="1763640"/>
            <a:ext cx="9410760" cy="37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21DE-30D9-49DB-9E20-A962262AE6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CC03-3765-4B48-BD77-3ED361A54E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171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6529-DBD9-4CA1-8A2A-08D84B27A3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4614120"/>
            <a:ext cx="94107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64E5-CBB4-44E9-954C-C3B9B019D7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94107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4614120"/>
            <a:ext cx="94107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9DF2-955A-45FA-9617-3D83421C7E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171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F415-FB97-4469-BF95-874B534B3A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6960" y="273384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59000" y="273384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461412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6960" y="461412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59000" y="4614120"/>
            <a:ext cx="303012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9560-1825-4EF1-A1E7-79E01B261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92328-E611-4A75-9546-30F1A0909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22A7-8E47-4ED5-8894-DE5F6504B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1763640"/>
            <a:ext cx="9410760" cy="37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957C-43D2-4F91-9F80-E26CE4F7A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A0D8-6B74-403C-B02D-1E010794D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7120" y="461412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A12D-B413-4685-B362-C1168A2D5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7120" y="2733840"/>
            <a:ext cx="45921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614120"/>
            <a:ext cx="9410760" cy="1716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3486-7C6C-47A2-9124-D3AD78C2D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733840"/>
            <a:ext cx="94107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19656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8740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8740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8740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73000" y="6885000"/>
            <a:ext cx="3313080" cy="5256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284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94120" y="6885000"/>
            <a:ext cx="2443320" cy="5256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BF18-4576-46B9-87EC-C34B6DF2092A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OUPowerPoint18mmShield"/>
          <p:cNvPicPr/>
          <p:nvPr/>
        </p:nvPicPr>
        <p:blipFill>
          <a:blip r:embed="rId2"/>
          <a:stretch/>
        </p:blipFill>
        <p:spPr>
          <a:xfrm>
            <a:off x="9428040" y="395280"/>
            <a:ext cx="74484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719080"/>
            <a:ext cx="9410760" cy="8413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4068360"/>
            <a:ext cx="9410760" cy="25941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 fontScale="99000"/>
          </a:bodyPr>
          <a:p>
            <a:pPr marL="295200" indent="0">
              <a:spcBef>
                <a:spcPts val="499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5200" indent="-295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95200" indent="-295200">
              <a:spcBef>
                <a:spcPts val="499"/>
              </a:spcBef>
              <a:buClr>
                <a:srgbClr val="9faa00"/>
              </a:buClr>
              <a:buFont typeface="Arial"/>
              <a:buChar char="•"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95200" indent="-295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95200" indent="-295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95200" indent="-295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95200" indent="-2952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573000" y="6885000"/>
            <a:ext cx="3313080" cy="5256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284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7494120" y="6885000"/>
            <a:ext cx="2443320" cy="5256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214F-A99A-436C-B84A-D07AD0D75D7D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OUPowerPoint18mmShield"/>
          <p:cNvPicPr/>
          <p:nvPr/>
        </p:nvPicPr>
        <p:blipFill>
          <a:blip r:embed="rId2"/>
          <a:stretch/>
        </p:blipFill>
        <p:spPr>
          <a:xfrm>
            <a:off x="9428040" y="395280"/>
            <a:ext cx="74484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OUPowerPoint38mmMain"/>
          <p:cNvPicPr/>
          <p:nvPr/>
        </p:nvPicPr>
        <p:blipFill>
          <a:blip r:embed="rId2"/>
          <a:stretch/>
        </p:blipFill>
        <p:spPr>
          <a:xfrm>
            <a:off x="7269120" y="395280"/>
            <a:ext cx="2946600" cy="3770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76364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94920" y="2733840"/>
            <a:ext cx="9410760" cy="35992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-19656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8740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8740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87400" indent="-198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573000" y="6885000"/>
            <a:ext cx="3313080" cy="5256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284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7494120" y="6885000"/>
            <a:ext cx="2443320" cy="5256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1D8A-640B-4FAF-949E-BC1B42A26921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h.arthur@open.ac.uk" TargetMode="External"/><Relationship Id="rId2" Type="http://schemas.openxmlformats.org/officeDocument/2006/relationships/hyperlink" Target="mailto:J.Brennan@open.ac.uk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3619080"/>
            <a:ext cx="8651880" cy="12985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‘bachelor’ – the flexible professional? </a:t>
            </a:r>
            <a:endParaRPr b="0" lang="en-US" sz="40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4428720"/>
            <a:ext cx="8362800" cy="23277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Lore Arthur,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.h.arthur@open.ac.uk</a:t>
            </a:r>
            <a:r>
              <a:rPr b="0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John Brennan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.Brennan@open.ac.uk</a:t>
            </a:r>
            <a:r>
              <a:rPr b="0" lang="en-US" sz="2000" spc="-1" strike="noStrike" u="sng">
                <a:solidFill>
                  <a:srgbClr val="808080"/>
                </a:solidFill>
                <a:uFillTx/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he Open University, London, Milton Keyes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CHERI Logo new1"/>
          <p:cNvPicPr/>
          <p:nvPr/>
        </p:nvPicPr>
        <p:blipFill>
          <a:blip r:embed="rId3"/>
          <a:stretch/>
        </p:blipFill>
        <p:spPr>
          <a:xfrm>
            <a:off x="477720" y="468360"/>
            <a:ext cx="2705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809280"/>
            <a:ext cx="9410760" cy="8110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Winners or losers? 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2052720"/>
            <a:ext cx="9410760" cy="53946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five years of graduation UK gradu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enced  similar periods of unemplo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n more or less the same as their continental counter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em reasonably satisfied with their current work situation (65% -63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uld choose the same study programme at the same institution (65% - 63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12145282-B20D-47F5-AC8A-F8C93FBEE496}" type="slidenum">
              <a:rPr b="0" lang="en-GB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844200"/>
            <a:ext cx="9410760" cy="8110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Employers’ Views (CE) 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2052720"/>
            <a:ext cx="9410760" cy="60879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logna good in principle,  previously  ‘qualification jung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sure what ‘bachelor ‘ means, particularly S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finished degree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sure what to pay ‘bachelo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ried about additional burden of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clear about ‘bachelor-masters’ relatio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istance strongest in countries with binary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A3C5DB54-FD2D-45F5-B318-D2FF5BFA7329}" type="slidenum">
              <a:rPr b="0" lang="en-GB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3956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Higher education views  (CE)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620360"/>
            <a:ext cx="9410760" cy="63367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stages of implem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rn about the professional credential attached to a deg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elong learning considered important – again  mixed views, internal structural difficul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eptical about employability agenda. It was difficult to ‘teach employment’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es one teach competences? In or outside the curriculu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loyers do not always know what they wan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should not throw out ‘baby with the bathwater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B97C8864-5D83-4898-AFE5-D7DB24010BCD}" type="slidenum">
              <a:rPr b="0" lang="en-GB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88092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Divergence or convergence? 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2196720"/>
            <a:ext cx="9410760" cy="45414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er degrees generally welco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 rooted cultural traditions about  the value of HE remain (status, professional credentia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b specific training outside H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bs in all countries ‘upgraded’ or ‘downgraded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forming capacities of jobs/ prof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ic competences needed in all areas of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chelor strong enough to ‘carry its own banner’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BD097A7E-B291-4F23-84C3-AEFF347EEEF0}" type="slidenum">
              <a:rPr b="0" lang="en-GB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1398600"/>
            <a:ext cx="9410760" cy="15429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UK – and continental Europe: </a:t>
            </a:r>
            <a:br>
              <a:rPr sz="4800"/>
            </a:b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what’s different?  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733480"/>
            <a:ext cx="9410760" cy="54835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higher education systems and their tradi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relationships between higher education and the labour marke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ways in which higher education prepares student for employ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F5CE3953-B0FE-4B9A-81C0-604CC852DF6A}" type="slidenum"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3000" y="174600"/>
            <a:ext cx="9410760" cy="15429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Cultural traditions of higher education 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9040" y="2124000"/>
            <a:ext cx="9410760" cy="53096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inental Europea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ccup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-specific qualif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ed boundaries between VET and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glo-Saxon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developed system of 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rden of job-specific training outside HE (usually the employ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urice, Sellier, Silvestr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67BE997F-2082-435A-BB0B-CDC4C9D8742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82520"/>
            <a:ext cx="9410760" cy="15429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Higher education landscape in England 2008 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4280" y="2052720"/>
            <a:ext cx="9410760" cy="54835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aut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tary system of HE since 199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ition fees since 1997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graduate with bachelor, about third have postgraduate degrees (often after work experie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ep hierarchy of instit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ing stat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loyability, high on the policy agend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undation degrees, work-place learning, widening partic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BCE7F6F4-8AB7-4FFA-B3A6-2DA9B84E99A4}" type="slidenum"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82080"/>
            <a:ext cx="9410760" cy="2274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REFLEX – The Flexible Professional in the Knowledge Society 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4280" y="2412720"/>
            <a:ext cx="9410760" cy="48790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DUATE Views on HE and experiences of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RVEYS  in 12 EU countries (now 15+Japa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5 000 graduates, 5 years after first degree (2000 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KEHOLDER INTERVIEWS  in five EU countries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ed mainly by the EU, co-ordinated by University of Maastricht (Research Centre for Education and Labour Market Rese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16321087-AAC4-408D-8ABD-A0F83F8DCA6B}" type="slidenum"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880920"/>
            <a:ext cx="9410760" cy="8114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REFLEX data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908000"/>
            <a:ext cx="9410760" cy="54835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sign, UK sample primarily of those who left higher education after first cycle (bachelor (93%) compared to 39% in the rest of Europ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K students are both younger and older on gradu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-24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K 72%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4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0+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K 21%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16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-2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K  7%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44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82D1FB9F-3329-4578-A11F-4F0BC3FB99EE}" type="slidenum"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041480"/>
            <a:ext cx="9410760" cy="154296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Graduates’ views on study programme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771640"/>
            <a:ext cx="9410760" cy="60739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what extent were knowledge and skills utilised a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jo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K (%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0">
              <a:spcBef>
                <a:spcPts val="601"/>
              </a:spcBef>
              <a:buNone/>
              <a:tabLst>
                <a:tab algn="l" pos="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ly used knowled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jo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K (%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0">
              <a:spcBef>
                <a:spcPts val="601"/>
              </a:spcBef>
              <a:buNone/>
              <a:tabLst>
                <a:tab algn="l" pos="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ly used knowled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0">
              <a:spcBef>
                <a:spcPts val="601"/>
              </a:spcBef>
              <a:buNone/>
              <a:tabLst>
                <a:tab algn="l" pos="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0">
              <a:spcBef>
                <a:spcPts val="601"/>
              </a:spcBef>
              <a:buNone/>
              <a:tabLst>
                <a:tab algn="l" pos="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0">
              <a:spcBef>
                <a:spcPts val="601"/>
              </a:spcBef>
              <a:buNone/>
              <a:tabLst>
                <a:tab algn="l" pos="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C78486A9-C6F7-4869-B216-42FFFBA10F7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3600" indent="0">
              <a:spcBef>
                <a:spcPts val="601"/>
              </a:spcBef>
              <a:buNone/>
              <a:tabLst>
                <a:tab algn="l" pos="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1033200"/>
            <a:ext cx="9410760" cy="227484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Graduates’ views – study programme was a good basis for  …..</a:t>
            </a: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4280" y="3347640"/>
            <a:ext cx="9410760" cy="454140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K (%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ing wor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rther learning on jo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ing current wor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entrepreneurial skil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l develop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9D576EE6-7FDE-4F90-82E7-EB8E79FE3AA8}" type="slidenum">
              <a:rPr b="0" lang="en-GB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1063440"/>
            <a:ext cx="9410760" cy="81108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ctr">
            <a:noAutofit/>
          </a:bodyPr>
          <a:p>
            <a:pPr indent="0"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4800" spc="-1" strike="noStrike">
                <a:solidFill>
                  <a:srgbClr val="9faa00"/>
                </a:solidFill>
                <a:latin typeface="Arial"/>
              </a:rPr>
              <a:t>Winners or losers? </a:t>
            </a:r>
            <a:endParaRPr b="0" lang="en-US" sz="4800" spc="-1" strike="noStrike">
              <a:solidFill>
                <a:srgbClr val="9faa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836720"/>
            <a:ext cx="9410760" cy="5910120"/>
          </a:xfrm>
          <a:prstGeom prst="rect">
            <a:avLst/>
          </a:prstGeom>
          <a:noFill/>
          <a:ln w="0">
            <a:noFill/>
          </a:ln>
        </p:spPr>
        <p:txBody>
          <a:bodyPr lIns="79560" rIns="79560" tIns="39600" bIns="39600" anchor="t">
            <a:normAutofit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K graduates have had less higher education (39 months against 6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 lower academic level (bachelo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less likely to have taken vocational courses  (27% against 38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less likely to have been on work placements (29% against  57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‘underqualified’ as well as ‘overqualified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faa00"/>
              </a:buClr>
              <a:buFont typeface="Arial"/>
              <a:buChar char="•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fld id="{7F435ED1-5EEC-4DF1-B372-8FBB912E2F3C}" type="slidenum">
              <a:rPr b="0" lang="en-GB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8:07:07Z</dcterms:created>
  <dc:creator>Deana Parker</dc:creator>
  <dc:description/>
  <dc:language>en-US</dc:language>
  <cp:lastModifiedBy>C.I.E.</cp:lastModifiedBy>
  <dcterms:modified xsi:type="dcterms:W3CDTF">2008-11-04T14:07:17Z</dcterms:modified>
  <cp:revision>58</cp:revision>
  <dc:subject/>
  <dc:title>What is the value of higher education</dc:title>
</cp:coreProperties>
</file>