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2DE-DEA5-40FA-BDCD-67313BC9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112-73E5-4B89-95BA-7F49E54F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2AF-163A-4863-A050-8D156311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E5F-B529-4565-9E7E-E9E8142E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803-51B6-4388-B23F-412315DE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AB3-EFE2-4226-9E26-B6BDB797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871-A5E8-4A0B-BE43-2DF14DFA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D01-63AF-41EE-91F4-5D242C05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A89-CC22-4C23-AF79-1CD20B8D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A96-2B94-4F30-A421-DE35ED17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420-C412-4056-B1DF-05884599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D66-1104-4EF8-B47B-D8ACA47A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422D-1129-430E-B62B-F91109490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ployability Confer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-7 November 20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fessor Michael Thor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ce Chancel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glia Ruskin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ia Ruskin University takes this for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have been awarded £10 million from the UK govern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will work with a commercial marketing comp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will concentrate on degrees in Leadership and Manageme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BSc and MSc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e-to-f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nt-based distance lear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ine distance learn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ognising what people already kn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boring to have to study again what you already kn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do not have to study things you already know you will get your degree more quickl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kers must prove what they already kn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showing us certificates from government exams or other univers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 we can insist they take a special test or ex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do not need to study the parts of the degree programme which they can prove to us they already know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lia Ruskin University was 150 Years Old on October 2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200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glia Ruskin University was founded from a School of Art for working men which was established in Cambridge by John Ruskin – a famous British champion of the working classes. We have copies of the speech he gave when he did s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ployer eng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UK government id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er Engagement’ means degree-level study delivered completely in  the work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otal there is £100 million funding from the government to encourage universities to do more of this (for staff and equip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funding for 10,000 student places – which is worth £60 million pounds annu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the UK government wants to achie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K workforce is not sufficiently well educated for an economy based on high-cost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UK up the OECD table which measures skills levels in the work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K’s birth-rate is fa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80% of the UK workforce of 2020 are already there now so must focus on those already in wor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the UK government intend to achieve i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are cost between those studying, employers and the st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im eventually for employers and the state to pay the same am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ose studying to pay something als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first employers allowed to make no payment but that must change over three yea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aring cos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 degree costs £7000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tudent might pay £1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mployer might pay £3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the government might pay £30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Anglia Ruskin University’s experience in this are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savers, Boots, VisionExp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clays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wf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reditation of Prior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 marketing partnershi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f the issue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overnment wants this but do employer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the worker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it takes off government funding will be forced into a pay per-credit mode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and is likely to be for hybrid courses involving distance learning, workplace learning and even classroom ac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urrent Quality Assurance processes at national and institutional level are not fit for this purpo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ll this help employers retain staff or promote employee mobil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urrent list of undergraduate and postgraduate programmes and qualifications fit for purpos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uld this be employer-led or university-led? Boots BSc versus Nottingham BSc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we have the right academic staff to design and deliver these program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we have the right infrastructure?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7:34:11Z</dcterms:created>
  <dc:creator>HUC</dc:creator>
  <dc:description/>
  <dc:language>en-US</dc:language>
  <cp:lastModifiedBy>dc1</cp:lastModifiedBy>
  <dcterms:modified xsi:type="dcterms:W3CDTF">2008-11-03T13:08:19Z</dcterms:modified>
  <cp:revision>9</cp:revision>
  <dc:subject/>
  <dc:title>Employer Eng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04644805</vt:r8>
  </property>
  <property fmtid="{D5CDD505-2E9C-101B-9397-08002B2CF9AE}" pid="3" name="_AuthorEmail">
    <vt:lpwstr>Diane.Clarke@anglia.ac.uk</vt:lpwstr>
  </property>
  <property fmtid="{D5CDD505-2E9C-101B-9397-08002B2CF9AE}" pid="4" name="_AuthorEmailDisplayName">
    <vt:lpwstr>Clarke, Diane</vt:lpwstr>
  </property>
  <property fmtid="{D5CDD505-2E9C-101B-9397-08002B2CF9AE}" pid="5" name="_EmailSubject">
    <vt:lpwstr>Professor Thorne's presentation</vt:lpwstr>
  </property>
  <property fmtid="{D5CDD505-2E9C-101B-9397-08002B2CF9AE}" pid="6" name="_NewReviewCycle">
    <vt:lpwstr/>
  </property>
</Properties>
</file>