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71BE-7936-49BD-A841-197919837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1000" y="3600000"/>
            <a:ext cx="70624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87B0-234C-4242-A2ED-7EED8CE56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100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08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A0D1-C257-4636-8A2D-F406B5A3B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87012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96760" y="87012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1000" y="360000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360000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96760" y="360000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54BD-E20E-4351-8C9F-9DDAC0D30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7F86-1D95-4CCF-B3A2-7B4EA245FF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F529-B419-4688-BA32-C7F517E3D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8F32-C459-42FF-84CC-D2BFAE5263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7231-069E-4F91-BC5C-CD10F9C08C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14751-BA91-4CFA-A195-6C21E6A0A9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71440" y="179280"/>
            <a:ext cx="8307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8213-CA11-4DD8-B461-7A803D0625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100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1E96-6421-42EF-8CB8-711521FE6D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087A-2780-485A-8C9E-CEBB373BD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4008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BD06-323C-4674-AF23-9BED36EC71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1000" y="3600000"/>
            <a:ext cx="70624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529C-483D-4EBE-AAF1-5776D576B9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521000" y="3600000"/>
            <a:ext cx="70624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5B16-BA13-4189-95A6-5BCB862816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100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4008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6E81-490F-434B-ADE7-56C2E0F9F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08880" y="87012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96760" y="87012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521000" y="360000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908880" y="360000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96760" y="3600000"/>
            <a:ext cx="227376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F66C-AE15-45C1-BE9B-D7E2813FA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BB2C-8CEA-4710-AE16-BA406B796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CF11-0C86-47F2-B72B-A3CAE9D99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C36B-740B-44EC-A0F6-78FF8C5C9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71440" y="179280"/>
            <a:ext cx="8307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F465-1590-4A9B-A45D-AFEB92B94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100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5E91-54ED-4072-9396-CD4C58C40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080" y="360000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97E8-A8ED-4E20-8777-BCE2D625F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080" y="870120"/>
            <a:ext cx="34462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1000" y="3600000"/>
            <a:ext cx="70624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3FBA-43DF-49CB-8863-9CBC0DDC7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85840"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-228600">
              <a:spcBef>
                <a:spcPts val="1001"/>
              </a:spcBef>
              <a:spcAft>
                <a:spcPts val="751"/>
              </a:spcAft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04920"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5560" indent="-228600"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5560" indent="-228600"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5560" indent="-228600"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6367320"/>
            <a:ext cx="1020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700" spc="-1" strike="noStrike">
                <a:solidFill>
                  <a:srgbClr val="000000"/>
                </a:solidFill>
                <a:latin typeface="Verdana"/>
              </a:rPr>
              <a:t>www.nifustep.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08400" y="6370200"/>
            <a:ext cx="126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7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7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B5F334E-BDDD-49B9-B8E2-16F7EA7C5ACC}" type="slidenum">
              <a:rPr b="0" lang="nb-NO" sz="7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0" y="639432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4419720"/>
            <a:ext cx="1295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6840" y="609480"/>
            <a:ext cx="8413560" cy="0"/>
          </a:xfrm>
          <a:prstGeom prst="line">
            <a:avLst/>
          </a:prstGeom>
          <a:ln w="6480">
            <a:solidFill>
              <a:srgbClr val="1f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056440" y="5894280"/>
            <a:ext cx="596880" cy="606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495440" y="816120"/>
            <a:ext cx="706284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6480" y="3400560"/>
            <a:ext cx="4668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92520" y="6367320"/>
            <a:ext cx="89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700" spc="-1" strike="noStrike">
                <a:solidFill>
                  <a:srgbClr val="000000"/>
                </a:solidFill>
                <a:latin typeface="Verdana"/>
              </a:rPr>
              <a:t>www.nifustep.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3047760" y="637020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7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7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9A36AFB0-8CED-4D1E-B578-4C52A0A82B1B}" type="slidenum">
              <a:rPr b="0" lang="nb-NO" sz="7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6400800"/>
            <a:ext cx="0" cy="152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200" y="1555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8284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2840" y="685800"/>
            <a:ext cx="4962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0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017720"/>
            <a:ext cx="49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035000"/>
            <a:ext cx="49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840" y="609480"/>
            <a:ext cx="8413560" cy="0"/>
          </a:xfrm>
          <a:prstGeom prst="line">
            <a:avLst/>
          </a:prstGeom>
          <a:ln w="6480">
            <a:solidFill>
              <a:srgbClr val="1f35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7160" y="1940040"/>
            <a:ext cx="2055960" cy="1197000"/>
          </a:xfrm>
          <a:prstGeom prst="rect">
            <a:avLst/>
          </a:prstGeom>
          <a:solidFill>
            <a:srgbClr val="ff66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2440" y="1944720"/>
            <a:ext cx="6297480" cy="119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989840" y="5684760"/>
            <a:ext cx="835200" cy="847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190440" indent="0"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66720" indent="285840" algn="ctr">
              <a:spcBef>
                <a:spcPts val="400"/>
              </a:spcBef>
              <a:spcAft>
                <a:spcPts val="400"/>
              </a:spcAft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085760" indent="285840" algn="ctr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587600" indent="279360" algn="ctr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587600" indent="27936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587600" indent="27936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68560" y="471312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94000" y="3568680"/>
            <a:ext cx="61513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Convergence and Diversity in European  Higher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Bjørn Stens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52A4-B63C-4356-917F-78AB208F13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Verdana"/>
              </a:rPr>
              <a:t>Diversity in higher education: the point of depar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s diversity a ”public good”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Both normative (democratic) and functional arguments in favour of d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any notions of diversity: The three most common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Institutional d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Student d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Study Programme d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n Europe, institutional diversity at centre stage, but perhaps student and programme diversity needs greater atten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342D-68F2-494F-A163-44AF330B22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Verdana"/>
              </a:rPr>
              <a:t>Is diversity under pressure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What impact does processes such as Bologna, Lisbon, NPM, Globalisation have on divers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Macro level convergence in structures, policies and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Micro level diversity is still not under pressure due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) Poor understandings of macro-level initiatives and tr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b) Creative interpretations/translations of policies and reform initia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c) The path-dependency of systems and instit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E1D3-89E5-43DF-B0CD-C35C70AB5D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Verdana"/>
              </a:rPr>
              <a:t>What policies and governmental strategies facilitate diversity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Jury still out with respect to the respective advantages concerning ”state-led” or ”market-based” solu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aybe that is a sign that this dichotomy take attention away from the important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It is the State that allows the market to 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What are the key mechanisms for stimulating divers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What is the role of the State vs that of HEIs in institutional development/profiles, etc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500C-3114-4A15-A3D8-64D407842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1440" y="179280"/>
            <a:ext cx="830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Verdana"/>
              </a:rPr>
              <a:t>Some brief reflections on current trend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1000" y="870120"/>
            <a:ext cx="70624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What is the impact of ranking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Rankings narrow down what is measured and have today a negative impact on d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One could argue that the best response is ”more” rankings – not fewer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Towards a European typology of HEI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advantage: new ”ideals” will be vi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- danger: typologies may also put pressure on divers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Bef>
                <a:spcPts val="1001"/>
              </a:spcBef>
              <a:spcAft>
                <a:spcPts val="751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However, it is when you imitate that you innovate, and it is when you try to change that you discover who you are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737B-083B-4B62-B9A5-684C37CBE9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6:31:06Z</dcterms:created>
  <dc:creator>Bjørn Magne Olsen</dc:creator>
  <dc:description/>
  <dc:language>en-US</dc:language>
  <cp:lastModifiedBy>rackeco</cp:lastModifiedBy>
  <dcterms:modified xsi:type="dcterms:W3CDTF">2008-05-19T15:45:19Z</dcterms:modified>
  <cp:revision>16</cp:revision>
  <dc:subject/>
  <dc:title>Lysbilde 1</dc:title>
</cp:coreProperties>
</file>