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2586"/>
                </a:solidFill>
                <a:latin typeface="Trebuchet MS"/>
              </a:rPr>
              <a:t>Click to move the slide</a:t>
            </a: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95C2-E19F-472D-A6A3-3CCCC2B61F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E771-4D47-4A9E-9BA9-5DCCE1D920F9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7B88-6249-41C7-ACD6-0899E3F03C00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8FBD-60F2-4F54-97A5-22324079F590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CD02-8BCB-4BA0-9020-947A52149A9F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834F-A952-4586-BFA4-5ED990C3792D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93E8-7A8C-469F-ACD9-8C4727769393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C9E9-DCF9-4082-8EB6-2BA06995DDFC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17DE-5DB6-4631-BEEE-AC16B7D53E10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B3FF-CD7E-42B9-A03D-D087E3919E61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5699-4A43-4B95-AEDF-5129780A8FD6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1CFD-3D60-4677-B30D-3751DAC8E431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F412-3D12-4F15-B781-6CC1BB81FAC6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07FB-41CF-40BF-AC6A-57A9E15997E3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B5F7-6A8E-420E-88D5-1A2F9028898D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BC41-F969-41A5-B4F8-C648A71E40DD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4B62-C8AD-4AFF-819D-6104813EB02E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DC98-038A-4F32-BDD8-872DF4A427DC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Ance olarak duzeltilme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5B88-0474-4C3A-9D13-723F8171BEC7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E10C-6677-4F22-A717-F235D619625C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Ance olarak duzeltilme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C138-E389-4BF9-8399-7EA6E96C2AAA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5160-70AD-4BAA-9EB9-E1A42F229039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A189-2CC3-4F1E-A912-ABAADF0D3C5B}" type="slidenum">
              <a:rPr b="0" lang="en-GB" sz="1200" spc="-1" strike="noStrike">
                <a:solidFill>
                  <a:srgbClr val="33258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258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197D-EDA9-45EC-A2CE-D8443E0E0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2404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5C76-02D7-49F8-8C43-76F49AD73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04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240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240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E1F3-61D5-46D5-A691-D4D31F185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046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046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240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240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240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C15E-8AFE-4E09-B33C-877918DA3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220464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20464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4240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D9E4-A63B-4FC3-8A89-3C923CA6F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04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4240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04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42404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42404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04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4240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4240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22046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22046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4240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4240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4240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7B70-0BE7-4F46-A066-13DB6B6A0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0464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4C58-BE1E-47C6-8B3F-22F93C100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6FCE-1D70-4A11-8802-335ECB9BD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458E-D8AB-44B2-9113-ACB511090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0464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240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7F6B-B669-4723-9A75-E472DFC6E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04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240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34AE-0861-4673-9F5F-95C0D34C8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04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2404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0F79-62E0-454D-AFA4-528064CE0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2586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3325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3325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68360" y="6454800"/>
            <a:ext cx="82072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2586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3325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3325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2586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8497800" cy="547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2586"/>
                </a:solidFill>
                <a:latin typeface="Trebuchet MS"/>
              </a:rPr>
              <a:t>Bologna Seminar Bologna 2020</a:t>
            </a:r>
            <a:br>
              <a:rPr sz="3800"/>
            </a:b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Unlocking Europe’s potential-contributing to </a:t>
            </a:r>
            <a:br>
              <a:rPr sz="2800"/>
            </a:b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a better world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Change Towards Excellence</a:t>
            </a:r>
            <a:br>
              <a:rPr sz="2800"/>
            </a:br>
            <a:r>
              <a:rPr b="0" lang="en-US" sz="2400" spc="-1" strike="noStrike">
                <a:solidFill>
                  <a:srgbClr val="332586"/>
                </a:solidFill>
                <a:latin typeface="Trebuchet MS"/>
              </a:rPr>
              <a:t>Prof. Dr. Gulsun Saglamer</a:t>
            </a:r>
            <a:br>
              <a:rPr sz="2400"/>
            </a:br>
            <a:r>
              <a:rPr b="0" lang="en-US" sz="2400" spc="-1" strike="noStrike">
                <a:solidFill>
                  <a:srgbClr val="332586"/>
                </a:solidFill>
                <a:latin typeface="Trebuchet MS"/>
              </a:rPr>
              <a:t>EUA Board Member</a:t>
            </a:r>
            <a:br>
              <a:rPr sz="2400"/>
            </a:br>
            <a:r>
              <a:rPr b="0" lang="en-US" sz="2400" spc="-1" strike="noStrike">
                <a:solidFill>
                  <a:srgbClr val="332586"/>
                </a:solidFill>
                <a:latin typeface="Trebuchet MS"/>
              </a:rPr>
              <a:t>Istanbul Technical University</a:t>
            </a:r>
            <a:br>
              <a:rPr sz="2400"/>
            </a:br>
            <a:br>
              <a:rPr sz="2400"/>
            </a:br>
            <a:r>
              <a:rPr b="0" lang="tr-TR" sz="2800" spc="-1" strike="noStrike">
                <a:solidFill>
                  <a:srgbClr val="332586"/>
                </a:solidFill>
                <a:latin typeface="Trebuchet MS"/>
              </a:rPr>
              <a:t>Ghent, 19-20 May </a:t>
            </a:r>
            <a:r>
              <a:rPr b="1" lang="en-US" sz="2800" spc="-1" strike="noStrike">
                <a:solidFill>
                  <a:srgbClr val="332586"/>
                </a:solidFill>
                <a:latin typeface="Trebuchet MS"/>
              </a:rPr>
              <a:t>200</a:t>
            </a: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8</a:t>
            </a:r>
            <a:r>
              <a:rPr b="1" lang="en-US" sz="2800" spc="-1" strike="noStrike">
                <a:solidFill>
                  <a:srgbClr val="332586"/>
                </a:solidFill>
                <a:latin typeface="Trebuchet MS"/>
              </a:rPr>
              <a:t>, </a:t>
            </a:r>
            <a:br>
              <a:rPr sz="3600"/>
            </a:b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2586"/>
                </a:solidFill>
                <a:latin typeface="Trebuchet MS"/>
              </a:rPr>
              <a:t>What have we been doing?</a:t>
            </a:r>
            <a:endParaRPr b="1" lang="en-US" sz="32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11280" y="206064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We have not been able to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take into account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 the possible scenarios related to the developments of our competitors as we have been very busy in the last decade.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We have always looked at the problems from EU’s  point of view and ha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ve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n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ot tended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to 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assess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the issues from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our competitors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’ perspective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Who are our competitors and </a:t>
            </a:r>
            <a:br>
              <a:rPr sz="2800"/>
            </a:b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What are they doing? </a:t>
            </a: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11280" y="155736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USA has been trying to restructure its education from K12 to doctoral degrees in order not to lose its leading role. USA Universities 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still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have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70% of </a:t>
            </a:r>
            <a:r>
              <a:rPr b="1" lang="en-US" sz="2400" spc="-1" strike="noStrike">
                <a:solidFill>
                  <a:srgbClr val="332586"/>
                </a:solidFill>
                <a:latin typeface="Trebuchet MS"/>
              </a:rPr>
              <a:t>Nobel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Prize-winners</a:t>
            </a:r>
            <a:r>
              <a:rPr b="1" lang="en-US" sz="2400" spc="-1" strike="noStrike">
                <a:solidFill>
                  <a:srgbClr val="33258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30% of world outputs of articles in science 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        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and engineering  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44% of the most frequently cited article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China, India, South 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K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orea, Singapore have been making t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re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mendous investments 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to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HE and R&amp;D and 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have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realiz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ed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remarkable progress in their HE and R&amp;D in the last 10 years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Who are our competitors and </a:t>
            </a:r>
            <a:br>
              <a:rPr sz="2800"/>
            </a:b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What are they doing? </a:t>
            </a: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611280" y="213372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Internationalization has be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en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an important issue 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for a long time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and they systematically make investment and recruit 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talented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foreign academics and students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They have already put in place evaluation, accreditation processes at national and international levels and performance based resource allocation and  research assessment have be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come a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“must”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They have established very strong ties with industry not only at national or regional level but also at global level as well.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1241280"/>
            <a:ext cx="8459640" cy="561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2586"/>
                </a:solidFill>
                <a:latin typeface="Trebuchet MS"/>
              </a:rPr>
              <a:t>The context within which we function is in continuous change</a:t>
            </a:r>
            <a:r>
              <a:rPr b="0" lang="en-GB" sz="2800" spc="-1" strike="noStrike">
                <a:solidFill>
                  <a:srgbClr val="332586"/>
                </a:solidFill>
                <a:latin typeface="Trebuchet MS"/>
              </a:rPr>
              <a:t>,</a:t>
            </a:r>
            <a:r>
              <a:rPr b="0" lang="tr-TR" sz="2800" spc="-1" strike="noStrike">
                <a:solidFill>
                  <a:srgbClr val="332586"/>
                </a:solidFill>
                <a:latin typeface="Trebuchet MS"/>
              </a:rPr>
              <a:t> confronting the social decision makers with unprecedented challenges. </a:t>
            </a:r>
            <a:br>
              <a:rPr sz="2800"/>
            </a:br>
            <a:br>
              <a:rPr sz="2800"/>
            </a:br>
            <a:r>
              <a:rPr b="0" lang="tr-TR" sz="2800" spc="-1" strike="noStrike">
                <a:solidFill>
                  <a:srgbClr val="332586"/>
                </a:solidFill>
                <a:latin typeface="Trebuchet MS"/>
              </a:rPr>
              <a:t>We can foresee some of those changes but we defin</a:t>
            </a:r>
            <a:r>
              <a:rPr b="0" lang="en-GB" sz="2800" spc="-1" strike="noStrike">
                <a:solidFill>
                  <a:srgbClr val="332586"/>
                </a:solidFill>
                <a:latin typeface="Trebuchet MS"/>
              </a:rPr>
              <a:t>it</a:t>
            </a:r>
            <a:r>
              <a:rPr b="0" lang="tr-TR" sz="2800" spc="-1" strike="noStrike">
                <a:solidFill>
                  <a:srgbClr val="332586"/>
                </a:solidFill>
                <a:latin typeface="Trebuchet MS"/>
              </a:rPr>
              <a:t>ely cannot foresee all the changes to take place until 2020. Therefore our challenge is twofold:</a:t>
            </a:r>
            <a:br>
              <a:rPr sz="2800"/>
            </a:br>
            <a:br>
              <a:rPr sz="1000"/>
            </a:br>
            <a:r>
              <a:rPr b="0" lang="tr-TR" sz="2800" spc="-1" strike="noStrike">
                <a:solidFill>
                  <a:srgbClr val="ff9650"/>
                </a:solidFill>
                <a:latin typeface="Trebuchet MS"/>
              </a:rPr>
              <a:t>o</a:t>
            </a:r>
            <a:r>
              <a:rPr b="0" lang="tr-TR" sz="2800" spc="-1" strike="noStrike">
                <a:solidFill>
                  <a:srgbClr val="332586"/>
                </a:solidFill>
                <a:latin typeface="Trebuchet MS"/>
              </a:rPr>
              <a:t>  Foreseen Trends</a:t>
            </a:r>
            <a:br>
              <a:rPr sz="2800"/>
            </a:br>
            <a:r>
              <a:rPr b="0" lang="tr-TR" sz="2800" spc="-1" strike="noStrike">
                <a:solidFill>
                  <a:srgbClr val="ff9650"/>
                </a:solidFill>
                <a:latin typeface="Trebuchet MS"/>
              </a:rPr>
              <a:t>o</a:t>
            </a:r>
            <a:r>
              <a:rPr b="0" lang="tr-TR" sz="2800" spc="-1" strike="noStrike">
                <a:solidFill>
                  <a:srgbClr val="332586"/>
                </a:solidFill>
                <a:latin typeface="Trebuchet MS"/>
              </a:rPr>
              <a:t>  Unforeseen Trends</a:t>
            </a:r>
            <a:br>
              <a:rPr sz="2800"/>
            </a:b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158840" y="1052640"/>
            <a:ext cx="798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650"/>
                </a:solidFill>
                <a:latin typeface="Arial"/>
              </a:rPr>
              <a:t>What are the  expected trends in EU by 2020</a:t>
            </a:r>
            <a:r>
              <a:rPr b="1" lang="tr-TR" sz="2800" spc="-1" strike="noStrike">
                <a:solidFill>
                  <a:srgbClr val="ff965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459640" cy="525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1. </a:t>
            </a: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Foreseen Trends</a:t>
            </a:r>
            <a:r>
              <a:rPr b="0" lang="tr-TR" sz="2800" spc="-1" strike="noStrike">
                <a:solidFill>
                  <a:srgbClr val="332586"/>
                </a:solidFill>
                <a:latin typeface="Trebuchet MS"/>
              </a:rPr>
              <a:t> : To determine the macro trends that we can foresee, to make strategic choices related to those trends and to implement those strategies as effectively as possible</a:t>
            </a:r>
            <a:br>
              <a:rPr sz="2800"/>
            </a:br>
            <a:br>
              <a:rPr sz="2800"/>
            </a:br>
            <a:r>
              <a:rPr b="0" lang="tr-TR" sz="2800" spc="-1" strike="noStrike">
                <a:solidFill>
                  <a:srgbClr val="332586"/>
                </a:solidFill>
                <a:latin typeface="Trebuchet MS"/>
              </a:rPr>
              <a:t>2. </a:t>
            </a: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Unfor</a:t>
            </a:r>
            <a:r>
              <a:rPr b="1" lang="en-GB" sz="2800" spc="-1" strike="noStrike">
                <a:solidFill>
                  <a:srgbClr val="332586"/>
                </a:solidFill>
                <a:latin typeface="Trebuchet MS"/>
              </a:rPr>
              <a:t>e</a:t>
            </a: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seen trends:</a:t>
            </a:r>
            <a:r>
              <a:rPr b="0" lang="tr-TR" sz="2800" spc="-1" strike="noStrike">
                <a:solidFill>
                  <a:srgbClr val="332586"/>
                </a:solidFill>
                <a:latin typeface="Trebuchet MS"/>
              </a:rPr>
              <a:t> To design our education-research- innovation universe in a way that will allow the system to survive the unfor</a:t>
            </a:r>
            <a:r>
              <a:rPr b="0" lang="en-GB" sz="2800" spc="-1" strike="noStrike">
                <a:solidFill>
                  <a:srgbClr val="332586"/>
                </a:solidFill>
                <a:latin typeface="Trebuchet MS"/>
              </a:rPr>
              <a:t>e</a:t>
            </a:r>
            <a:r>
              <a:rPr b="0" lang="tr-TR" sz="2800" spc="-1" strike="noStrike">
                <a:solidFill>
                  <a:srgbClr val="332586"/>
                </a:solidFill>
                <a:latin typeface="Trebuchet MS"/>
              </a:rPr>
              <a:t>seen adversities and also to exploit the unfor</a:t>
            </a:r>
            <a:r>
              <a:rPr b="0" lang="en-GB" sz="2800" spc="-1" strike="noStrike">
                <a:solidFill>
                  <a:srgbClr val="332586"/>
                </a:solidFill>
                <a:latin typeface="Trebuchet MS"/>
              </a:rPr>
              <a:t>e</a:t>
            </a:r>
            <a:r>
              <a:rPr b="0" lang="tr-TR" sz="2800" spc="-1" strike="noStrike">
                <a:solidFill>
                  <a:srgbClr val="332586"/>
                </a:solidFill>
                <a:latin typeface="Trebuchet MS"/>
              </a:rPr>
              <a:t>seen opportunities in the coming years and decades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58840" y="981000"/>
            <a:ext cx="798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650"/>
                </a:solidFill>
                <a:latin typeface="Arial"/>
              </a:rPr>
              <a:t>What are the  expected trends in EU by 2020</a:t>
            </a:r>
            <a:r>
              <a:rPr b="1" lang="tr-TR" sz="2800" spc="-1" strike="noStrike">
                <a:solidFill>
                  <a:srgbClr val="ff965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48720" cy="6454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533520" indent="-533520">
              <a:buClr>
                <a:srgbClr val="33258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The three trends and challenges can be discussed;</a:t>
            </a:r>
            <a:br>
              <a:rPr sz="2400"/>
            </a:br>
            <a:r>
              <a:rPr b="1" lang="tr-TR" sz="2400" spc="-1" strike="noStrike">
                <a:solidFill>
                  <a:srgbClr val="ff9650"/>
                </a:solidFill>
                <a:latin typeface="Trebuchet MS"/>
              </a:rPr>
              <a:t>1.Trend: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The increasing gap between the technology elite and the society at large with significant long term implications for democracy</a:t>
            </a:r>
            <a:br>
              <a:rPr sz="2400"/>
            </a:br>
            <a:br>
              <a:rPr sz="800"/>
            </a:br>
            <a:r>
              <a:rPr b="1" lang="tr-TR" sz="2400" spc="-1" strike="noStrike">
                <a:solidFill>
                  <a:srgbClr val="ff9650"/>
                </a:solidFill>
                <a:latin typeface="Trebuchet MS"/>
              </a:rPr>
              <a:t>Challenge :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How should we allocate our research and innovation resources? Should we concentrate our resources on a small number of leading researchers who can make the EU economically more competitive </a:t>
            </a:r>
            <a:br>
              <a:rPr sz="2400"/>
            </a:b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in a short period of time or should we invest in human capital of larger segment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s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of 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the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population? </a:t>
            </a:r>
            <a:br>
              <a:rPr sz="2400"/>
            </a:br>
            <a:r>
              <a:rPr b="1" i="1" lang="tr-TR" sz="2400" spc="-1" strike="noStrike">
                <a:solidFill>
                  <a:srgbClr val="332586"/>
                </a:solidFill>
                <a:latin typeface="Trebuchet MS"/>
              </a:rPr>
              <a:t>Are we facing a choice between </a:t>
            </a:r>
            <a:br>
              <a:rPr sz="2400"/>
            </a:br>
            <a:r>
              <a:rPr b="1" i="1" lang="tr-TR" sz="2400" spc="-1" strike="noStrike">
                <a:solidFill>
                  <a:srgbClr val="332586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ff9650"/>
                </a:solidFill>
                <a:latin typeface="Arial"/>
              </a:rPr>
              <a:t>o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  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short-term economic success and </a:t>
            </a:r>
            <a:br>
              <a:rPr sz="2400"/>
            </a:b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ff9650"/>
                </a:solidFill>
                <a:latin typeface="Arial"/>
              </a:rPr>
              <a:t>o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  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long-term sustainability of a democratic </a:t>
            </a:r>
            <a:br>
              <a:rPr sz="2400"/>
            </a:b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   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prosperous society?</a:t>
            </a:r>
            <a:br>
              <a:rPr sz="2400"/>
            </a:br>
            <a:br>
              <a:rPr sz="2400"/>
            </a:b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</a:t>
            </a:r>
            <a:endParaRPr b="1" lang="en-US" sz="24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908000" y="333360"/>
            <a:ext cx="67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9650"/>
                </a:solidFill>
                <a:latin typeface="Arial"/>
              </a:rPr>
              <a:t>             </a:t>
            </a:r>
            <a:r>
              <a:rPr b="1" lang="tr-TR" sz="2800" spc="-1" strike="noStrike">
                <a:solidFill>
                  <a:srgbClr val="ff9650"/>
                </a:solidFill>
                <a:latin typeface="Arial"/>
              </a:rPr>
              <a:t>Foreseen Trends</a:t>
            </a: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459640" cy="525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9650"/>
                </a:solidFill>
                <a:latin typeface="Trebuchet MS"/>
              </a:rPr>
              <a:t>2. Trend: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The demand for services and goods in the EU economy will increasingly determined by an ageing society</a:t>
            </a:r>
            <a:br>
              <a:rPr sz="2400"/>
            </a:br>
            <a:br>
              <a:rPr sz="2400"/>
            </a:br>
            <a:r>
              <a:rPr b="1" lang="tr-TR" sz="2400" spc="-1" strike="noStrike">
                <a:solidFill>
                  <a:srgbClr val="ff9650"/>
                </a:solidFill>
                <a:latin typeface="Trebuchet MS"/>
              </a:rPr>
              <a:t>Challenge :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Since research and innovation are driven by market demand, the preferences of an ageing society will increasingly shape EU innovation if it focuses mainly on the EU market. </a:t>
            </a:r>
            <a:br>
              <a:rPr sz="2400"/>
            </a:br>
            <a:br>
              <a:rPr sz="2400"/>
            </a:b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Will the demographic force be conducive to innovation or are we facing a structural wind that may stifle the global innovative potential of EU?</a:t>
            </a:r>
            <a:br>
              <a:rPr sz="2400"/>
            </a:br>
            <a:endParaRPr b="1" lang="en-US" sz="24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340000" y="549360"/>
            <a:ext cx="798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9650"/>
                </a:solidFill>
                <a:latin typeface="Arial"/>
              </a:rPr>
              <a:t>Foreseen Trends</a:t>
            </a:r>
            <a:endParaRPr b="0" lang="en-US" sz="3200" spc="-1" strike="noStrike">
              <a:solidFill>
                <a:srgbClr val="33258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258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1267920"/>
            <a:ext cx="8459640" cy="525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9650"/>
                </a:solidFill>
                <a:latin typeface="Trebuchet MS"/>
              </a:rPr>
              <a:t>3. Trend: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Globalization or connectedness embody destructive risks as well as constructive synergies.</a:t>
            </a:r>
            <a:br>
              <a:rPr sz="2400"/>
            </a:br>
            <a:br>
              <a:rPr sz="2400"/>
            </a:br>
            <a:r>
              <a:rPr b="1" lang="tr-TR" sz="2400" spc="-1" strike="noStrike">
                <a:solidFill>
                  <a:srgbClr val="ff9650"/>
                </a:solidFill>
                <a:latin typeface="Trebuchet MS"/>
              </a:rPr>
              <a:t>Challenge :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How can we capitalize on the benefits of connectedness while ensuring safety and sustainability </a:t>
            </a:r>
            <a:br>
              <a:rPr sz="2400"/>
            </a:b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of our networked structures?</a:t>
            </a:r>
            <a:br>
              <a:rPr sz="2400"/>
            </a:br>
            <a:br>
              <a:rPr sz="2400"/>
            </a:b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Alternatively, can we avoid the risks and threats of connectedness without hampering the benefits that flow from being tightly interconnected?</a:t>
            </a:r>
            <a:br>
              <a:rPr sz="2400"/>
            </a:br>
            <a:endParaRPr b="1" lang="en-US" sz="24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195640" y="476280"/>
            <a:ext cx="61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9650"/>
                </a:solidFill>
                <a:latin typeface="Arial"/>
              </a:rPr>
              <a:t>       </a:t>
            </a:r>
            <a:r>
              <a:rPr b="1" lang="tr-TR" sz="3200" spc="-1" strike="noStrike">
                <a:solidFill>
                  <a:srgbClr val="ff9650"/>
                </a:solidFill>
                <a:latin typeface="Arial"/>
              </a:rPr>
              <a:t>Foreseen Trends</a:t>
            </a:r>
            <a:endParaRPr b="0" lang="en-US" sz="3200" spc="-1" strike="noStrike">
              <a:solidFill>
                <a:srgbClr val="33258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258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8459640" cy="453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It is simply not possible to foresee all trends that will shape our world until 2020 and beyond. Therefore designing a functioning system and network that can successfully deal with unforeseen risks and opportunities becomes a critical dimension of our vision.</a:t>
            </a:r>
            <a:br>
              <a:rPr sz="2800"/>
            </a:br>
            <a:br>
              <a:rPr sz="3200"/>
            </a:b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71640" y="1197000"/>
            <a:ext cx="798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9650"/>
                </a:solidFill>
                <a:latin typeface="Arial"/>
              </a:rPr>
              <a:t>Unforeseen Trends</a:t>
            </a: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24000" y="907920"/>
            <a:ext cx="6500880" cy="6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9650"/>
                </a:solidFill>
                <a:latin typeface="Trebuchet MS"/>
              </a:rPr>
              <a:t>Unforeseen Trends</a:t>
            </a:r>
            <a:r>
              <a:rPr b="1" lang="tr-TR" sz="2800" spc="-1" strike="noStrike">
                <a:solidFill>
                  <a:srgbClr val="ff9650"/>
                </a:solidFill>
                <a:latin typeface="Trebuchet MS"/>
              </a:rPr>
              <a:t>      </a:t>
            </a:r>
            <a:br>
              <a:rPr sz="2800"/>
            </a:b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11280" y="1746360"/>
            <a:ext cx="853272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We should design our system of education-research - innovation so that they can have flexibility to adjust themselves as balances evolve between different goals.</a:t>
            </a:r>
            <a:br>
              <a:rPr sz="2400"/>
            </a:b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Such flexibility is critical in thinking about systems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We should be able to d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raw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pot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e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ntial scenarios about global developments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,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especially 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those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related to our competitors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’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possible actions and plans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, and we should 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be able to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generate action plans accordingly.</a:t>
            </a:r>
            <a:br>
              <a:rPr sz="2400"/>
            </a:b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258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2586"/>
                </a:solidFill>
                <a:latin typeface="Trebuchet MS"/>
              </a:rPr>
              <a:t>What Should be done? </a:t>
            </a:r>
            <a:endParaRPr b="1" lang="en-US" sz="32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11280" y="148428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Change towards excellence, flexibility and adaptability should be main goals 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while diversity is maintained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New era should have a holistic approach and should take into account potantial developments, risks and opportunities in different scenarios 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Evaluation of 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r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esearch 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results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, teaching and learning outcomes should be 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given more importance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.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2586"/>
                </a:solidFill>
                <a:latin typeface="Trebuchet MS"/>
              </a:rPr>
              <a:t>What Should be done?</a:t>
            </a:r>
            <a:endParaRPr b="1" lang="en-US" sz="32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95280" y="1484280"/>
            <a:ext cx="8496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Funding and realities should be discussed and concrete solutions should be developed. 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A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sense of belonging at institutional level and system level should be achieved to nurture philantrophic funding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. Extra funding is a “must”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2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Universities should be encouraged to generate income and to establish endowments for sustainable development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Conflicting expectations of stakeholders which </a:t>
            </a:r>
            <a:r>
              <a:rPr b="1" lang="en-GB" sz="2400" spc="-1" strike="noStrike">
                <a:solidFill>
                  <a:srgbClr val="332586"/>
                </a:solidFill>
                <a:latin typeface="Arial"/>
              </a:rPr>
              <a:t>may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  harness developments</a:t>
            </a:r>
            <a:r>
              <a:rPr b="1" lang="en-GB" sz="2400" spc="-1" strike="noStrike">
                <a:solidFill>
                  <a:srgbClr val="332586"/>
                </a:solidFill>
                <a:latin typeface="Arial"/>
              </a:rPr>
              <a:t>,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 should be addressed more openly and alternative solutions should be created.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928800" y="1714680"/>
            <a:ext cx="77864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There are known knowns.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These are things we know that we know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There are known unknowns. 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That is to say, 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         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there are things that we know we don’t know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but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There are also unknown unknowns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There are things we don’t know we don’t know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1" lang="tr-TR" sz="20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1" lang="tr-TR" sz="20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1" lang="tr-TR" sz="20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1" lang="tr-TR" sz="20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1" lang="tr-TR" sz="20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1" lang="tr-TR" sz="2000" spc="-1" strike="noStrike">
                <a:solidFill>
                  <a:srgbClr val="332586"/>
                </a:solidFill>
                <a:latin typeface="Trebuchet MS"/>
              </a:rPr>
              <a:t>Donald Rumsfeld</a:t>
            </a:r>
            <a:endParaRPr b="0" lang="en-US" sz="20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71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2586"/>
                </a:solidFill>
                <a:latin typeface="Trebuchet MS"/>
              </a:rPr>
              <a:t>Thank You</a:t>
            </a:r>
            <a:endParaRPr b="1" lang="en-US" sz="32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98900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2586"/>
                </a:solidFill>
                <a:latin typeface="Trebuchet MS"/>
              </a:rPr>
              <a:t>Challenges for Higher Education </a:t>
            </a:r>
            <a:endParaRPr b="1" lang="en-US" sz="32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11280" y="184464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G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lobal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ization and Knowledge Society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HE as a key driver of Knowledge Economy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International Benchmarking for quality and standards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Market Forces and Competition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2586"/>
                </a:solidFill>
                <a:latin typeface="Trebuchet MS"/>
              </a:rPr>
              <a:t>Speed of change*</a:t>
            </a:r>
            <a:endParaRPr b="0" lang="en-US" sz="32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SzPct val="10287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2586"/>
                </a:solidFill>
                <a:latin typeface="Trebuchet MS"/>
              </a:rPr>
              <a:t>Universities have changed their role since the end of 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2586"/>
                </a:solidFill>
                <a:latin typeface="Trebuchet MS"/>
              </a:rPr>
              <a:t>20th century from.......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</a:t>
            </a:r>
            <a:r>
              <a:rPr b="0" lang="tr-TR" sz="2400" spc="-1" strike="noStrike">
                <a:solidFill>
                  <a:srgbClr val="332586"/>
                </a:solidFill>
                <a:latin typeface="Trebuchet MS"/>
              </a:rPr>
              <a:t>teaching/learning/research 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t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o..........Knowledge transfer/social inclusion/local and regional regeneration/attention to public debate.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0" lang="tr-TR" sz="16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0" lang="tr-TR" sz="16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0" lang="tr-TR" sz="16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0" lang="tr-TR" sz="16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0" lang="tr-TR" sz="16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0" lang="tr-TR" sz="16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0" lang="tr-TR" sz="1600" spc="-1" strike="noStrike">
                <a:solidFill>
                  <a:srgbClr val="332586"/>
                </a:solidFill>
                <a:latin typeface="Trebuchet MS"/>
              </a:rPr>
              <a:t>Newby,H., 2008</a:t>
            </a:r>
            <a:endParaRPr b="0" lang="en-US" sz="16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2586"/>
                </a:solidFill>
                <a:latin typeface="Trebuchet MS"/>
              </a:rPr>
              <a:t>Challenges for </a:t>
            </a:r>
            <a:r>
              <a:rPr b="1" lang="en-US" sz="3200" spc="-1" strike="noStrike">
                <a:solidFill>
                  <a:srgbClr val="332586"/>
                </a:solidFill>
                <a:latin typeface="Trebuchet MS"/>
              </a:rPr>
              <a:t>Higher Education</a:t>
            </a:r>
            <a:endParaRPr b="1" lang="en-US" sz="32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74560" y="1916280"/>
            <a:ext cx="85694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2586"/>
                </a:solidFill>
                <a:latin typeface="Trebuchet MS"/>
              </a:rPr>
              <a:t>Most significantly, the changes have been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2586"/>
                </a:solidFill>
                <a:latin typeface="Trebuchet MS"/>
              </a:rPr>
              <a:t>  </a:t>
            </a:r>
            <a:r>
              <a:rPr b="0" lang="tr-TR" sz="2400" spc="-1" strike="noStrike">
                <a:solidFill>
                  <a:srgbClr val="332586"/>
                </a:solidFill>
                <a:latin typeface="Trebuchet MS"/>
              </a:rPr>
              <a:t>accompanied by a further deeper transformation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2586"/>
                </a:solidFill>
                <a:latin typeface="Trebuchet MS"/>
              </a:rPr>
              <a:t>  </a:t>
            </a:r>
            <a:r>
              <a:rPr b="0" lang="tr-TR" sz="2400" spc="-1" strike="noStrike">
                <a:solidFill>
                  <a:srgbClr val="332586"/>
                </a:solidFill>
                <a:latin typeface="Trebuchet MS"/>
              </a:rPr>
              <a:t>in higher education</a:t>
            </a: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, as a supply-driven system</a:t>
            </a: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 </a:t>
            </a:r>
            <a:r>
              <a:rPr b="1" lang="en-GB" sz="2800" spc="-1" strike="noStrike">
                <a:solidFill>
                  <a:srgbClr val="332586"/>
                </a:solidFill>
                <a:latin typeface="Trebuchet MS"/>
              </a:rPr>
              <a:t> </a:t>
            </a: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became replaced  by a demand-driven one.</a:t>
            </a: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2586"/>
                </a:solidFill>
                <a:latin typeface="Trebuchet MS"/>
              </a:rPr>
              <a:t>Without question, that change requires 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2586"/>
                </a:solidFill>
                <a:latin typeface="Trebuchet MS"/>
              </a:rPr>
              <a:t>  </a:t>
            </a: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a new mind-set in the higher-education world.</a:t>
            </a: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2586"/>
                </a:solidFill>
                <a:latin typeface="Trebuchet MS"/>
              </a:rPr>
              <a:t>Challenges for EHEA/ERA </a:t>
            </a:r>
            <a:endParaRPr b="1" lang="en-US" sz="32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53964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Bologna Process and Lisbon St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ra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tegy?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Have we realize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d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the goals yet?..........Some but not all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What would be the best strategy for the future 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to continue to work on the updated goals to realize them,but also 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to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develop new st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ra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tegies to speed up the processes.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t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o create new horizons to motivate the stakeholders of EHEA and ERA to make Europe the leading continent in economic growth. Is this possible theoretically?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2586"/>
                </a:solidFill>
                <a:latin typeface="Trebuchet MS"/>
              </a:rPr>
              <a:t>Chan</a:t>
            </a:r>
            <a:r>
              <a:rPr b="1" lang="en-GB" sz="3200" spc="-1" strike="noStrike">
                <a:solidFill>
                  <a:srgbClr val="332586"/>
                </a:solidFill>
                <a:latin typeface="Trebuchet MS"/>
              </a:rPr>
              <a:t>g</a:t>
            </a:r>
            <a:r>
              <a:rPr b="1" lang="tr-TR" sz="3200" spc="-1" strike="noStrike">
                <a:solidFill>
                  <a:srgbClr val="332586"/>
                </a:solidFill>
                <a:latin typeface="Trebuchet MS"/>
              </a:rPr>
              <a:t>e Towards Excellence</a:t>
            </a:r>
            <a:endParaRPr b="1" lang="en-US" sz="32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971640" y="2205000"/>
            <a:ext cx="78483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What would be the right strategy?</a:t>
            </a: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2586"/>
                </a:solidFill>
                <a:latin typeface="Verdana"/>
              </a:rPr>
              <a:t>Top Down-Bottom Up</a:t>
            </a:r>
            <a:endParaRPr b="0" lang="en-US" sz="20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2586"/>
                </a:solidFill>
                <a:latin typeface="Verdana"/>
              </a:rPr>
              <a:t>	</a:t>
            </a:r>
            <a:r>
              <a:rPr b="1" lang="tr-TR" sz="2000" spc="-1" strike="noStrike">
                <a:solidFill>
                  <a:srgbClr val="332586"/>
                </a:solidFill>
                <a:latin typeface="Verdana"/>
              </a:rPr>
              <a:t>	</a:t>
            </a:r>
            <a:r>
              <a:rPr b="1" lang="tr-TR" sz="2000" spc="-1" strike="noStrike">
                <a:solidFill>
                  <a:srgbClr val="332586"/>
                </a:solidFill>
                <a:latin typeface="Verdana"/>
              </a:rPr>
              <a:t>	</a:t>
            </a:r>
            <a:r>
              <a:rPr b="1" lang="tr-TR" sz="2000" spc="-1" strike="noStrike">
                <a:solidFill>
                  <a:srgbClr val="332586"/>
                </a:solidFill>
                <a:latin typeface="Verdana"/>
              </a:rPr>
              <a:t>	</a:t>
            </a:r>
            <a:r>
              <a:rPr b="1" lang="tr-TR" sz="2000" spc="-1" strike="noStrike">
                <a:solidFill>
                  <a:srgbClr val="332586"/>
                </a:solidFill>
                <a:latin typeface="Verdana"/>
              </a:rPr>
              <a:t>.........</a:t>
            </a:r>
            <a:r>
              <a:rPr b="1" lang="tr-TR" sz="2000" spc="-1" strike="noStrike">
                <a:solidFill>
                  <a:srgbClr val="332586"/>
                </a:solidFill>
                <a:latin typeface="Verdana"/>
              </a:rPr>
              <a:t>	</a:t>
            </a:r>
            <a:r>
              <a:rPr b="1" lang="tr-TR" sz="2000" spc="-1" strike="noStrike">
                <a:solidFill>
                  <a:srgbClr val="332586"/>
                </a:solidFill>
                <a:latin typeface="Verdana"/>
              </a:rPr>
              <a:t>or both</a:t>
            </a:r>
            <a:endParaRPr b="0" lang="en-US" sz="20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2586"/>
                </a:solidFill>
                <a:latin typeface="Trebuchet MS"/>
              </a:rPr>
              <a:t>Are we capable to control </a:t>
            </a:r>
            <a:endParaRPr b="0" lang="en-US" sz="28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2586"/>
                </a:solidFill>
                <a:latin typeface="Verdana"/>
              </a:rPr>
              <a:t>Internal constraints</a:t>
            </a:r>
            <a:endParaRPr b="0" lang="en-US" sz="20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2586"/>
                </a:solidFill>
                <a:latin typeface="Verdana"/>
              </a:rPr>
              <a:t>External constraints</a:t>
            </a:r>
            <a:endParaRPr b="0" lang="en-US" sz="20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2586"/>
                </a:solidFill>
                <a:latin typeface="Trebuchet MS"/>
              </a:rPr>
              <a:t>Challenges for EHEA/ERA </a:t>
            </a:r>
            <a:endParaRPr b="1" lang="en-US" sz="32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11280" y="148428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Performance of EHEA and ERA based on indicators;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Input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2586"/>
                </a:solidFill>
                <a:latin typeface="Verdana"/>
              </a:rPr>
              <a:t>?% GDP allocated </a:t>
            </a:r>
            <a:r>
              <a:rPr b="1" lang="en-GB" sz="1800" spc="-1" strike="noStrike">
                <a:solidFill>
                  <a:srgbClr val="332586"/>
                </a:solidFill>
                <a:latin typeface="Verdana"/>
              </a:rPr>
              <a:t>to</a:t>
            </a:r>
            <a:r>
              <a:rPr b="1" lang="tr-TR" sz="1800" spc="-1" strike="noStrike">
                <a:solidFill>
                  <a:srgbClr val="332586"/>
                </a:solidFill>
                <a:latin typeface="Verdana"/>
              </a:rPr>
              <a:t> R&amp;D</a:t>
            </a:r>
            <a:endParaRPr b="0" lang="en-US" sz="18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2586"/>
                </a:solidFill>
                <a:latin typeface="Verdana"/>
              </a:rPr>
              <a:t>?% GDP allocated </a:t>
            </a:r>
            <a:r>
              <a:rPr b="1" lang="en-GB" sz="1800" spc="-1" strike="noStrike">
                <a:solidFill>
                  <a:srgbClr val="332586"/>
                </a:solidFill>
                <a:latin typeface="Verdana"/>
              </a:rPr>
              <a:t>to</a:t>
            </a:r>
            <a:r>
              <a:rPr b="1" lang="tr-TR" sz="1800" spc="-1" strike="noStrike">
                <a:solidFill>
                  <a:srgbClr val="332586"/>
                </a:solidFill>
                <a:latin typeface="Verdana"/>
              </a:rPr>
              <a:t> HE and E in general</a:t>
            </a:r>
            <a:endParaRPr b="0" lang="en-US" sz="18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2586"/>
                </a:solidFill>
                <a:latin typeface="Verdana"/>
              </a:rPr>
              <a:t>Enrollment rate in HE at three cycles</a:t>
            </a:r>
            <a:endParaRPr b="0" lang="en-US" sz="18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2586"/>
                </a:solidFill>
                <a:latin typeface="Verdana"/>
              </a:rPr>
              <a:t>Number of researchers/1000 persons........</a:t>
            </a:r>
            <a:endParaRPr b="0" lang="en-US" sz="18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Output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2586"/>
                </a:solidFill>
                <a:latin typeface="Verdana"/>
              </a:rPr>
              <a:t>Role of knowledge production on </a:t>
            </a:r>
            <a:r>
              <a:rPr b="1" lang="en-GB" sz="1800" spc="-1" strike="noStrike">
                <a:solidFill>
                  <a:srgbClr val="332586"/>
                </a:solidFill>
                <a:latin typeface="Verdana"/>
              </a:rPr>
              <a:t>e</a:t>
            </a:r>
            <a:r>
              <a:rPr b="1" lang="tr-TR" sz="1800" spc="-1" strike="noStrike">
                <a:solidFill>
                  <a:srgbClr val="332586"/>
                </a:solidFill>
                <a:latin typeface="Verdana"/>
              </a:rPr>
              <a:t>conomic growth</a:t>
            </a:r>
            <a:endParaRPr b="0" lang="en-US" sz="18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2586"/>
                </a:solidFill>
                <a:latin typeface="Verdana"/>
              </a:rPr>
              <a:t>Number of publications and impact factors</a:t>
            </a:r>
            <a:endParaRPr b="0" lang="en-US" sz="18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2586"/>
                </a:solidFill>
                <a:latin typeface="Verdana"/>
              </a:rPr>
              <a:t>Number of International recognitions and awards </a:t>
            </a:r>
            <a:r>
              <a:rPr b="1" lang="en-GB" sz="1800" spc="-1" strike="noStrike">
                <a:solidFill>
                  <a:srgbClr val="332586"/>
                </a:solidFill>
                <a:latin typeface="Verdana"/>
              </a:rPr>
              <a:t>won </a:t>
            </a:r>
            <a:endParaRPr b="0" lang="en-US" sz="18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2586"/>
                </a:solidFill>
                <a:latin typeface="Verdana"/>
              </a:rPr>
              <a:t>   </a:t>
            </a:r>
            <a:r>
              <a:rPr b="1" lang="en-GB" sz="1800" spc="-1" strike="noStrike">
                <a:solidFill>
                  <a:srgbClr val="332586"/>
                </a:solidFill>
                <a:latin typeface="Verdana"/>
              </a:rPr>
              <a:t>by</a:t>
            </a:r>
            <a:r>
              <a:rPr b="1" lang="tr-TR" sz="1800" spc="-1" strike="noStrike">
                <a:solidFill>
                  <a:srgbClr val="332586"/>
                </a:solidFill>
                <a:latin typeface="Verdana"/>
              </a:rPr>
              <a:t> European rese</a:t>
            </a:r>
            <a:r>
              <a:rPr b="1" lang="en-GB" sz="1800" spc="-1" strike="noStrike">
                <a:solidFill>
                  <a:srgbClr val="332586"/>
                </a:solidFill>
                <a:latin typeface="Verdana"/>
              </a:rPr>
              <a:t>a</a:t>
            </a:r>
            <a:r>
              <a:rPr b="1" lang="tr-TR" sz="1800" spc="-1" strike="noStrike">
                <a:solidFill>
                  <a:srgbClr val="332586"/>
                </a:solidFill>
                <a:latin typeface="Verdana"/>
              </a:rPr>
              <a:t>rchers and research teams </a:t>
            </a:r>
            <a:endParaRPr b="0" lang="en-US" sz="18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2586"/>
                </a:solidFill>
                <a:latin typeface="Verdana"/>
              </a:rPr>
              <a:t>Number of patents</a:t>
            </a:r>
            <a:endParaRPr b="0" lang="en-US" sz="18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2586"/>
                </a:solidFill>
                <a:latin typeface="Verdana"/>
              </a:rPr>
              <a:t>R</a:t>
            </a:r>
            <a:r>
              <a:rPr b="1" lang="tr-TR" sz="1800" spc="-1" strike="noStrike">
                <a:solidFill>
                  <a:srgbClr val="332586"/>
                </a:solidFill>
                <a:latin typeface="Verdana"/>
              </a:rPr>
              <a:t>ate</a:t>
            </a:r>
            <a:r>
              <a:rPr b="1" lang="en-GB" sz="1800" spc="-1" strike="noStrike">
                <a:solidFill>
                  <a:srgbClr val="332586"/>
                </a:solidFill>
                <a:latin typeface="Verdana"/>
              </a:rPr>
              <a:t> of improvement in input factors</a:t>
            </a:r>
            <a:r>
              <a:rPr b="1" lang="tr-TR" sz="1800" spc="-1" strike="noStrike">
                <a:solidFill>
                  <a:srgbClr val="332586"/>
                </a:solidFill>
                <a:latin typeface="Arial"/>
              </a:rPr>
              <a:t>…...</a:t>
            </a:r>
            <a:endParaRPr b="0" lang="en-US" sz="18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258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2586"/>
                </a:solidFill>
                <a:latin typeface="Trebuchet MS"/>
              </a:rPr>
              <a:t>What have we been doing? </a:t>
            </a:r>
            <a:endParaRPr b="1" lang="en-US" sz="32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24000" y="1746360"/>
            <a:ext cx="8532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Bologna process has b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e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en flexible enough to update its goals and objectives throughout the 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years and has also  been successful in initiating  comprehensive changes in HEIs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	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.........but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It has been </a:t>
            </a:r>
            <a:r>
              <a:rPr b="1" lang="en-GB" sz="2400" spc="-1" strike="noStrike">
                <a:solidFill>
                  <a:srgbClr val="332586"/>
                </a:solidFill>
                <a:latin typeface="Arial"/>
              </a:rPr>
              <a:t>a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n inward looking  and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a top down process and bottom up motions coming from HE 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institutions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ha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ve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not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been powerful enough to create an integrated change process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Its o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bjectives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 set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 for i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nput factors have n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ot been realized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by the Nation States and EC to motivate universities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 yet.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2586"/>
                </a:solidFill>
                <a:latin typeface="Trebuchet MS"/>
              </a:rPr>
              <a:t>What have we been doing? </a:t>
            </a:r>
            <a:endParaRPr b="1" lang="en-US" sz="3200" spc="-1" strike="noStrike">
              <a:solidFill>
                <a:srgbClr val="332586"/>
              </a:solidFill>
              <a:latin typeface="Trebuchet MS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11280" y="1413000"/>
            <a:ext cx="853272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Some HEIs or HE systems went into deep reforms to modernize themselves and have been very successful, but some HEIs did some improvements on the surface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 without substantive changes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any methods, tools and support systems 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have been used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to make EHEA and ERA strong enough, but 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in the process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we have always avoided 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the thorough discussion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s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 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of 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some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 vital issues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, such as 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e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valuation of outcomes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/results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, 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realities in funding, 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ageing society, 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332586"/>
                </a:solidFill>
                <a:latin typeface="Trebuchet MS"/>
              </a:rPr>
              <a:t>barriers  for foreign researchers</a:t>
            </a:r>
            <a:r>
              <a:rPr b="1" lang="en-GB" sz="2400" spc="-1" strike="noStrike">
                <a:solidFill>
                  <a:srgbClr val="332586"/>
                </a:solidFill>
                <a:latin typeface="Trebuchet MS"/>
              </a:rPr>
              <a:t>.</a:t>
            </a:r>
            <a:r>
              <a:rPr b="1" lang="tr-TR" sz="2400" spc="-1" strike="noStrike">
                <a:solidFill>
                  <a:srgbClr val="332586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25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neric</cp:lastModifiedBy>
  <dcterms:modified xsi:type="dcterms:W3CDTF">2008-05-19T11:42:23Z</dcterms:modified>
  <cp:revision>1</cp:revision>
  <dc:subject/>
  <dc:title>Bologna Seminar Bologna 2020 Unlocking Europe’s potential-contributing to  a better world   Change Towards Excellence Prof. Dr. Gulsun Saglamer EUA Board Member Istanbul Technical University  Ghent, 19-20 May 2008,  </dc:title>
</cp:coreProperties>
</file>