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561-0873-47E0-BC3C-69B2F779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43B-7117-4BEC-8266-200F03A1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B2D-B2BD-4A7E-82AC-7C72937B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ADA-3618-4800-9930-FC28A59D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78C-1486-42B1-9B0C-F72BD18E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815-B22A-47FF-88E9-A56FEC1E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D0B-C2A6-440C-ADC2-CF60B454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1E1-653F-4506-BBAB-9BC62C0C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883-470B-442D-8643-EC4053BF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958-E37E-4991-8E46-DFEFBBF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B4F-1B85-4533-A8AA-EFFDDC58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B9C-E936-4759-B632-60BA7C85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E47-4048-4C01-81B1-CDCB91243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50021"/>
                </a:solidFill>
                <a:latin typeface="Arial"/>
              </a:rPr>
              <a:t>Bologna 2020: Unlocking Europe’s potential – Contributing to a better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Martina Vukasov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Centre for Education Policy, Ser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Relevance of higher education:</a:t>
            </a:r>
            <a:br>
              <a:rPr sz="3600"/>
            </a:br>
            <a:r>
              <a:rPr b="0" lang="en-GB" sz="3600" spc="-1" strike="noStrike">
                <a:solidFill>
                  <a:srgbClr val="3333cc"/>
                </a:solidFill>
                <a:latin typeface="Arial"/>
              </a:rPr>
              <a:t>economic and social development, and employability of gradu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Relevance of higher edu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“measure” relevanc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tical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r social and economic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e of reference (time and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HE and economic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human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and technology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of costs in other public s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HE and socia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of the national ident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about globalization or Europeanis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 of attitudes and values, critical thinking, democratisation of the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qualit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mobility or social reproducti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nefits for the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Employability – a conc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loyabilit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≠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ability =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 set of achievements, understanding and personal attributes that make individuals more likely to gain employment and be successful in their chosen occup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night and Yorke, 2004: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 character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ility, not certainty or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Employment of graduates - 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uates spend more time searching for a job after graduation than they used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uates feel that their first job is often not suitable for them – that they are under-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and more graduates start with several part-time or short-term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s with higher education qualifications tend to change jobs more often than before – both in terms of changing employer as well as field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mployment statistics show an increase in the number of unemployed persons with higher education qual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Higher education and employ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ution when making conclusions w.r.t. to higher education on the basis of  (un)employment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-education and under-employ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s of m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luence of non-formal and inform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icult to establish simple causal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and space of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How to increase employabil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 focus on learning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sity of offer (mirroring the diversity of roles of higher edu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xibility of learning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gnition of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ability (employer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inclusion of relevant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94080" y="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mvukasovic@cep.edu.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http://www.cep.edu.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24:14Z</dcterms:created>
  <dc:creator>mvukasovic</dc:creator>
  <dc:description/>
  <dc:language>en-US</dc:language>
  <cp:lastModifiedBy>persooma</cp:lastModifiedBy>
  <dcterms:modified xsi:type="dcterms:W3CDTF">2008-05-15T14:11:50Z</dcterms:modified>
  <cp:revision>19</cp:revision>
  <dc:subject/>
  <dc:title>PowerPoint Presentation</dc:title>
</cp:coreProperties>
</file>