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A85F-77FF-4FA2-8683-C6498DBA1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9611-B43C-4050-AB69-A689EFA5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05EC-3914-45B6-A8E5-2A31CAB2C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E78F-998B-4F83-AF9A-B391441B3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689C-9D94-4EF8-B22E-D1194C446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0308-5245-4000-BE15-C74AC1F57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6230-1FF4-400C-A59E-CBB0E3EAF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CA6C-1AF0-4C4D-850E-1E7990DBA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48BA-C2AB-460E-B08B-D924B1D1B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B46A-23DD-4A35-A535-7F4B157A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B765-30E0-4439-902A-4A926F3D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0672-6FC6-4BB9-9A28-E84340E5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4FDB1-F283-4FB4-B0CB-7F62161586C5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03280" y="2636640"/>
            <a:ext cx="64008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Changing Paradigm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in Higher Edu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Times New Roman"/>
              </a:rPr>
              <a:t>Pavel Zgaga</a:t>
            </a:r>
            <a:br>
              <a:rPr sz="1800"/>
            </a:br>
            <a:r>
              <a:rPr b="0" lang="en-US" sz="1800" spc="-1" strike="noStrike">
                <a:solidFill>
                  <a:srgbClr val="4d4d4d"/>
                </a:solidFill>
                <a:latin typeface="Times New Roman"/>
              </a:rPr>
              <a:t>University of Ljublj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1979640" y="188640"/>
            <a:ext cx="69818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Bologna Seminar</a:t>
            </a:r>
            <a:br>
              <a:rPr sz="2800"/>
            </a:br>
            <a:r>
              <a:rPr b="1" i="1" lang="en-GB" sz="2400" spc="-1" strike="noStrike">
                <a:solidFill>
                  <a:srgbClr val="000099"/>
                </a:solidFill>
                <a:latin typeface="Times New Roman"/>
              </a:rPr>
              <a:t>Bologna 2020: Unlocking Europe’s potential - Contributing to a better world</a:t>
            </a:r>
            <a:br>
              <a:rPr sz="2800"/>
            </a:br>
            <a:r>
              <a:rPr b="1" lang="en-GB" sz="2200" spc="-1" strike="noStrike">
                <a:solidFill>
                  <a:srgbClr val="000066"/>
                </a:solidFill>
                <a:latin typeface="Times New Roman"/>
              </a:rPr>
              <a:t>Ghent, 19-20 May 200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1079280" cy="1727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"/>
          <p:cNvGraphicFramePr/>
          <p:nvPr/>
        </p:nvGraphicFramePr>
        <p:xfrm>
          <a:off x="3352680" y="5486400"/>
          <a:ext cx="2264040" cy="111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52680" y="5486400"/>
                    <a:ext cx="2264040" cy="11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ff"/>
                </a:solidFill>
                <a:latin typeface="Times New Roman"/>
              </a:rPr>
              <a:t>4. </a:t>
            </a:r>
            <a:r>
              <a:rPr b="1" lang="en-GB" sz="3200" spc="-1" strike="noStrike">
                <a:solidFill>
                  <a:srgbClr val="0000ff"/>
                </a:solidFill>
                <a:latin typeface="Times New Roman"/>
              </a:rPr>
              <a:t>Studying and scholarship – for what sake?</a:t>
            </a:r>
            <a:r>
              <a:rPr b="0" lang="sl-SI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sl-SI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748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Knowledg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commercialisatio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fundamental research (at least in some disciplines) in risk?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ar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mean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nd what ar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end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Knowledg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wisdo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a forgotten relationship tod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nowledge for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he sake of economic growth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vs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knowledge for its own sak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the historical, cultural, societal role of “disinterested”, “independent” knowledge, based on unbiased research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ichotomy “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searching for growth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” vs. “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searching for truth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” should be addressed from today’s point of vie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Where to, university?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What higher education and research in Europe beyond 2010?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” are crucial ques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Ethical dimensions of knowledg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(research, teaching and learning, etc) should be reconsidered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26920" y="981000"/>
            <a:ext cx="727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Times New Roman"/>
              </a:rPr>
              <a:t>Working Group 5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hanging paradigms in higher education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from information to conceptual age”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inter- and multidisciplinary organisation of curricul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iberal arts issu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ff"/>
                </a:solidFill>
                <a:latin typeface="Times New Roman"/>
              </a:rPr>
              <a:t>1.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Toward re-conceptualization</a:t>
            </a:r>
            <a:r>
              <a:rPr b="1" lang="en-GB" sz="3200" spc="-1" strike="noStrike">
                <a:solidFill>
                  <a:srgbClr val="0000ff"/>
                </a:solidFill>
                <a:latin typeface="Times New Roman"/>
              </a:rPr>
              <a:t> of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424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 era of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e-conceptualization of university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iversities are entering “the knowledge-based society” / “the knowledge-based society” is entering universit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vels of re-conceptualization of university / H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European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global leve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(Bologna Process, Lisbon Strategy, UNESCO HE Forum etc.)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national leve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(new policy development for HE and R)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institutional leve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(mission; competition; regional and international agendas etc.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 “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micro-level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” of departments and disciplines (a pace / direction of development, etc.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 last but not least, an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epistemological leve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(paradigms and conceptual organisation of disciplines/research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ff"/>
                </a:solidFill>
                <a:latin typeface="Times New Roman"/>
              </a:rPr>
              <a:t>1.1 </a:t>
            </a:r>
            <a:r>
              <a:rPr b="1" lang="en-GB" sz="3200" spc="-1" strike="noStrike">
                <a:solidFill>
                  <a:srgbClr val="0000ff"/>
                </a:solidFill>
                <a:latin typeface="Times New Roman"/>
              </a:rPr>
              <a:t>Criticisms of disciplinary fragmen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96472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llustration 1: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“Yet it is also clear that while the research university model evolving during the </a:t>
            </a:r>
            <a:r>
              <a:rPr b="0" i="1" lang="en-GB" sz="2800" spc="-1" strike="noStrike">
                <a:solidFill>
                  <a:srgbClr val="0000ff"/>
                </a:solidFill>
                <a:latin typeface="Times New Roman"/>
              </a:rPr>
              <a:t>latter half of the 20th century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has been remarkably successful, many of its most distinguishing characteristics have been mixed blessings. […] Faculty have learned that the best way to attract funding in a </a:t>
            </a:r>
            <a:r>
              <a:rPr b="0" i="1" lang="en-GB" sz="2800" spc="-1" strike="noStrike">
                <a:solidFill>
                  <a:srgbClr val="0000ff"/>
                </a:solidFill>
                <a:latin typeface="Times New Roman"/>
              </a:rPr>
              <a:t>competitive, peer-review research culture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is to become </a:t>
            </a:r>
            <a:r>
              <a:rPr b="0" i="1" lang="en-GB" sz="2800" spc="-1" strike="noStrike">
                <a:solidFill>
                  <a:srgbClr val="0000ff"/>
                </a:solidFill>
                <a:latin typeface="Times New Roman"/>
              </a:rPr>
              <a:t>as specialised as possible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, since this narrows the group of those likely to review their proposals (perhaps even to their colleagues), thereby driving even more the </a:t>
            </a:r>
            <a:r>
              <a:rPr b="0" i="1" lang="en-GB" sz="2800" spc="-1" strike="noStrike">
                <a:solidFill>
                  <a:srgbClr val="0000ff"/>
                </a:solidFill>
                <a:latin typeface="Times New Roman"/>
              </a:rPr>
              <a:t>disciplinary fragmentation of the academy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. As a result, academic disciplines dominate the modern research university, developing curriculum, marshalling resources, administering programmes, and doling out reward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(Duderstadt, J.J., 2004)</a:t>
            </a:r>
            <a:r>
              <a:rPr b="0" i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ff"/>
                </a:solidFill>
                <a:latin typeface="Times New Roman"/>
              </a:rPr>
              <a:t>1.</a:t>
            </a:r>
            <a:r>
              <a:rPr b="1" lang="en-GB" sz="3200" spc="-1" strike="noStrike">
                <a:solidFill>
                  <a:srgbClr val="0000ff"/>
                </a:solidFill>
                <a:latin typeface="Times New Roman"/>
              </a:rPr>
              <a:t>2 “</a:t>
            </a:r>
            <a:r>
              <a:rPr b="1" i="1" lang="en-GB" sz="3200" spc="-1" strike="noStrike">
                <a:solidFill>
                  <a:srgbClr val="0000ff"/>
                </a:solidFill>
                <a:latin typeface="Times New Roman"/>
              </a:rPr>
              <a:t>Life is not divided into disciplines</a:t>
            </a:r>
            <a:r>
              <a:rPr b="1" lang="en-GB" sz="3200" spc="-1" strike="noStrike">
                <a:solidFill>
                  <a:srgbClr val="0000ff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3534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llustration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In many respects, the discipline-defined departmental structure has served academia well.</a:t>
            </a:r>
            <a:r>
              <a:rPr b="0" i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But it has also failed, most notably in its </a:t>
            </a:r>
            <a:r>
              <a:rPr b="0" i="1" lang="en-GB" sz="2800" spc="-1" strike="noStrike">
                <a:solidFill>
                  <a:srgbClr val="0000ff"/>
                </a:solidFill>
                <a:latin typeface="Times New Roman"/>
              </a:rPr>
              <a:t>lacks of flexibility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and its inherent drive toward </a:t>
            </a:r>
            <a:r>
              <a:rPr b="0" i="1" lang="en-GB" sz="2800" spc="-1" strike="noStrike">
                <a:solidFill>
                  <a:srgbClr val="0000ff"/>
                </a:solidFill>
                <a:latin typeface="Times New Roman"/>
              </a:rPr>
              <a:t>ever-increasing specialisation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. Clearly, a move away from a structure based solely on </a:t>
            </a:r>
            <a:r>
              <a:rPr b="0" i="1" lang="en-GB" sz="2800" spc="-1" strike="noStrike">
                <a:solidFill>
                  <a:srgbClr val="0000ff"/>
                </a:solidFill>
                <a:latin typeface="Times New Roman"/>
              </a:rPr>
              <a:t>single-discipline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methodologically defined studies to one that is more flexible, inclusive, and that provides elbow room for interdisciplinary </a:t>
            </a:r>
            <a:r>
              <a:rPr b="0" i="1" lang="en-GB" sz="2800" spc="-1" strike="noStrike">
                <a:solidFill>
                  <a:srgbClr val="0000ff"/>
                </a:solidFill>
                <a:latin typeface="Times New Roman"/>
              </a:rPr>
              <a:t>broad-picture investigations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, is very much in order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Schopf and Hirsch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(200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ff"/>
                </a:solidFill>
                <a:latin typeface="Times New Roman"/>
              </a:rPr>
              <a:t>1.3 </a:t>
            </a:r>
            <a:r>
              <a:rPr b="1" lang="en-GB" sz="3200" spc="-1" strike="noStrike">
                <a:solidFill>
                  <a:srgbClr val="0000ff"/>
                </a:solidFill>
                <a:latin typeface="Times New Roman"/>
              </a:rPr>
              <a:t>Internationalization and inno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5075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aditionally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knowledg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esearch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didn’t respect neither geographical nor disciplinary boundaries. They were supposed to b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universa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nowledge and research are challenged to b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lobal commoditi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(perhaps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monopolie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 well?) today – a challenge which needs an academic response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ternational/global university/research – it is to addres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lobal problems and ques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in new way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Interdisciplinarit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not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a new nich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n the wild world of research competition – but as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an opportunit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to respond to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lobal challeng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of today as well as to contribute to higher education and research as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lobal public good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Times New Roman"/>
              </a:rPr>
              <a:t>2. Inter/multi-disciplinarity vs. discip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Inter/multi</a:t>
            </a:r>
            <a:r>
              <a:rPr b="0" i="1" lang="sl-SI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disciplinarit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a) it hasn’t been invented recently but has strong and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deep roots in the history of research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b) it has been a trendy word for decades but, in reality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monodisciplinarity in research prevail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c) it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isn’t a magic word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which may solve all probl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role which modern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disciplin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play vs. determining / defining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a university’s internal division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structure</a:t>
            </a:r>
            <a:r>
              <a:rPr b="0" i="1" lang="sl-SI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 faculties, schools, department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 academic promotion, academic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 their financing and roles in a society 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Academic re-positioning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of today: individual disciplines take various positions.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future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ff"/>
                </a:solidFill>
                <a:latin typeface="Times New Roman"/>
              </a:rPr>
              <a:t>3. </a:t>
            </a:r>
            <a:r>
              <a:rPr b="1" lang="en-GB" sz="3200" spc="-1" strike="noStrike">
                <a:solidFill>
                  <a:srgbClr val="0000ff"/>
                </a:solidFill>
                <a:latin typeface="Times New Roman"/>
              </a:rPr>
              <a:t>Humanities at ris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ears have been expressed – in Europe and worldwide – that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he Bologna Process endangers certain disciplin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nd study areas, in particular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humaniti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llustration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ermans go to Pittsburgh to study Hegel. Could you imagine it twenty years ago? America will become a country of theory. I fear that the Bologna reform has been the biggest catastrophe since ever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.”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Slavoj 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ek in an interview to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</a:rPr>
              <a:t>Dnevnik 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(Ljubljana); 5 April 2008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ff"/>
                </a:solidFill>
                <a:latin typeface="Times New Roman"/>
              </a:rPr>
              <a:t>3.1 </a:t>
            </a:r>
            <a:r>
              <a:rPr b="1" lang="en-GB" sz="3200" spc="-1" strike="noStrike">
                <a:solidFill>
                  <a:srgbClr val="0000ff"/>
                </a:solidFill>
                <a:latin typeface="Times New Roman"/>
              </a:rPr>
              <a:t>Humanities at ris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80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llustration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Another potential threat to the maintenance of Korean studies in Europe is the ‘Bologna Process’, whereby European Union members agreed to set up a common education curriculum and higher education system by 2010. The process includes the integration and abolition of certain academic studies that are regarded as ‘scholastically unpopular.</a:t>
            </a:r>
            <a:r>
              <a:rPr b="0" i="1" lang="sl-SI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Choi Jie-ho, 2005 ; in</a:t>
            </a:r>
            <a:r>
              <a:rPr b="0" lang="sl-SI" sz="27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 Zgaga, Looking out – </a:t>
            </a:r>
            <a:r>
              <a:rPr b="0" lang="sl-SI" sz="27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he Bologna Process in a Global Setting, Oslo 2006, p. 68*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8:12:53Z</dcterms:created>
  <dc:creator>Pavle</dc:creator>
  <dc:description/>
  <dc:language>en-US</dc:language>
  <cp:lastModifiedBy>Pavle</cp:lastModifiedBy>
  <dcterms:modified xsi:type="dcterms:W3CDTF">2008-05-18T10:48:59Z</dcterms:modified>
  <cp:revision>50</cp:revision>
  <dc:subject/>
  <dc:title>Diapozitiv 1</dc:title>
</cp:coreProperties>
</file>