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DC9-6851-4328-BE4C-17DB1576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DED-0A4B-484A-857E-B0AECEB8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B43-6578-42FD-B594-2936D542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E64-A11A-4362-A5A7-EC940147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2C9C-E149-4594-95FA-7DD261E6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64D3-C10F-4CDD-8752-CBF20626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C42A-F93A-402F-8CEE-FA6C4BAA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D95C-B5A0-4752-A427-FB799859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884C-77D2-4E16-B150-629454DF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73F4-E32F-4383-8358-397CBA4C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9404-33AE-49EB-AA9F-9098522D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A9F-A497-4A04-A827-0DF2674B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05B5-B46B-4A14-AB8F-EDC78672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57FB-2075-4851-BF60-16ED0F99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D41B-BAF1-47E8-9581-35BA4D81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A67E-7AA0-4BB2-9B7B-24E4085B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AEA3-D570-44C6-A850-2D069CAB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24C0-0DA9-4F9D-A5A6-C1673D1C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D8180-CF1B-41D2-93BE-C0F80C7F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7E7AB-EAC8-4E96-82F1-FADA8CA8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C329-5751-4066-95BA-926BC679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1CD9-023F-4B8F-9D06-98DB074D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204-5945-4C74-BEA5-57AE7D0A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8725-197E-40FA-BD6E-2C6BC62A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C3DC-B4D6-4305-8F1E-A6FADB1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112F-6E4D-4A51-A282-7A6D568D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09EA-CABC-452F-9A42-BA0EFC45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CFCA-E07D-4E62-BE78-87C1AF2C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E86E-7669-4E9E-A580-A5D0DFD9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48D4-3518-42A3-AF73-19A7787A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ED26A-FD7F-4275-92A7-CBE9AB42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3D08-870B-4C78-8F01-E6AC1ECB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A3DC4-8AC4-42FF-966D-06C77947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104-09C1-4AA2-B031-93D73F82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5C14C-B22D-4384-8892-3F273ECA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6F3B-66E6-4395-B3FA-8A44022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F4E9-C07E-4FF3-9F13-B507FAEE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67501-A04F-4639-B331-C399973F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669E4-2293-418B-8534-83B149E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C52C2-6EED-4465-A17C-559865E1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0FF2C-5251-4C26-BFCE-515377CD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D586-9D1B-4B2D-B07B-09DD3880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5B77-7A79-40EF-A4F8-CC1640E4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CB3DF-76FD-4803-83DD-309A995C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57B-7A75-4F46-9DE5-9C13E8ED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B1CF9-49A4-4069-AFDA-AA74B8EC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E27B4-C862-4AD3-B955-9BDEE665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C9F76-3B63-4358-BA42-AB3F030C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5608-3A83-48CA-B7FC-9C0557DD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03A88-8600-4E0A-9EB8-84308140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0F876-9304-4595-A580-01851621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DC883-07F5-4B72-A2F9-36085F70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B4B70-D5FB-4F02-9AF5-1478AC73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748D1-D522-4C0E-91CB-4AB092AD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99524-6D6D-48D6-9553-4301B973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DDE-7EB2-44C8-B378-96464D17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B86A-9618-4AE6-ABD7-36A03A01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9C9-4162-4756-ADA7-82485C0E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266-5745-4100-A9FD-E021BD17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68E-0E2F-455B-B938-4BD33839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F6DE-C099-402C-9D6F-17C1DF59495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5760-7C11-4D08-B1F1-493758F441E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0FA8-9D60-47B0-8698-4139DB6065C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1B60-7909-4399-A510-284B2CCAB17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67CF-8F46-4C10-9202-F69A3B7044C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2533c"/>
                </a:solidFill>
                <a:latin typeface="Arial"/>
              </a:rPr>
              <a:t>CO-CHAIRMANSHIP OF THE EHEA AND EU SEMESTER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7576e"/>
                </a:solidFill>
                <a:latin typeface="Arial"/>
              </a:rPr>
              <a:t>Priorities and activiti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57576e"/>
                </a:solidFill>
                <a:latin typeface="Arial"/>
              </a:rPr>
              <a:t>Italy and Holy Se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57576e"/>
                </a:solidFill>
                <a:latin typeface="Arial"/>
              </a:rPr>
              <a:t>BFUG meeting, Athens 9</a:t>
            </a:r>
            <a:r>
              <a:rPr b="0" i="1" lang="en-GB" sz="2000" spc="-1" strike="noStrike" baseline="30000">
                <a:solidFill>
                  <a:srgbClr val="57576e"/>
                </a:solidFill>
                <a:latin typeface="Arial"/>
              </a:rPr>
              <a:t>th</a:t>
            </a:r>
            <a:r>
              <a:rPr b="0" i="1" lang="en-GB" sz="2000" spc="-1" strike="noStrike">
                <a:solidFill>
                  <a:srgbClr val="57576e"/>
                </a:solidFill>
                <a:latin typeface="Arial"/>
              </a:rPr>
              <a:t> and 10</a:t>
            </a:r>
            <a:r>
              <a:rPr b="0" i="1" lang="en-GB" sz="2000" spc="-1" strike="noStrike" baseline="30000">
                <a:solidFill>
                  <a:srgbClr val="57576e"/>
                </a:solidFill>
                <a:latin typeface="Arial"/>
              </a:rPr>
              <a:t>th</a:t>
            </a:r>
            <a:r>
              <a:rPr b="0" i="1" lang="en-GB" sz="2000" spc="-1" strike="noStrike">
                <a:solidFill>
                  <a:srgbClr val="57576e"/>
                </a:solidFill>
                <a:latin typeface="Arial"/>
              </a:rPr>
              <a:t> of April 2013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Italian priorities for the 2014 Presidenc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Main events and activiti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Italian and Holy See priorities for the 2014 Co-chairmanshi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Planned activities and meeting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Arial"/>
              </a:rPr>
              <a:t>Italian priorities for the EU Presidenc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Education and training: fighting youth unemploym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Open educational</a:t>
            </a: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resources and digital learn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Foster innovation and competitiveness through Doctoral education;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Entrepreneurial education and interrelationship between education and employment (EU transparency tools)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Arial"/>
              </a:rPr>
              <a:t>Research and innovation: empowerment of young researche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Arial"/>
              </a:rPr>
              <a:t>Science and societ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Arial"/>
              </a:rPr>
              <a:t>ESFRI roadmap and enhancement of the ER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Arial"/>
              </a:rPr>
              <a:t>Cooperation in research in the Mediterranean Are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2533c"/>
                </a:solidFill>
                <a:latin typeface="Arial"/>
              </a:rPr>
              <a:t>Events and activities – EU Presidency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1052640"/>
          <a:ext cx="8785080" cy="4887720"/>
        </p:xfrm>
        <a:graphic>
          <a:graphicData uri="http://schemas.openxmlformats.org/drawingml/2006/table">
            <a:tbl>
              <a:tblPr/>
              <a:tblGrid>
                <a:gridCol w="1728720"/>
                <a:gridCol w="4127400"/>
                <a:gridCol w="292896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 outcom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61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Open education resources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EU summit on Digital and Open Education (12 November, Bruxelles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Identification of policy initiatives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Doctoral education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European Doctorate: international, intersectoral, interdisciplinary (20/21 November, Padua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trengthening the European dimension of Doctoral education, in connection with EHEA initiatives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Entrepreneurial education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Education Council discussion (12 December, Bruxelles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uncil conclusion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00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Empowerment of young </a:t>
                      </a:r>
                      <a:r>
                        <a:rPr b="0" lang="en-GB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researchers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Event on “Empowering next generation</a:t>
                      </a:r>
                      <a:r>
                        <a:rPr b="0" lang="en-GB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researchers” (18/19 November, Trento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olicy</a:t>
                      </a:r>
                      <a:r>
                        <a:rPr b="0" lang="en-GB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recommendations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Science and society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Event on “Science with and for society” (22/25 September, Rome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Stocktaking of FP6 and FP7 and policy recommendation for H2020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Research Infrastructure (ESFRI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Event on “The evolving landscape of RI in Europe” (25/26 September, Trieste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Policy recommendation for Council conclusion (also on the overall implementation of the ERA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Arial"/>
              </a:rPr>
              <a:t>Italian and Holy See prioriti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Close collaboration between the two countries delegations from the early stages for a fruitful semest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Two main them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Reinforcing the connections between the European Higher Education Area and the European Research Area: Doctoral train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Placing the EHEA in a global setting: building partnerships with the Mediterranean Reg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e2619"/>
                </a:solidFill>
                <a:latin typeface="Arial"/>
              </a:rPr>
              <a:t>Room for discussion for BFUG members and observe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1/2 BFUG board meeting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2 BFUG meeting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Arial"/>
              </a:rPr>
              <a:t>Activities and meeting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9640" y="1413000"/>
          <a:ext cx="8064720" cy="5040360"/>
        </p:xfrm>
        <a:graphic>
          <a:graphicData uri="http://schemas.openxmlformats.org/drawingml/2006/table">
            <a:tbl>
              <a:tblPr/>
              <a:tblGrid>
                <a:gridCol w="1930680"/>
                <a:gridCol w="3066840"/>
                <a:gridCol w="306720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i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e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87160">
                <a:tc rowSpan="4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e2619"/>
                          </a:solidFill>
                          <a:latin typeface="Arial"/>
                        </a:rPr>
                        <a:t>BFUG discussion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e2619"/>
                          </a:solidFill>
                          <a:latin typeface="Arial"/>
                        </a:rPr>
                        <a:t>BFUG board (9/10 July, Rome – HS) 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e2619"/>
                          </a:solidFill>
                          <a:latin typeface="Arial"/>
                        </a:rPr>
                        <a:t>BFUG preparation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8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e2619"/>
                          </a:solidFill>
                          <a:latin typeface="Arial"/>
                        </a:rPr>
                        <a:t>BFUG (18/19 September, Rome – IT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e2619"/>
                          </a:solidFill>
                          <a:latin typeface="Arial"/>
                        </a:rPr>
                        <a:t>Mediterranean Region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e2619"/>
                          </a:solidFill>
                          <a:latin typeface="Arial"/>
                        </a:rPr>
                        <a:t>The future of the Bologna Process and the EHEA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e2619"/>
                          </a:solidFill>
                          <a:latin typeface="Arial"/>
                        </a:rPr>
                        <a:t>BFUG board (tbc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e2619"/>
                          </a:solidFill>
                          <a:latin typeface="Arial"/>
                        </a:rPr>
                        <a:t>BFUG preparation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8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e2619"/>
                          </a:solidFill>
                          <a:latin typeface="Arial"/>
                        </a:rPr>
                        <a:t>BFUG (27/28 November, Rome – IT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e2619"/>
                          </a:solidFill>
                          <a:latin typeface="Arial"/>
                        </a:rPr>
                        <a:t>Doctoral training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e2619"/>
                          </a:solidFill>
                          <a:latin typeface="Arial"/>
                        </a:rPr>
                        <a:t>WG reports and Ministerial Conference preparation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7520"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EHEA – Mediterranean Region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nference on recognition (8/9 July, Rome – HS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Recognition beyond the EHEA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FUG thematic discussion (18/19 September, Rome – IT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EHEA in the global setting, good practices for a way forward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75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octoral training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matic discussion (27/28 November, Rome – IT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rating EHEA and ERA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1:27:59Z</dcterms:created>
  <dc:creator>Foroni Marzia</dc:creator>
  <dc:description/>
  <dc:language>en-US</dc:language>
  <cp:lastModifiedBy>Foroni Marzia</cp:lastModifiedBy>
  <dcterms:modified xsi:type="dcterms:W3CDTF">2014-03-21T12:00:00Z</dcterms:modified>
  <cp:revision>24</cp:revision>
  <dc:subject/>
  <dc:title>Co-chairmanship of the ehea and eu semester</dc:title>
</cp:coreProperties>
</file>