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5883-EB38-44FE-967D-3978B181317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590F-A133-4646-ADB9-DBCC3C1A6A1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C1FA-3B24-4291-A3E1-6ECF3D3D5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672C-4013-4D73-A99C-904A5E917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C58E-A245-4D00-89D0-DE12D5171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ECCB-27CF-4418-90BC-5DBD8663D1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9C43-A690-4988-B0C4-80B32341F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CD4B-FAFA-4A3A-B8B9-96D992A9B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BE3C-213C-4B7D-934C-C93EDB4AF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017E-FE50-4EAA-9BDD-221F94EDA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EC10-C548-4427-9B69-91C412AED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087D-03B5-4C39-92C9-27282F3F2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4F67-6D19-48F2-9211-26380CABE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2042-F461-497E-A3BA-E3035AD50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051760" y="4843080"/>
            <a:ext cx="63504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75D4-86FD-42B1-A5CC-2C11A146103E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13" descr="_grb_eng"/>
          <p:cNvPicPr/>
          <p:nvPr/>
        </p:nvPicPr>
        <p:blipFill>
          <a:blip r:embed="rId3"/>
          <a:stretch/>
        </p:blipFill>
        <p:spPr>
          <a:xfrm>
            <a:off x="0" y="0"/>
            <a:ext cx="914400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a.gorsic@mzos.h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3"/>
          <p:cNvSpPr/>
          <p:nvPr/>
        </p:nvSpPr>
        <p:spPr>
          <a:xfrm>
            <a:off x="8051760" y="4843440"/>
            <a:ext cx="63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2AE5-37B8-4F1C-82F7-EAA852A4F4C9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34520" y="506160"/>
            <a:ext cx="83631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Tahoma"/>
              </a:rPr>
              <a:t>BFUG MEETING, DUBLIN, 14-15 March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Tahoma"/>
              </a:rPr>
              <a:t>INFORMATION BY THE CO-CHAIRS - CROA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Tahoma"/>
              </a:rPr>
              <a:t>Ana Tecilazić Gorši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Tahoma"/>
              </a:rPr>
              <a:t>Head of Sector for Development of Higher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Tahoma"/>
              </a:rPr>
              <a:t>Ministry of Science, Education and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ana.gorsic@mzos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51760" y="4843440"/>
            <a:ext cx="63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8612-2971-49B9-BE4E-695C027E7626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29720"/>
            <a:ext cx="854064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c00000"/>
                </a:solidFill>
                <a:latin typeface="Tahoma"/>
                <a:ea typeface="Tahoma"/>
              </a:rPr>
              <a:t>Events to be organised in Croa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c00000"/>
                </a:solidFill>
                <a:latin typeface="Tahoma"/>
                <a:ea typeface="Tahoma"/>
              </a:rPr>
              <a:t>under BFUG Co-Chairma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c8c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Seminar on the second </a:t>
            </a:r>
            <a:r>
              <a:rPr b="0" lang="hr-HR" sz="2000" spc="-1" strike="noStrike">
                <a:solidFill>
                  <a:srgbClr val="002060"/>
                </a:solidFill>
                <a:latin typeface="Tahoma"/>
                <a:ea typeface="Tahoma"/>
              </a:rPr>
              <a:t>Bologna 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cycle (</a:t>
            </a:r>
            <a:r>
              <a:rPr b="0" lang="hr-HR" sz="2000" spc="-1" strike="noStrike">
                <a:solidFill>
                  <a:srgbClr val="002060"/>
                </a:solidFill>
                <a:latin typeface="Tahoma"/>
                <a:ea typeface="Tahoma"/>
              </a:rPr>
              <a:t>12 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April, Zagr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c8c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Promoting Quality Culture in Higher Education Institutions </a:t>
            </a:r>
            <a:r>
              <a:rPr b="0" lang="hr-HR" sz="2000" spc="-1" strike="noStrike">
                <a:solidFill>
                  <a:srgbClr val="002060"/>
                </a:solidFill>
                <a:latin typeface="Tahoma"/>
                <a:ea typeface="Tahoma"/>
              </a:rPr>
              <a:t>        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(22-24 May</a:t>
            </a:r>
            <a:r>
              <a:rPr b="0" lang="hr-HR" sz="2000" spc="-1" strike="noStrike">
                <a:solidFill>
                  <a:srgbClr val="002060"/>
                </a:solidFill>
                <a:latin typeface="Tahoma"/>
                <a:ea typeface="Tahoma"/>
              </a:rPr>
              <a:t>, Zagreb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c8c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EURASHE CONFERENCE (9</a:t>
            </a:r>
            <a:r>
              <a:rPr b="0" lang="hr-HR" sz="20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-10 May, Spl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c8c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ENIC/NARIC NETWORK Joint Meeting (16 -17 June, Spl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8045280" y="2840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4480" y="479160"/>
            <a:ext cx="818028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ahoma"/>
                <a:ea typeface="Tahoma"/>
              </a:rPr>
              <a:t>Seminar on the second </a:t>
            </a:r>
            <a:r>
              <a:rPr b="0" lang="hr-HR" sz="2000" spc="-1" strike="noStrike">
                <a:solidFill>
                  <a:srgbClr val="c00000"/>
                </a:solidFill>
                <a:latin typeface="Tahoma"/>
                <a:ea typeface="Tahoma"/>
              </a:rPr>
              <a:t>Bologna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  <a:ea typeface="Tahoma"/>
              </a:rPr>
              <a:t>cycle (</a:t>
            </a:r>
            <a:r>
              <a:rPr b="0" lang="hr-HR" sz="2000" spc="-1" strike="noStrike">
                <a:solidFill>
                  <a:srgbClr val="c00000"/>
                </a:solidFill>
                <a:latin typeface="Tahoma"/>
                <a:ea typeface="Tahoma"/>
              </a:rPr>
              <a:t>Zagreb, 12 Apr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560" y="825120"/>
            <a:ext cx="88311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While keeping wide diversity and simultaneously increasing readability, the Ministers of higher education agreed in Bucharest to explore further possible common principles for master programmes in the EHEA</a:t>
            </a:r>
            <a:r>
              <a:rPr b="0" lang="hr-HR" sz="1400" spc="-1" strike="noStrike">
                <a:solidFill>
                  <a:srgbClr val="002060"/>
                </a:solidFill>
                <a:latin typeface="Tahoma"/>
                <a:ea typeface="Tahoma"/>
              </a:rPr>
              <a:t>.</a:t>
            </a:r>
            <a:r>
              <a:rPr b="0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0" lang="hr-HR" sz="1400" spc="-1" strike="noStrike">
                <a:solidFill>
                  <a:srgbClr val="002060"/>
                </a:solidFill>
                <a:latin typeface="Tahoma"/>
                <a:ea typeface="Tahoma"/>
              </a:rPr>
              <a:t>(</a:t>
            </a:r>
            <a:r>
              <a:rPr b="0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Bucharest </a:t>
            </a:r>
            <a:r>
              <a:rPr b="0" lang="hr-HR" sz="1400" spc="-1" strike="noStrike">
                <a:solidFill>
                  <a:srgbClr val="002060"/>
                </a:solidFill>
                <a:latin typeface="Tahoma"/>
                <a:ea typeface="Tahoma"/>
              </a:rPr>
              <a:t>Communiqu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just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The purpose of the Seminar is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to boost discussions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 on: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 algn="just">
              <a:spcBef>
                <a:spcPts val="601"/>
              </a:spcBef>
              <a:spcAft>
                <a:spcPts val="601"/>
              </a:spcAft>
              <a:buClr>
                <a:srgbClr val="3c8c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How to reach more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coherence of 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the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second cycle degrees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 in the EHEA;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 algn="just">
              <a:spcBef>
                <a:spcPts val="601"/>
              </a:spcBef>
              <a:spcAft>
                <a:spcPts val="601"/>
              </a:spcAft>
              <a:buClr>
                <a:srgbClr val="3c8c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How to achieve the objective of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 making Master programmes in the EHEA more readable and transparent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 algn="just">
              <a:spcBef>
                <a:spcPts val="601"/>
              </a:spcBef>
              <a:spcAft>
                <a:spcPts val="601"/>
              </a:spcAft>
              <a:buClr>
                <a:srgbClr val="3c8c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To what extent may the LO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based study programmes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 help to reach these objective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 algn="just">
              <a:spcBef>
                <a:spcPts val="601"/>
              </a:spcBef>
              <a:spcAft>
                <a:spcPts val="601"/>
              </a:spcAft>
              <a:buClr>
                <a:srgbClr val="3c8c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Are there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quality differences 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in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demonstrable competences acquired after obtaining various second cycle qualifications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 algn="just">
              <a:spcBef>
                <a:spcPts val="601"/>
              </a:spcBef>
              <a:spcAft>
                <a:spcPts val="601"/>
              </a:spcAft>
              <a:buClr>
                <a:srgbClr val="3c8c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Do the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entrance requirements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 (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competences required to enroll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) vary between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study programme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 algn="just">
              <a:spcBef>
                <a:spcPts val="601"/>
              </a:spcBef>
              <a:spcAft>
                <a:spcPts val="601"/>
              </a:spcAft>
              <a:buClr>
                <a:srgbClr val="3c8c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How could the QFs and their LO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 descriptors enabl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e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 recognition of qualifications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;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 algn="just">
              <a:spcBef>
                <a:spcPts val="601"/>
              </a:spcBef>
              <a:spcAft>
                <a:spcPts val="601"/>
              </a:spcAft>
              <a:buClr>
                <a:srgbClr val="3c8c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Are there obstacles to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progression between professional 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and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university-based programmes</a:t>
            </a:r>
            <a:r>
              <a:rPr b="0" lang="hr-HR" sz="1400" spc="-1" strike="noStrike">
                <a:solidFill>
                  <a:srgbClr val="002060"/>
                </a:solidFill>
                <a:latin typeface="Arial"/>
                <a:ea typeface="Tahoma"/>
              </a:rPr>
              <a:t>.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8051760" y="4843440"/>
            <a:ext cx="63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61EC-26B0-48C6-B424-93F44B3A48AF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8280" y="4287960"/>
            <a:ext cx="80913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61645"/>
                </a:solidFill>
                <a:latin typeface="Arial"/>
              </a:rPr>
              <a:t>WELCOME TO CROAT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051760" y="4843440"/>
            <a:ext cx="63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4A7-E56B-48FA-B216-F8D11A797A69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 rot="911400">
            <a:off x="349200" y="2374560"/>
            <a:ext cx="2649600" cy="1724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 rot="20706600">
            <a:off x="810720" y="448920"/>
            <a:ext cx="2649600" cy="174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 rot="636000">
            <a:off x="6075000" y="358560"/>
            <a:ext cx="2556000" cy="170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 rot="20947200">
            <a:off x="6180120" y="2298600"/>
            <a:ext cx="2736720" cy="182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5"/>
          <a:stretch/>
        </p:blipFill>
        <p:spPr>
          <a:xfrm>
            <a:off x="2803680" y="1324080"/>
            <a:ext cx="35431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07:55:20Z</dcterms:created>
  <dc:creator>Ivana Fain</dc:creator>
  <dc:description/>
  <dc:language>en-US</dc:language>
  <cp:lastModifiedBy>agorsic</cp:lastModifiedBy>
  <dcterms:modified xsi:type="dcterms:W3CDTF">2013-03-11T08:41:49Z</dcterms:modified>
  <cp:revision>42</cp:revision>
  <dc:subject/>
  <dc:title>Slide 1</dc:title>
</cp:coreProperties>
</file>