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1A7-4A1F-4AAE-8D43-9F46CF3B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A95-565B-41CB-BC81-D120F4AA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C11-1779-43FA-9646-53ED1CBB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FF2-7C48-4D3C-83CD-9FF03903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E97B-7CA6-4619-9064-2EF64482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0C63-D5BB-43ED-AFFA-08C5BB5F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5611-ACEB-40DE-812F-4384505F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DD43-E590-4A23-8D2B-D4DD94BC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CB9F-942F-438B-BD28-7D9E9E0D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6E36-6672-4F82-8E1C-AEFB4EC6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C894-A74F-4E26-958A-C7600507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BFB-2E34-4337-83D2-DFCF0775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6716-3E90-4D6A-870C-BA0BAFBA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DE49-58C9-49D4-9EEA-20B68738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02F8-DA12-4E7E-93AC-70847AE5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4307-9F7D-4ABC-AC00-37A9CC68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FBDD-BEC2-4E0D-804C-C5A8D316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937-7C3E-4082-992E-AA4F6550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795-EF82-4215-BF5E-71DF27DF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54D-160A-4C78-821A-6A67D6BA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B4D-CA4B-4832-B0D3-7DA1FE4B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506-4F20-4C9A-AC94-7C10AE57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E08-36BF-48A8-8B80-57ED908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94E-8005-469A-BAE5-AD43B3E9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056F-A465-42E3-A3E7-41FC3CBADBB8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052D-3B68-4036-874A-B78FFD9639E4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1341360"/>
            <a:ext cx="814212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33"/>
                </a:solidFill>
                <a:latin typeface="Calibri"/>
              </a:rPr>
              <a:t>BFUG WG “structural reforms” </a:t>
            </a:r>
            <a:br>
              <a:rPr sz="2000"/>
            </a:br>
            <a:r>
              <a:rPr b="1" lang="en-GB" sz="3400" spc="-1" strike="noStrike">
                <a:solidFill>
                  <a:srgbClr val="006633"/>
                </a:solidFill>
                <a:latin typeface="Calibri"/>
              </a:rPr>
              <a:t>Report from the breakout session on recognition</a:t>
            </a:r>
            <a:br>
              <a:rPr sz="3400"/>
            </a:br>
            <a:br>
              <a:rPr sz="1900"/>
            </a:br>
            <a:r>
              <a:rPr b="1" lang="en-GB" sz="1900" spc="-1" strike="noStrike">
                <a:solidFill>
                  <a:srgbClr val="006633"/>
                </a:solidFill>
                <a:latin typeface="Calibri"/>
              </a:rPr>
              <a:t>Brussels, </a:t>
            </a:r>
            <a:br>
              <a:rPr sz="1900"/>
            </a:br>
            <a:r>
              <a:rPr b="1" lang="en-GB" sz="1900" spc="-1" strike="noStrike">
                <a:solidFill>
                  <a:srgbClr val="006633"/>
                </a:solidFill>
                <a:latin typeface="Calibri"/>
              </a:rPr>
              <a:t>13-14 November 2012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419640" y="4149720"/>
            <a:ext cx="5114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Calibri"/>
              </a:rPr>
              <a:t>Chair:</a:t>
            </a:r>
            <a:r>
              <a:rPr b="0" lang="fr-BE" sz="2100" spc="-1" strike="noStrike">
                <a:solidFill>
                  <a:srgbClr val="000000"/>
                </a:solidFill>
                <a:latin typeface="Calibri"/>
              </a:rPr>
              <a:t> Fr. Friedrich BECHINA (V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Calibri"/>
              </a:rPr>
              <a:t>Facilitator:</a:t>
            </a:r>
            <a:r>
              <a:rPr b="0" lang="fr-BE" sz="2100" spc="-1" strike="noStrike">
                <a:solidFill>
                  <a:srgbClr val="000000"/>
                </a:solidFill>
                <a:latin typeface="Calibri"/>
              </a:rPr>
              <a:t> Dr. Carita BLOMQVIST (F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Calibri"/>
              </a:rPr>
              <a:t>Rapporteur:</a:t>
            </a:r>
            <a:r>
              <a:rPr b="0" lang="fr-BE" sz="2100" spc="-1" strike="noStrike">
                <a:solidFill>
                  <a:srgbClr val="000000"/>
                </a:solidFill>
                <a:latin typeface="Calibri"/>
              </a:rPr>
              <a:t> Kevin GUILLAUME (BEf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599080"/>
            <a:ext cx="269388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6633"/>
                </a:solidFill>
                <a:latin typeface="Calibri"/>
              </a:rPr>
              <a:t>Purposes and background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ow to tackl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recognition within the WG “struc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ot the continuit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of the previous WG on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listic vision on the EHEA structural elements (i.e. recognition, QA and Q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nking out of the bo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Bu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relation/link with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PFG on A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recognition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still at the heart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 the BP/EH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33"/>
                </a:solidFill>
                <a:latin typeface="Calibri"/>
              </a:rPr>
              <a:t>Concept and rationale of recognitio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ognition,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positive or negativ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om the politician point of vi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pending a lo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 contexts, external factors, HE (hidden?) priorities, HE systemic feat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But still at the hear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f the BP/EH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RC focuses on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 individual interests but what brings recognition for the whole BP/EH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need to reinforce, communicate, make visible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the benefits of recognition for the BP/E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33"/>
                </a:solidFill>
                <a:latin typeface="Calibri"/>
              </a:rPr>
              <a:t>Interlinking recognition and other structural element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ost of the structural element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QA, QFs, LO, ECTS/DS) had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ositive impact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n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ny projects (at ‘practioner’ level) to reinforce those lin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Bu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 so many trans-sectors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links are clear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but still need for an holistic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entifying th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‘problematic’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ssibility of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apping exerci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of the triangle “recognition/QA/QFs” and their lin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33"/>
                </a:solidFill>
                <a:latin typeface="Calibri"/>
              </a:rPr>
              <a:t>Major achievements of the BP/EHEA on recognitio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uccess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ognition is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till at the heart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 BP/E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wareness, political commitment on LRC, recognition of study abroad, commo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Gap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ognition is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till at the heart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 BP/EHEA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l-life implementation? Mobility? What for the BP/EH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hances/challenges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herence of structural elements? LOs as corner/ ‘ convergence’ 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utomatic recognition? Recognition no more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33"/>
                </a:solidFill>
                <a:latin typeface="Calibri"/>
              </a:rPr>
              <a:t>Recognition outside the BP/EHEA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any development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other regions, in particular Asia-Pa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gain, depending a lo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 contexts, external factors, HE (hidden?) priorities, HE systemic feat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ever, EHEA (and the LRC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as a strong role to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wards a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Global Convention on recognitio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iversity of expectation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m one region to another, from one country to anoth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gain, depending a lo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 contexts, external factors, HE (hidden?) priorities, HE systemic feat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33"/>
                </a:solidFill>
                <a:latin typeface="Calibri"/>
              </a:rPr>
              <a:t>And now, where to go?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recognition in the BP/EH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 to the “ground flo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, why and how the “structural triangl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 to the “second floor” and the “key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links with transversal issues, including the automatic recogni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extension to the “EHEA house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23:18:46Z</dcterms:created>
  <dc:creator>CFWB</dc:creator>
  <dc:description/>
  <dc:language>en-US</dc:language>
  <cp:lastModifiedBy>ETNIC</cp:lastModifiedBy>
  <dcterms:modified xsi:type="dcterms:W3CDTF">2012-12-14T07:09:15Z</dcterms:modified>
  <cp:revision>52</cp:revision>
  <dc:subject/>
  <dc:title>Enquête sur la mise en œuvre  des acquis de l'apprentissage en CFWB Résultats préliminaires   Experts Bologne Journée thématique « acquis de l’apprentissage» 16 novembre 2010, Bruxelles</dc:title>
</cp:coreProperties>
</file>