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D75-74B0-4D92-B43C-9149754C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8E9-73BF-4016-9239-82B088BB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4CE-B2AC-4715-A2A6-3602E6B5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2D0-5410-4A50-8A22-BE4D7313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8FD1-23CC-46C1-AC4E-88315D6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77E82-C5B4-46CD-853A-254BADBE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3771-4519-468C-8A9E-C3A56C4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E264D-0455-40F8-9B4D-4475C0F5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39EF7-7263-4081-B8C3-50E6CB4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E17F-FB6E-4452-B882-CE1A35F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F3952-2C1F-45CE-B633-7E68CAD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3E6-ACBF-4EC9-9D65-7EEE6F8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28BD7-D5B8-4526-AD1D-D345A12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BB55-B370-46C2-83AC-C72ECC6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D178-6A6A-414A-81EA-0626AE8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3F3E5-8C54-4AFB-9111-38747C9D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DFEF6-364D-4DC2-8E0B-FE1E6589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144-FC41-402D-827C-00FF9341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F53-78EF-4D96-ADBC-29A18A1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C62-D735-4B0D-813D-87AE0AB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59E-ABF4-4056-A6F2-22669BB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2AB-D400-48A0-B7DB-6460DF5E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66C-F7AD-444F-A1CB-7C85F96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4A2-C737-4962-B733-592E57A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258-8587-41E9-BCBC-13EF5C099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65CD-1EAD-46E8-908E-C1D7F1838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3ff"/>
                </a:solidFill>
                <a:latin typeface="Arial"/>
              </a:rPr>
              <a:t>QUALIFICATIONS FRAMEWORKS IN THE EHEA: MAIN CHALLEN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FUG Mini Se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øbenhavn, January 19, 2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jur Bergan, Council of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3ff"/>
                </a:solidFill>
                <a:latin typeface="Arial"/>
              </a:rPr>
              <a:t>MINISTERS ON Q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ave an overarching framework (adopted in Bergen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will develop national frameworks compatible with the EHEA framework and prepared for self certification by 2012 (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Leuven changed deadli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a steep challenge and we need continued coordination even if QFs are ultimately a national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3ff"/>
                </a:solidFill>
                <a:latin typeface="Arial"/>
              </a:rPr>
              <a:t>THERE – OR ALMOS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or almost there: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 certified or close to self certification (steps 7 – 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l underway: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ps 5 or 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at least started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ps 1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e3ff"/>
                </a:solidFill>
                <a:latin typeface="Arial"/>
              </a:rPr>
              <a:t>CHALLENGE 1: MAKE QFs HAPP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outcomes must be developed, described, implemented and ass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s and QFs must describe reality – not just a paper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What do we do in relation to countries or institutions sticking to formal descriptions on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What are the consequences for the EHEA if QFs work only par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e3ff"/>
                </a:solidFill>
                <a:latin typeface="Arial"/>
              </a:rPr>
              <a:t>CHALLENGE 2 MAKE QFs MEANINGFU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udents, faculty, employers, institutions, public auth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ks QF – QA, QF- recognition; learning outcomes – professional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arning outcomes in teacher training (also HE facul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nks QF-EHEA - EQ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an QFs be meaningful if they do not open new learning path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an QFs be meaningful if one or more stakeholder groups find them of limited val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3e3ff"/>
                </a:solidFill>
                <a:latin typeface="Arial"/>
              </a:rPr>
              <a:t>CHALLENGE 3 MAKE QFs BOTH DIVERSE AND COHERENT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phasis shifts from structures to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Fs must be sufficiently diverse to be interesting and sufficiently coherent to work in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How can local practice be made coherent throughout the EH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What kind of EHEA coordination do we need from here onwa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3e3ff"/>
                </a:solidFill>
                <a:latin typeface="Arial"/>
              </a:rPr>
              <a:t>CHALLENGE 4: QFs AND OTHER POLICY AREA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ncreasing role of qualifications in knowledge socie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ck of opportunities for those without qual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Fs and learning outcomes in professional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lifications in areas such as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here can QFs be developed into useful tools for public policies in other ar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hat are the pitfalls and unintended consequen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3ff"/>
                </a:solidFill>
                <a:latin typeface="Arial"/>
              </a:rPr>
              <a:t>QFs IN THE EHEA 2020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 certification reviewed when needed but a means not an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ing outcomes developed, described, implemented, assessed in all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Fs open new learning p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A integrates QFs and their implementation in assessments and quality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Fs lead to easier recognition: substantial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6:24:04Z</dcterms:created>
  <dc:creator>bergan</dc:creator>
  <dc:description/>
  <dc:language>en-US</dc:language>
  <cp:lastModifiedBy>Irina Geanta</cp:lastModifiedBy>
  <dcterms:modified xsi:type="dcterms:W3CDTF">2012-01-11T07:34:03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Endorsed by BFUG Chair">
    <vt:lpwstr>1</vt:lpwstr>
  </property>
</Properties>
</file>