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8DFD3-92BD-45E9-A00B-734762075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D122-93F5-49A3-80D7-B2480DDB0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F5E7-C596-4964-A070-0705BE48C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3D44-E1D4-4CB6-9D07-4E9E1ACFE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9159-D634-4B05-800A-7D2444824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7B79-3DA7-47D5-87E0-E25E24118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80CEC-75B1-44B2-80B5-534DE4335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E282B-B127-45C8-B8E7-ABE29E11C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7A899-329D-4DEA-A310-D5356E0C1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87CA4-4623-4E49-906F-30355EDF8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B5F02-19C5-4B3C-A02F-A05BD2C17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61D59-1543-4152-8FED-5BE463BA4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B71A4-D4F9-479E-8649-362649BD7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CEA28-EBCF-4200-8ABB-838022D4D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B2AF2-6A66-437A-AA14-547553798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70B5A-D23D-4F1D-9F41-FBDCEE897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A8602-EC2E-45E1-9F6C-03E8419E5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903C2-A15F-4FD0-8907-E1DAEAB6D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EB6E-FBD1-45BD-B4D4-EA82A61B67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422360"/>
            <a:ext cx="8439120" cy="2124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QF-EHEA after 7 years</a:t>
            </a:r>
            <a:br>
              <a:rPr sz="4800"/>
            </a:br>
            <a:r>
              <a:rPr b="0" lang="en-US" sz="3200" spc="-1" strike="noStrike">
                <a:solidFill>
                  <a:srgbClr val="000000"/>
                </a:solidFill>
                <a:latin typeface="Arial"/>
              </a:rPr>
              <a:t>as viewed from higher education institutions</a:t>
            </a:r>
            <a:endParaRPr b="0" lang="en-US" sz="3200" spc="-1" strike="noStrike">
              <a:solidFill>
                <a:srgbClr val="000000"/>
              </a:solidFill>
              <a:latin typeface="Times New Roman"/>
            </a:endParaRPr>
          </a:p>
        </p:txBody>
      </p:sp>
      <p:sp>
        <p:nvSpPr>
          <p:cNvPr id="49" name="PlaceHolder 2"/>
          <p:cNvSpPr>
            <a:spLocks noGrp="1"/>
          </p:cNvSpPr>
          <p:nvPr>
            <p:ph type="subTitle"/>
          </p:nvPr>
        </p:nvSpPr>
        <p:spPr>
          <a:xfrm>
            <a:off x="1670040" y="3052800"/>
            <a:ext cx="6740640" cy="2666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FUG Mini Seminar, Copenhagen</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9 January 2012</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ryan Maguire</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Picture 4" descr=""/>
          <p:cNvPicPr/>
          <p:nvPr/>
        </p:nvPicPr>
        <p:blipFill>
          <a:blip r:embed="rId1"/>
          <a:stretch/>
        </p:blipFill>
        <p:spPr>
          <a:xfrm>
            <a:off x="3657600" y="5079960"/>
            <a:ext cx="2984400" cy="24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eneral reactions</a:t>
            </a:r>
            <a:endParaRPr b="0" lang="en-US" sz="4300" spc="-1" strike="noStrike">
              <a:solidFill>
                <a:srgbClr val="000000"/>
              </a:solidFill>
              <a:latin typeface="Times New Roman"/>
            </a:endParaRPr>
          </a:p>
        </p:txBody>
      </p:sp>
      <p:sp>
        <p:nvSpPr>
          <p:cNvPr id="5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EIs welcomed the QF-EHEA when it was launched</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EIs have contributed to the development of NFQ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EIs have extended learning outcomes approach into disciplinary "frameworks" e.g. in Tuning project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 in so many areas implementation is varied</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some countries the institutions emphasise learning outcomes as a aspect of changing pedagogical practice</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lsewhere the emphasis is on supporting mobility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QF has promoted comparability of degrees, particularly welcomed by the newer forms of professionally oriented higher educatio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sire to see Bologna action lines integrate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urrent issues</a:t>
            </a:r>
            <a:endParaRPr b="0" lang="en-US" sz="4300" spc="-1" strike="noStrike">
              <a:solidFill>
                <a:srgbClr val="000000"/>
              </a:solidFill>
              <a:latin typeface="Times New Roman"/>
            </a:endParaRPr>
          </a:p>
        </p:txBody>
      </p:sp>
      <p:sp>
        <p:nvSpPr>
          <p:cNvPr id="54" name="PlaceHolder 2"/>
          <p:cNvSpPr>
            <a:spLocks noGrp="1"/>
          </p:cNvSpPr>
          <p:nvPr>
            <p:ph/>
          </p:nvPr>
        </p:nvSpPr>
        <p:spPr>
          <a:xfrm>
            <a:off x="240840" y="1822320"/>
            <a:ext cx="9664920" cy="5762880"/>
          </a:xfrm>
          <a:prstGeom prst="rect">
            <a:avLst/>
          </a:prstGeom>
          <a:noFill/>
          <a:ln w="0">
            <a:noFill/>
          </a:ln>
        </p:spPr>
        <p:txBody>
          <a:bodyPr lIns="0" rIns="0" tIns="0" bIns="0" anchor="t">
            <a:normAutofit fontScale="98000"/>
          </a:bodyPr>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novation fatigue </a:t>
            </a:r>
            <a:endParaRPr b="0" lang="en-US" sz="27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QFs can be used to help institutions (and individual academic staff) integrate various pressures</a:t>
            </a:r>
            <a:endParaRPr b="0" lang="en-US" sz="2700" spc="-1" strike="noStrike">
              <a:solidFill>
                <a:srgbClr val="000000"/>
              </a:solidFill>
              <a:latin typeface="Times New Roman"/>
            </a:endParaRPr>
          </a:p>
          <a:p>
            <a:pPr lvl="2" marL="839880" indent="-27972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ent-centred curriculum design</a:t>
            </a:r>
            <a:endParaRPr b="0" lang="en-US" sz="2700" spc="-1" strike="noStrike">
              <a:solidFill>
                <a:srgbClr val="000000"/>
              </a:solidFill>
              <a:latin typeface="Times New Roman"/>
            </a:endParaRPr>
          </a:p>
          <a:p>
            <a:pPr lvl="2" marL="839880" indent="-27972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form of teaching and assessment practice</a:t>
            </a:r>
            <a:endParaRPr b="0" lang="en-US" sz="2700" spc="-1" strike="noStrike">
              <a:solidFill>
                <a:srgbClr val="000000"/>
              </a:solidFill>
              <a:latin typeface="Times New Roman"/>
            </a:endParaRPr>
          </a:p>
          <a:p>
            <a:pPr lvl="2" marL="839880" indent="-27972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gagement with employers and other external stakeholders</a:t>
            </a:r>
            <a:endParaRPr b="0" lang="en-US" sz="2700" spc="-1" strike="noStrike">
              <a:solidFill>
                <a:srgbClr val="000000"/>
              </a:solidFill>
              <a:latin typeface="Times New Roman"/>
            </a:endParaRPr>
          </a:p>
          <a:p>
            <a:pPr lvl="2" marL="839880" indent="-27972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tinuous quality enhancement</a:t>
            </a:r>
            <a:endParaRPr b="0" lang="en-US" sz="2700" spc="-1" strike="noStrike">
              <a:solidFill>
                <a:srgbClr val="000000"/>
              </a:solidFill>
              <a:latin typeface="Times New Roman"/>
            </a:endParaRPr>
          </a:p>
          <a:p>
            <a:pPr lvl="2" marL="839880" indent="-27972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nationalistion</a:t>
            </a:r>
            <a:endParaRPr b="0" lang="en-US" sz="2700" spc="-1" strike="noStrike">
              <a:solidFill>
                <a:srgbClr val="000000"/>
              </a:solidFill>
              <a:latin typeface="Times New Roman"/>
            </a:endParaRPr>
          </a:p>
          <a:p>
            <a:pPr lvl="2" marL="839880" indent="-27972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rengthening teaching/research nexus</a:t>
            </a:r>
            <a:endParaRPr b="0" lang="en-US" sz="27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corporate QFs fully into Quality Assurance</a:t>
            </a:r>
            <a:endParaRPr b="0" lang="en-US" sz="2700" spc="-1" strike="noStrike">
              <a:solidFill>
                <a:srgbClr val="000000"/>
              </a:solidFill>
              <a:latin typeface="Times New Roman"/>
            </a:endParaRPr>
          </a:p>
          <a:p>
            <a:pPr lvl="2" marL="839880" indent="-27972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P-ESG finding</a:t>
            </a:r>
            <a:endParaRPr b="0" lang="en-US" sz="27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hesion with EQF-LLL, especially regulated professions</a:t>
            </a:r>
            <a:endParaRPr b="0" lang="en-US" sz="27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om intended learning outcomes to assessed learning outcom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40840" y="298440"/>
            <a:ext cx="966492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Quality assurance of qualifications frameworks</a:t>
            </a:r>
            <a:endParaRPr b="0" lang="en-US" sz="3500" spc="-1" strike="noStrike">
              <a:solidFill>
                <a:srgbClr val="000000"/>
              </a:solidFill>
              <a:latin typeface="Times New Roman"/>
            </a:endParaRPr>
          </a:p>
        </p:txBody>
      </p:sp>
      <p:sp>
        <p:nvSpPr>
          <p:cNvPr id="5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QFs are designed to be stable, not rigid</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lan to review impact of NQFs </a:t>
            </a:r>
            <a:r>
              <a:rPr b="0" i="1" lang="en-US" sz="2700" spc="-1" strike="noStrike">
                <a:solidFill>
                  <a:srgbClr val="000000"/>
                </a:solidFill>
                <a:latin typeface="Arial"/>
              </a:rPr>
              <a:t>soon</a:t>
            </a:r>
            <a:r>
              <a:rPr b="0" lang="en-US" sz="2700" spc="-1" strike="noStrike">
                <a:solidFill>
                  <a:srgbClr val="000000"/>
                </a:solidFill>
                <a:latin typeface="Arial"/>
              </a:rPr>
              <a:t> after initial implementatio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motion of NQFs to general public is important to build student demand and employer demand (for framework concepts, particularly learning outcomes) which in turn stimulates the institutions to take QF seriously as a core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0840" y="298080"/>
            <a:ext cx="9664920" cy="12510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Further effects of NFQs on public policy outside of HE institutions</a:t>
            </a:r>
            <a:endParaRPr b="0" lang="en-US" sz="4300" spc="-1" strike="noStrike">
              <a:solidFill>
                <a:srgbClr val="000000"/>
              </a:solidFill>
              <a:latin typeface="Times New Roman"/>
            </a:endParaRPr>
          </a:p>
        </p:txBody>
      </p:sp>
      <p:sp>
        <p:nvSpPr>
          <p:cNvPr id="5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atistic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ublic appointment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lanning (and funding?)</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bility and migratio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Irina Geanta</cp:lastModifiedBy>
  <dcterms:modified xsi:type="dcterms:W3CDTF">2012-02-03T14:37:38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Endorsed by BFUG Chair">
    <vt:lpwstr>1</vt:lpwstr>
  </property>
</Properties>
</file>