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EC1C5-FF0C-4AA4-BB7A-6BEBB94F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76496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1E5A1-2AD3-46E6-9B3B-4FDDCCFA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4DF39-6F53-4902-BC4C-148D71D2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32763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32763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7649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7649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7649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1472C-07EB-4EBE-9D8F-68AB179F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052C6-88CB-4792-8DAE-4327C4D8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76496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76496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32763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32763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7649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7649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764960"/>
            <a:ext cx="264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DDD59-0E43-46C1-BBB5-EDFB4961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C4FE5-13B7-40F5-8A3B-5E08F61C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31F7E-380A-4A72-BC7A-E7531AA4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EB56D-75D5-4603-A9C9-56971DF1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5598D-B11D-435F-B6DB-2041D2EB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7649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C71FE-9656-44E2-9408-6CC77A94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3276360"/>
            <a:ext cx="4015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76496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14234-69F6-4E26-AD77-5B48D702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67480" indent="-26748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7480" indent="-2674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267480" indent="-26748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67480" indent="-2674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67480" indent="-2674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67480" indent="-2674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stand_european.png"/>
          <p:cNvPicPr/>
          <p:nvPr/>
        </p:nvPicPr>
        <p:blipFill>
          <a:blip r:embed="rId2"/>
          <a:stretch/>
        </p:blipFill>
        <p:spPr>
          <a:xfrm>
            <a:off x="-592200" y="-228600"/>
            <a:ext cx="2725920" cy="2192400"/>
          </a:xfrm>
          <a:prstGeom prst="rect">
            <a:avLst/>
          </a:prstGeom>
          <a:ln w="0">
            <a:noFill/>
          </a:ln>
        </p:spPr>
      </p:pic>
      <p:sp>
        <p:nvSpPr>
          <p:cNvPr id="4" name="TextBox 9"/>
          <p:cNvSpPr/>
          <p:nvPr/>
        </p:nvSpPr>
        <p:spPr>
          <a:xfrm>
            <a:off x="6019920" y="584280"/>
            <a:ext cx="2666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E-mail:</a:t>
            </a:r>
            <a:br>
              <a:rPr sz="1500"/>
            </a:b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Website: www.ehea.in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0"/>
          <p:cNvSpPr/>
          <p:nvPr/>
        </p:nvSpPr>
        <p:spPr>
          <a:xfrm>
            <a:off x="6019920" y="19512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Bologna Follow-Up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6"/>
          <p:cNvSpPr/>
          <p:nvPr/>
        </p:nvSpPr>
        <p:spPr>
          <a:xfrm>
            <a:off x="2819520" y="600120"/>
            <a:ext cx="5945040" cy="619200"/>
          </a:xfrm>
          <a:custGeom>
            <a:avLst/>
            <a:gdLst/>
            <a:ahLst/>
            <a:rect l="l" t="t" r="r" b="b"/>
            <a:pathLst>
              <a:path w="7162799" h="1066800">
                <a:moveTo>
                  <a:pt x="177804" y="0"/>
                </a:moveTo>
                <a:lnTo>
                  <a:pt x="7162799" y="0"/>
                </a:lnTo>
                <a:lnTo>
                  <a:pt x="7162799" y="1066800"/>
                </a:lnTo>
                <a:lnTo>
                  <a:pt x="0" y="1066800"/>
                </a:lnTo>
                <a:lnTo>
                  <a:pt x="0" y="1066800"/>
                </a:lnTo>
                <a:lnTo>
                  <a:pt x="0" y="1066800"/>
                </a:lnTo>
                <a:lnTo>
                  <a:pt x="0" y="177804"/>
                </a:lnTo>
                <a:cubicBezTo>
                  <a:pt x="0" y="130647"/>
                  <a:pt x="18733" y="85422"/>
                  <a:pt x="52078" y="52078"/>
                </a:cubicBezTo>
                <a:cubicBezTo>
                  <a:pt x="85423" y="18733"/>
                  <a:pt x="130648" y="1"/>
                  <a:pt x="177805" y="1"/>
                </a:cubicBezTo>
                <a:lnTo>
                  <a:pt x="177804" y="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17"/>
          <p:cNvSpPr/>
          <p:nvPr/>
        </p:nvSpPr>
        <p:spPr>
          <a:xfrm>
            <a:off x="6019920" y="196920"/>
            <a:ext cx="2743200" cy="403200"/>
          </a:xfrm>
          <a:custGeom>
            <a:avLst/>
            <a:gdLst/>
            <a:ahLst/>
            <a:rect l="l" t="t" r="r" b="b"/>
            <a:pathLst>
              <a:path w="7162799" h="1066800">
                <a:moveTo>
                  <a:pt x="177804" y="0"/>
                </a:moveTo>
                <a:lnTo>
                  <a:pt x="7162799" y="0"/>
                </a:lnTo>
                <a:lnTo>
                  <a:pt x="7162799" y="1066800"/>
                </a:lnTo>
                <a:lnTo>
                  <a:pt x="0" y="1066800"/>
                </a:lnTo>
                <a:lnTo>
                  <a:pt x="0" y="1066800"/>
                </a:lnTo>
                <a:lnTo>
                  <a:pt x="0" y="1066800"/>
                </a:lnTo>
                <a:lnTo>
                  <a:pt x="0" y="177804"/>
                </a:lnTo>
                <a:cubicBezTo>
                  <a:pt x="0" y="130647"/>
                  <a:pt x="18733" y="85422"/>
                  <a:pt x="52078" y="52078"/>
                </a:cubicBezTo>
                <a:cubicBezTo>
                  <a:pt x="85423" y="18733"/>
                  <a:pt x="130648" y="1"/>
                  <a:pt x="177805" y="1"/>
                </a:cubicBezTo>
                <a:lnTo>
                  <a:pt x="177804" y="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DF58-9E0F-4098-96EC-09B93476B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DEAF-02D5-41D2-8840-C76E2625E94E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Freeform 14"/>
          <p:cNvSpPr/>
          <p:nvPr/>
        </p:nvSpPr>
        <p:spPr>
          <a:xfrm>
            <a:off x="457200" y="1219320"/>
            <a:ext cx="8307360" cy="5105160"/>
          </a:xfrm>
          <a:custGeom>
            <a:avLst/>
            <a:gdLst/>
            <a:ahLst/>
            <a:rect l="l" t="t" r="r" b="b"/>
            <a:pathLst>
              <a:path w="7162799" h="1066800">
                <a:moveTo>
                  <a:pt x="1" y="350293"/>
                </a:moveTo>
                <a:cubicBezTo>
                  <a:pt x="58882" y="168288"/>
                  <a:pt x="880680" y="20123"/>
                  <a:pt x="1642688" y="0"/>
                </a:cubicBezTo>
                <a:lnTo>
                  <a:pt x="7162799" y="0"/>
                </a:lnTo>
                <a:lnTo>
                  <a:pt x="7162799" y="1066800"/>
                </a:lnTo>
                <a:lnTo>
                  <a:pt x="0" y="1066800"/>
                </a:lnTo>
                <a:lnTo>
                  <a:pt x="0" y="1066800"/>
                </a:lnTo>
                <a:lnTo>
                  <a:pt x="0" y="1066800"/>
                </a:lnTo>
                <a:cubicBezTo>
                  <a:pt x="0" y="827964"/>
                  <a:pt x="1" y="589129"/>
                  <a:pt x="1" y="350293"/>
                </a:cubicBez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stand_european.png"/>
          <p:cNvPicPr/>
          <p:nvPr/>
        </p:nvPicPr>
        <p:blipFill>
          <a:blip r:embed="rId2"/>
          <a:stretch/>
        </p:blipFill>
        <p:spPr>
          <a:xfrm>
            <a:off x="-592200" y="-228600"/>
            <a:ext cx="2725920" cy="2192400"/>
          </a:xfrm>
          <a:prstGeom prst="rect">
            <a:avLst/>
          </a:prstGeom>
          <a:ln w="0">
            <a:noFill/>
          </a:ln>
        </p:spPr>
      </p:pic>
      <p:sp>
        <p:nvSpPr>
          <p:cNvPr id="48" name="TextBox 9"/>
          <p:cNvSpPr/>
          <p:nvPr/>
        </p:nvSpPr>
        <p:spPr>
          <a:xfrm>
            <a:off x="6019920" y="584280"/>
            <a:ext cx="2666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E-mail:</a:t>
            </a:r>
            <a:br>
              <a:rPr sz="1500"/>
            </a:b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Website: www.ehea.in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6019920" y="19512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Bologna Follow-Up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6"/>
          <p:cNvSpPr/>
          <p:nvPr/>
        </p:nvSpPr>
        <p:spPr>
          <a:xfrm>
            <a:off x="2819520" y="600120"/>
            <a:ext cx="5945040" cy="619200"/>
          </a:xfrm>
          <a:custGeom>
            <a:avLst/>
            <a:gdLst/>
            <a:ahLst/>
            <a:rect l="l" t="t" r="r" b="b"/>
            <a:pathLst>
              <a:path w="7162799" h="1066800">
                <a:moveTo>
                  <a:pt x="177804" y="0"/>
                </a:moveTo>
                <a:lnTo>
                  <a:pt x="7162799" y="0"/>
                </a:lnTo>
                <a:lnTo>
                  <a:pt x="7162799" y="1066800"/>
                </a:lnTo>
                <a:lnTo>
                  <a:pt x="0" y="1066800"/>
                </a:lnTo>
                <a:lnTo>
                  <a:pt x="0" y="1066800"/>
                </a:lnTo>
                <a:lnTo>
                  <a:pt x="0" y="1066800"/>
                </a:lnTo>
                <a:lnTo>
                  <a:pt x="0" y="177804"/>
                </a:lnTo>
                <a:cubicBezTo>
                  <a:pt x="0" y="130647"/>
                  <a:pt x="18733" y="85422"/>
                  <a:pt x="52078" y="52078"/>
                </a:cubicBezTo>
                <a:cubicBezTo>
                  <a:pt x="85423" y="18733"/>
                  <a:pt x="130648" y="1"/>
                  <a:pt x="177805" y="1"/>
                </a:cubicBezTo>
                <a:lnTo>
                  <a:pt x="177804" y="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7"/>
          <p:cNvSpPr/>
          <p:nvPr/>
        </p:nvSpPr>
        <p:spPr>
          <a:xfrm>
            <a:off x="6019920" y="196920"/>
            <a:ext cx="2743200" cy="403200"/>
          </a:xfrm>
          <a:custGeom>
            <a:avLst/>
            <a:gdLst/>
            <a:ahLst/>
            <a:rect l="l" t="t" r="r" b="b"/>
            <a:pathLst>
              <a:path w="7162799" h="1066800">
                <a:moveTo>
                  <a:pt x="177804" y="0"/>
                </a:moveTo>
                <a:lnTo>
                  <a:pt x="7162799" y="0"/>
                </a:lnTo>
                <a:lnTo>
                  <a:pt x="7162799" y="1066800"/>
                </a:lnTo>
                <a:lnTo>
                  <a:pt x="0" y="1066800"/>
                </a:lnTo>
                <a:lnTo>
                  <a:pt x="0" y="1066800"/>
                </a:lnTo>
                <a:lnTo>
                  <a:pt x="0" y="1066800"/>
                </a:lnTo>
                <a:lnTo>
                  <a:pt x="0" y="177804"/>
                </a:lnTo>
                <a:cubicBezTo>
                  <a:pt x="0" y="130647"/>
                  <a:pt x="18733" y="85422"/>
                  <a:pt x="52078" y="52078"/>
                </a:cubicBezTo>
                <a:cubicBezTo>
                  <a:pt x="85423" y="18733"/>
                  <a:pt x="130648" y="1"/>
                  <a:pt x="177805" y="1"/>
                </a:cubicBezTo>
                <a:lnTo>
                  <a:pt x="177804" y="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4"/>
          <p:cNvSpPr/>
          <p:nvPr/>
        </p:nvSpPr>
        <p:spPr>
          <a:xfrm>
            <a:off x="457200" y="1219320"/>
            <a:ext cx="8307360" cy="5105160"/>
          </a:xfrm>
          <a:custGeom>
            <a:avLst/>
            <a:gdLst/>
            <a:ahLst/>
            <a:rect l="l" t="t" r="r" b="b"/>
            <a:pathLst>
              <a:path w="7162799" h="1066800">
                <a:moveTo>
                  <a:pt x="1" y="350293"/>
                </a:moveTo>
                <a:cubicBezTo>
                  <a:pt x="58882" y="168288"/>
                  <a:pt x="880680" y="20123"/>
                  <a:pt x="1642688" y="0"/>
                </a:cubicBezTo>
                <a:lnTo>
                  <a:pt x="7162799" y="0"/>
                </a:lnTo>
                <a:lnTo>
                  <a:pt x="7162799" y="1066800"/>
                </a:lnTo>
                <a:lnTo>
                  <a:pt x="0" y="1066800"/>
                </a:lnTo>
                <a:lnTo>
                  <a:pt x="0" y="1066800"/>
                </a:lnTo>
                <a:lnTo>
                  <a:pt x="0" y="1066800"/>
                </a:lnTo>
                <a:cubicBezTo>
                  <a:pt x="0" y="827964"/>
                  <a:pt x="1" y="589129"/>
                  <a:pt x="1" y="350293"/>
                </a:cubicBez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67480" indent="-26748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7480" indent="-2674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267480" indent="-26748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67480" indent="-2674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67480" indent="-2674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67480" indent="-2674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ORKING GROUP ON QUALIFICATIONS FRAMEWORK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F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øbenhavn, January 18 – 19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jur Bergan, Council of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HE REVISED REPOR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sitive comments to the draft report in Krak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dentifies more clearly the recommendations of greatest political relevance and interest to Minst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me change in wording to accommodate BFUG com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more nuanced description of the state of current development on the basis of the implementation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ADY FOR ADOPTION – WE HOP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9" descr="Stock Photo titled: Capacity Crowd - People Applauding And Cheering For The Home Team, USE OF THIS IMAGE WITHOUT PERMISSION IS PROHIBITED"/>
          <p:cNvPicPr/>
          <p:nvPr/>
        </p:nvPicPr>
        <p:blipFill>
          <a:blip r:embed="rId1"/>
          <a:stretch/>
        </p:blipFill>
        <p:spPr>
          <a:xfrm>
            <a:off x="2133720" y="3048120"/>
            <a:ext cx="4762440" cy="3019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tilizator</dc:creator>
  <dc:description/>
  <dc:language>en-US</dc:language>
  <cp:lastModifiedBy>Irina Geanta</cp:lastModifiedBy>
  <dcterms:modified xsi:type="dcterms:W3CDTF">2012-01-11T07:33:10Z</dcterms:modified>
  <cp:revision>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Endorsed by BFUG Chair">
    <vt:lpwstr>1</vt:lpwstr>
  </property>
</Properties>
</file>