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455-5517-49B4-92C3-8BD8A170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342-8D47-451F-B66C-523A3751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0B6-1D5F-4DAC-99A7-716BC40A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B16-9D9F-4173-9FB9-4847057B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B423-463E-4A8E-9D0C-4DF9BE67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BC00-76A6-48EB-A997-8F06144D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7196-87A0-4A6F-BA05-A4AB29A1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4838-4ACE-4A7A-85DC-717A13DD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A7C4-EC14-4ADE-B67F-3E21D664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1B59-93A4-49FA-9280-512E8FF2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0912-C6AA-4C46-A788-3CDC1A18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ADD-3930-4529-BB58-50232AFF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0E2E-1ADD-4632-B8E3-1FAA8F5A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B6C9-D385-4608-8E50-4BCF3A43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805B-0E97-4F00-B603-FD04010D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BC94-643F-445C-9D2C-887302AC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5AE4-B82A-4E6C-B289-B5923F43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BA30D-8A7E-4036-A214-B448412A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B3AD-57E7-4254-8BB3-88538FA3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71AC0-7FF4-4A29-9E71-C1C15D55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998E9-5666-47CD-BB90-A9E62F94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7F38-1A6B-4A88-9F31-BCA4E8E8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6CF-BD8E-466C-9B72-ABC1646F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BDE6-F076-401A-864D-5A0577A7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EC70-37B8-4904-97BB-E7682D4E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F73B-0B06-486C-83BD-8A00BB25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DFBC-7643-4B90-BA9A-B79E7302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4A63-6718-479D-B758-5E28FDC2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954EA-E2E9-40DF-8383-C0FD1DC3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9D99-977B-4588-9A8E-24089108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5BD9C-2E3C-4F8C-A050-B9B85D55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7DF66-0E38-48E4-AF53-FFBB1D3F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D7E9C-4AA9-45D2-ACCF-A2DD5B1B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408-DBC5-4B7F-95DC-F5F0EA34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EEE5-5D83-4B04-B272-B3A02801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F65D-3B93-4E55-8385-13CCDDAB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68856-5EBC-4285-87F9-CF0B60B3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383BE-2994-499C-9F4E-B33BD9C5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91A92-DF47-4906-A427-92F2B793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2CD30-BCF9-4B92-83EA-2F29EB61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422C-1F43-485A-9A97-8EEFCB19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973BE-BEE1-4FC2-BA41-949A61F5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C6824-ABBA-48AB-8AF4-1A6DDA7F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6D775-A963-4002-9D7D-E280AF93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7FA-2A08-433C-AE1D-429DDDA6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9230-A07C-4710-BA7A-57BE6610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BBA0A-518D-4146-815D-6D15E39E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0BB0A-A4C0-4F3C-B27E-D0F8EBDE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1B6ED-2F62-4BFE-8756-8FF19E34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A0D65-D243-4EE8-8BC6-DFB2AAFC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E428F-9329-4408-A39C-2BDF18A3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FF7E8-5E9D-4751-B149-C43925D1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710B7-701B-45A2-ACE6-674C4792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4CCE1-5759-4FB8-89CA-F1B971FF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B13BB-A96A-480C-946B-195C1B02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826-6E68-43CB-B14D-48D2EF5B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DE82A-4E41-4CF7-8132-61A9EA14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5B245-5F12-40AE-A387-37E2DF70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03376-CA36-405E-8827-7A4040ED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F8351-0896-43BF-84EE-072DCFAF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BCEED-CBFF-48BE-A5C0-1F479BDB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61CE6-95A3-4535-A2BF-4412D4B8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BC939-8863-4F6E-AB60-A548F44F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8A19D-3E53-4D36-AC08-764764FF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E2B1A-6CB4-4A71-AA2B-3A147CCA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51CC1-0941-4A31-9AD6-E313000E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10B-C29E-4622-AC33-EDB1C57B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8DA77-08CC-433B-A6B8-A32FF24F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B24AF-7FD1-4022-BD30-AAECF87F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AF85D-D9CA-4188-A4E3-3EE1D3BF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869-E6A9-4BDF-BBC3-F8690F01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B23-11A0-4242-89AB-6D8539B5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7129-43E1-4925-B862-D4015FE341CB}" type="datetime">
              <a:rPr b="0" lang="ru-RU" sz="1100" spc="-1" strike="noStrike">
                <a:solidFill>
                  <a:srgbClr val="6d6452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B120-F654-4F2A-B4F7-B7FE82D677C1}" type="slidenum">
              <a:rPr b="0" lang="ru-RU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2966-4184-4302-B421-039D132AB764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6039-574B-49FA-ABAD-52800BC60D03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1E8F-1150-4AFD-ABBC-A9CB4B5227E1}" type="datetime">
              <a:rPr b="0" lang="ru-RU" sz="1100" spc="-1" strike="noStrike">
                <a:solidFill>
                  <a:srgbClr val="6d6452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D638-ADA0-43FE-B725-5A67488B9297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5896-4804-4A99-BA8F-0A3496B4A64D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7BD6-81FB-4CB1-AA86-584BC0EDA3AD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6"/>
          <p:cNvSpPr/>
          <p:nvPr/>
        </p:nvSpPr>
        <p:spPr>
          <a:xfrm>
            <a:off x="503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</p:txBody>
      </p:sp>
      <p:sp>
        <p:nvSpPr>
          <p:cNvPr id="165" name="Straight Connector 7"/>
          <p:cNvSpPr/>
          <p:nvPr/>
        </p:nvSpPr>
        <p:spPr>
          <a:xfrm>
            <a:off x="4805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11B1-3EC0-4ADD-85DA-DC51DA475591}" type="datetime">
              <a:rPr b="0" lang="ru-RU" sz="1100" spc="-1" strike="noStrike">
                <a:solidFill>
                  <a:srgbClr val="6d6452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6245-7EE0-4981-8E02-8B1E9B4B0648}" type="slidenum">
              <a:rPr b="0" lang="ru-RU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58A7-29D0-4E6D-945B-9A5D44DC138B}" type="datetime">
              <a:rPr b="0" lang="ru-RU" sz="1100" spc="-1" strike="noStrike">
                <a:solidFill>
                  <a:srgbClr val="6d6452"/>
                </a:solidFill>
                <a:latin typeface="Book Antiqua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E35C-2C86-4209-83FC-5B0A90A52CCE}" type="slidenum">
              <a:rPr b="0" lang="ru-RU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upload.wikimedia.org/wikipedia/commons/1/1a/Armenia_Museum_of_Art_and_History.jpg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Подзаголовок 2" descr=""/>
          <p:cNvPicPr/>
          <p:nvPr/>
        </p:nvPicPr>
        <p:blipFill>
          <a:blip r:embed="rId2"/>
          <a:stretch/>
        </p:blipFill>
        <p:spPr>
          <a:xfrm>
            <a:off x="1542960" y="2560680"/>
            <a:ext cx="6278760" cy="15238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4"/>
          <p:cNvSpPr/>
          <p:nvPr/>
        </p:nvSpPr>
        <p:spPr>
          <a:xfrm>
            <a:off x="3429000" y="51055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MINISTRY </a:t>
            </a:r>
            <a:r>
              <a:rPr b="0" lang="ru-RU" sz="2000" spc="-1" strike="noStrike">
                <a:solidFill>
                  <a:srgbClr val="302c24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c24"/>
                </a:solidFill>
                <a:latin typeface="Arial"/>
              </a:rPr>
              <a:t> EDUCATION 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c24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c24"/>
                </a:solidFill>
                <a:latin typeface="Arial"/>
              </a:rPr>
              <a:t> SCIENCE 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c24"/>
                </a:solidFill>
                <a:latin typeface="Arial"/>
              </a:rPr>
              <a:t>REPUBLIC OF 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c24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6680160" y="8701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c24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302c24"/>
                </a:solidFill>
                <a:latin typeface="Constantia"/>
              </a:rPr>
              <a:t>January 2012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</p:txBody>
      </p:sp>
    </p:spTree>
  </p:cSld>
  <p:transition advTm="9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46836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2c24"/>
                </a:solidFill>
                <a:latin typeface="Constantia"/>
                <a:ea typeface="ＭＳ Ｐゴシック"/>
              </a:rPr>
              <a:t>Brief  Historical Perspective</a:t>
            </a:r>
            <a:endParaRPr b="0" lang="en-US" sz="3200" spc="-1" strike="noStrike">
              <a:solidFill>
                <a:srgbClr val="302c24"/>
              </a:solidFill>
              <a:latin typeface="Constantia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58920" y="765000"/>
            <a:ext cx="87850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2c24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c24"/>
                </a:solidFill>
                <a:latin typeface="Constantia"/>
                <a:ea typeface="ＭＳ Ｐゴシック"/>
              </a:rPr>
              <a:t>Armenia is an ancient country with a long cultural and educational traditions.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buClr>
                <a:srgbClr val="302c24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buClr>
                <a:srgbClr val="302c24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c24"/>
                </a:solidFill>
                <a:latin typeface="Constantia"/>
                <a:ea typeface="ＭＳ Ｐゴシック"/>
              </a:rPr>
              <a:t>Education in Armenia, based on more than 1600 years of literary heritage  which  has  been regarded  as the main factor in maintaining national identity especially during the 6 centuries without  independent statehood.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buClr>
                <a:srgbClr val="302c24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c24"/>
                </a:solidFill>
                <a:latin typeface="Constantia"/>
                <a:ea typeface="ＭＳ Ｐゴシック"/>
              </a:rPr>
              <a:t>Armenian alphabet was invented in 405  and already in the   fifth century</a:t>
            </a:r>
            <a:r>
              <a:rPr b="0" lang="en-US" sz="2000" spc="-1" strike="noStrike">
                <a:solidFill>
                  <a:srgbClr val="302c24"/>
                </a:solidFill>
                <a:latin typeface="Constantia"/>
              </a:rPr>
              <a:t>  were   started universities that  by no means  were  secular, those institutions  had "faculties," comprised of several scholars who were organized into "departments" based on their fields of specialization. 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buClr>
                <a:srgbClr val="302c24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228600" y="0"/>
            <a:ext cx="8075520" cy="75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c24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Constantia"/>
              </a:rPr>
              <a:t>	</a:t>
            </a:r>
            <a:r>
              <a:rPr b="1" lang="en-US" sz="3200" spc="-1" strike="noStrike">
                <a:solidFill>
                  <a:srgbClr val="302c24"/>
                </a:solidFill>
                <a:latin typeface="Arial"/>
              </a:rPr>
              <a:t>KEY DATA</a:t>
            </a:r>
            <a:endParaRPr b="0" lang="en-US" sz="32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Population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:                  3,2 mln.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Land Area: 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29 743 sq.km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Ethnic Breakdown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:    Armenians –  97%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Minorities: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                  Russians (0,5%), Yezidis(1,3%), Others(0,3%)                                       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Religion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          Christianity,  adopted as a state religion in  301. 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Languages: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          Armenian (official), Russian, English, others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c24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2c24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2c24"/>
                </a:solidFill>
                <a:latin typeface="Book Antiqua"/>
              </a:rPr>
              <a:t>  </a:t>
            </a:r>
            <a:r>
              <a:rPr b="0" lang="en-US" sz="3600" spc="-1" strike="noStrike">
                <a:solidFill>
                  <a:srgbClr val="302c24"/>
                </a:solidFill>
                <a:latin typeface="Book Antiqua"/>
              </a:rPr>
              <a:t>KEY STATISTICS</a:t>
            </a:r>
            <a:endParaRPr b="0" lang="en-US" sz="36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3716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452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d6452"/>
                </a:solidFill>
                <a:latin typeface="Arial"/>
                <a:ea typeface="Arial"/>
              </a:rPr>
              <a:t>26 state  universities  with  14   branches</a:t>
            </a: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d6452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d6452"/>
                </a:solidFill>
                <a:latin typeface="Arial"/>
                <a:ea typeface="Arial"/>
              </a:rPr>
              <a:t>40 private  universities, 31 accredited</a:t>
            </a: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d6452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d6452"/>
                </a:solidFill>
                <a:latin typeface="Arial"/>
                <a:ea typeface="Arial"/>
              </a:rPr>
              <a:t>4 universities  that were established  within intergovernmental agreements</a:t>
            </a: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d6452"/>
                </a:solidFill>
                <a:latin typeface="Arial"/>
                <a:ea typeface="Arial"/>
              </a:rPr>
              <a:t>Total number of students  is 114,000  (  almost twice increased compared to 2004) and  general participation  ratio  has reached   30%</a:t>
            </a: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d6452"/>
                </a:solidFill>
                <a:latin typeface="Arial"/>
                <a:ea typeface="Arial"/>
              </a:rPr>
              <a:t>Total number of  academic  staff is   12, 200</a:t>
            </a:r>
            <a:r>
              <a:rPr b="0" lang="en-US" sz="2000" spc="-1" strike="noStrike">
                <a:solidFill>
                  <a:srgbClr val="6d645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d6452"/>
                </a:solidFill>
                <a:latin typeface="Arial"/>
                <a:ea typeface="Arial"/>
              </a:rPr>
              <a:t>  and  student/academic staff  ratio  has  increased from 6.4  to 9.4</a:t>
            </a: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d6452"/>
                </a:solidFill>
                <a:latin typeface="Arial"/>
                <a:ea typeface="Arial"/>
              </a:rPr>
              <a:t>HE   spending(%  of GDP)      -   3.2%     </a:t>
            </a: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305920" cy="22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302c24"/>
                </a:solidFill>
                <a:latin typeface="Book Antiqua"/>
              </a:rPr>
              <a:t>2012-2015 National  Priorities      </a:t>
            </a:r>
            <a:br>
              <a:rPr sz="4500"/>
            </a:br>
            <a:r>
              <a:rPr b="0" lang="en-US" sz="4500" spc="-1" strike="noStrike">
                <a:solidFill>
                  <a:srgbClr val="302c24"/>
                </a:solidFill>
                <a:latin typeface="Book Antiqua"/>
              </a:rPr>
              <a:t> </a:t>
            </a:r>
            <a:endParaRPr b="0" lang="en-US" sz="45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21896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trengthening  Quality  Assurance 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Development  of  financial  strategy  to increase  participation,  reduce   inequality,  raise   overall productivity of the sector (student loans, competitive  innovation fund, private investment)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Modernization of   Higher Education and Life Long Learning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National  qualification  framework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Modernization of curricula in academic disciplines  using  ECTS,   three cycle  system and  recognition  of  qualification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trengthening knowledge triangle: research-education-innovation  by integrating research and instruction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2"/>
          <a:stretch/>
        </p:blipFill>
        <p:spPr>
          <a:xfrm>
            <a:off x="390600" y="1090440"/>
            <a:ext cx="4699080" cy="946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malincho.com/travel/images/Armenia.jpg"/>
          <p:cNvPicPr/>
          <p:nvPr/>
        </p:nvPicPr>
        <p:blipFill>
          <a:blip r:embed="rId3"/>
          <a:stretch/>
        </p:blipFill>
        <p:spPr>
          <a:xfrm>
            <a:off x="108000" y="2637000"/>
            <a:ext cx="5040360" cy="403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File:Armenia Museum of Art and History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4076640"/>
            <a:ext cx="3851280" cy="2613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6"/>
          <a:stretch/>
        </p:blipFill>
        <p:spPr>
          <a:xfrm>
            <a:off x="-6480" y="6480"/>
            <a:ext cx="1109880" cy="865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4Armenia_Church1"/>
          <p:cNvPicPr/>
          <p:nvPr/>
        </p:nvPicPr>
        <p:blipFill>
          <a:blip r:embed="rId7"/>
          <a:stretch/>
        </p:blipFill>
        <p:spPr>
          <a:xfrm>
            <a:off x="5334120" y="692280"/>
            <a:ext cx="380988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>
            <a:off x="4713120" y="380880"/>
            <a:ext cx="4243680" cy="2971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4713120" y="3398760"/>
            <a:ext cx="4322880" cy="3011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4"/>
          <a:stretch/>
        </p:blipFill>
        <p:spPr>
          <a:xfrm>
            <a:off x="152280" y="376200"/>
            <a:ext cx="4419720" cy="2919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5"/>
          <a:stretch/>
        </p:blipFill>
        <p:spPr>
          <a:xfrm>
            <a:off x="228600" y="3429000"/>
            <a:ext cx="4343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d6452"/>
                </a:solidFill>
                <a:latin typeface="Book Antiqua"/>
              </a:rPr>
              <a:t>Thank you.  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6:09:34Z</dcterms:created>
  <dc:creator>Altruist</dc:creator>
  <dc:description/>
  <dc:language>en-US</dc:language>
  <cp:lastModifiedBy>Gayane Harutyunyan</cp:lastModifiedBy>
  <dcterms:modified xsi:type="dcterms:W3CDTF">2012-01-19T08:16:01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Endorsed by BFUG Chair">
    <vt:lpwstr>1</vt:lpwstr>
  </property>
</Properties>
</file>