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72CD-BF47-4980-88BE-ECFF2F75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D19D-672A-4619-ADD3-8FA0FB74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D506-A2EE-46EB-8B68-4C181943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FDB8-28B4-485F-BC6C-6C56C477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04DF-77B7-461D-BAA0-54515853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C7774-FAD5-4BD5-B9B3-BC236156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C305-2CC8-4447-89BF-5DB95C0B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C8F3-A105-45F1-8550-DE72E2B6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BECDE-273A-48A2-A650-13F5A000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5104-A60E-45F8-A612-7A4E2A38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ED077-8B29-49BE-A1BC-BCC59970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8CCB8-ED16-45B5-9FD4-AC335B0C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stand_european.png"/>
          <p:cNvPicPr/>
          <p:nvPr/>
        </p:nvPicPr>
        <p:blipFill>
          <a:blip r:embed="rId2"/>
          <a:stretch/>
        </p:blipFill>
        <p:spPr>
          <a:xfrm>
            <a:off x="-592200" y="-228600"/>
            <a:ext cx="272592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TextBox 9"/>
          <p:cNvSpPr/>
          <p:nvPr/>
        </p:nvSpPr>
        <p:spPr>
          <a:xfrm>
            <a:off x="6019920" y="584280"/>
            <a:ext cx="2666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-mail:</a:t>
            </a:r>
            <a:br>
              <a:rPr sz="1500"/>
            </a:b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Website: www.ehea.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>
            <a:off x="6019920" y="1951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Bologna Follow-Up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6"/>
          <p:cNvSpPr/>
          <p:nvPr/>
        </p:nvSpPr>
        <p:spPr>
          <a:xfrm>
            <a:off x="2819520" y="600120"/>
            <a:ext cx="5945040" cy="619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17"/>
          <p:cNvSpPr/>
          <p:nvPr/>
        </p:nvSpPr>
        <p:spPr>
          <a:xfrm>
            <a:off x="6019920" y="196920"/>
            <a:ext cx="2743200" cy="403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4C11-FD27-4EEC-B7B8-2F8F82302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844F-3E48-4A3C-B00F-62A0025C02D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14"/>
          <p:cNvSpPr/>
          <p:nvPr/>
        </p:nvSpPr>
        <p:spPr>
          <a:xfrm>
            <a:off x="457200" y="1219320"/>
            <a:ext cx="8307360" cy="510516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" y="350293"/>
                </a:moveTo>
                <a:cubicBezTo>
                  <a:pt x="58882" y="168288"/>
                  <a:pt x="880680" y="20123"/>
                  <a:pt x="1642688" y="0"/>
                </a:cubicBez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cubicBezTo>
                  <a:pt x="0" y="827964"/>
                  <a:pt x="1" y="589129"/>
                  <a:pt x="1" y="350293"/>
                </a:cubicBez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stand_european.png"/>
          <p:cNvPicPr/>
          <p:nvPr/>
        </p:nvPicPr>
        <p:blipFill>
          <a:blip r:embed="rId2"/>
          <a:stretch/>
        </p:blipFill>
        <p:spPr>
          <a:xfrm>
            <a:off x="-592200" y="-228600"/>
            <a:ext cx="2725920" cy="2192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6019920" y="584280"/>
            <a:ext cx="2666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-mail:</a:t>
            </a:r>
            <a:br>
              <a:rPr sz="1500"/>
            </a:b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Website: www.ehea.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019920" y="1951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Bologna Follow-Up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2819520" y="600120"/>
            <a:ext cx="5945040" cy="619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6019920" y="196920"/>
            <a:ext cx="2743200" cy="403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457200" y="1219320"/>
            <a:ext cx="8307360" cy="510516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" y="350293"/>
                </a:moveTo>
                <a:cubicBezTo>
                  <a:pt x="58882" y="168288"/>
                  <a:pt x="880680" y="20123"/>
                  <a:pt x="1642688" y="0"/>
                </a:cubicBez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cubicBezTo>
                  <a:pt x="0" y="827964"/>
                  <a:pt x="1" y="589129"/>
                  <a:pt x="1" y="350293"/>
                </a:cubicBez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WG Transparency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FUG, 18-19 Januar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ël Vercruy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6 meetings of the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2 seminars: WG-seminar (June 2011) and BFUG-seminar (October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Presentations: AHELO, KIS, EUMIDA, U-Map, U-Multirank, EUA report on rankings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07D0-E9D7-40BC-9E9F-114135A66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atum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C412-627F-4C01-A19D-D17F7BE4162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Transparency within EH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Diversity at system level, institutional level and at programme is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Diversity can only be maintained if we make the diversity more transpa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The implementation of the BP has contributed to improve transparency: degree structure, QF, quality, ECTS, DS, 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But the efficiency and effectiveness can be impr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There are still ga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2CE8-A203-4212-B107-FD3B2A32F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atum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F922-56B2-4647-9F6F-163192413CE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International develop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HE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Development of classifications as U-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Development of multi-dimensional and user-driven rankings: U-Multirank but also the global rankings are moving at that dir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European Tertiary Education Register: collecting data on the all activities of H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udit of rank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AB3C-A9E6-4A76-A9E5-329748158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jdelijke aanduiding voor datum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1F17-8842-42B2-8C54-0AE9DF0368F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Further developing and complementing the existing tools is needed to achieve a better understanding of the diver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Transparency should become a distinct aspect of HE policy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Democratization’ of the TT i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More efforts in making the TT meaning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Complementarity should be sought among 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A further adaptation of the Bologna TT to users’ preferences and capacities to collect information; evaluation of BTT from the perspective to inform decision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Encouraging the development of indicators related to T&amp;L and 3rd mi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1470-1B43-45B4-9B47-402DF898A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datum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7069-A628-43D2-A959-04798EA423E4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tilizator</dc:creator>
  <dc:description/>
  <dc:language>en-US</dc:language>
  <cp:lastModifiedBy>Unknown</cp:lastModifiedBy>
  <cp:lastPrinted>2012-01-15T09:47:31Z</cp:lastPrinted>
  <dcterms:modified xsi:type="dcterms:W3CDTF">2012-01-15T20:41:41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Endorsed by BFUG Chair">
    <vt:lpwstr>1</vt:lpwstr>
  </property>
</Properties>
</file>