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EE6-37A8-41A2-9D5D-9F19B0EDB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D62-712E-4D9A-99DB-6559F508F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0D64-8C56-4E78-8888-EDCE6C75E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0BC-C3CB-43C9-BDA3-FAE0E62DC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4AE6-E673-4E41-A156-BE01D23C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818F-CCC6-408F-9B80-EF48696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F678-2F01-424B-AA89-078A55F4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8376-951F-4ACD-AB31-D1CD667E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233B-46D4-45A3-8717-3413A55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5D60-910A-4B27-A9CF-507A33C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F027-CA60-4596-99BF-89D3A87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0698-C23E-4E33-8E9C-B063CE9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C9FD-A3DE-4E63-BF53-F393F463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CF71-656A-4682-BA24-736491D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B24F-625D-466F-9564-66720D79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6CAE-3E34-4059-A450-2B6C9C1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6"/>
          <p:cNvSpPr/>
          <p:nvPr/>
        </p:nvSpPr>
        <p:spPr>
          <a:xfrm>
            <a:off x="2819520" y="600120"/>
            <a:ext cx="5945040" cy="619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7"/>
          <p:cNvSpPr/>
          <p:nvPr/>
        </p:nvSpPr>
        <p:spPr>
          <a:xfrm>
            <a:off x="6019920" y="196920"/>
            <a:ext cx="2743200" cy="403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6F2-93E7-48D0-802A-25B9BEA5C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F2A-DB18-4F07-95B9-1C71516FD5F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14"/>
          <p:cNvSpPr/>
          <p:nvPr/>
        </p:nvSpPr>
        <p:spPr>
          <a:xfrm>
            <a:off x="457200" y="1219320"/>
            <a:ext cx="8307360" cy="510516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2819520" y="600120"/>
            <a:ext cx="5945040" cy="619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6019920" y="196920"/>
            <a:ext cx="2743200" cy="40320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457200" y="1219320"/>
            <a:ext cx="8307360" cy="510516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4520" indent="-1782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of Experts on Student Support in Europe (2009-2011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FUG meeting, Copenhage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-19 January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Presented by the former NESSIE Chairs (2009-201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Mia Wallin and Brian Pow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143000" y="3330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NESSIE report to BFUG meeting in Cracow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4920" y="2666880"/>
            <a:ext cx="632484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port on work of the network, inclu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y Information Templ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mplate on data ex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ery response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ring of Expert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reen Paper 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 Lending Facility at European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DC4-DABE-43DA-AAF8-21246F44F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B08D-725F-4B37-955B-6E7ECD833F6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8288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uggestions from BFUG members in Cracow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28800" y="2971440"/>
            <a:ext cx="6477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ailability of portability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and policy - promoting por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of the network with BF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mobility and social dimension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s of 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F81-9C6E-429F-9648-2FC63E56E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2EB-CAE2-4653-9709-5C737D0F962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ew Terms of Reference -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Alden Biesen 2010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and recommendations for the futu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12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rect reference to Leuven/Louvain-la-Neuve Communiqu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o promote the portability of grants and loans in order to facilitate greater mobility of students across the European Higher Educa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o support the related objectives of achieving more balanced flows of incoming and outgoing students across the European Higher Education Area and an improved participation rate from diverse student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o offer practical solutions for member countries in implementing schemes of portable student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o share information on developments in relation to the portability of student grants and loans in order to ensure balanced and sustainable mechanisms to support the mobility of stu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o raise issues of common concern in relation to the portability of student sup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AE43-CD50-4F3A-8109-89E97DBA6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FA3-4C59-41D7-AB07-D679BEC10D9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37160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ddendum to the Repor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1760" y="2209680"/>
            <a:ext cx="79246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Scope of the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promote the portability of grants and loans in order to facilitate greater mobility of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llenges and sensi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200" spc="-1" strike="noStrike">
                <a:solidFill>
                  <a:srgbClr val="000000"/>
                </a:solidFill>
                <a:latin typeface="Calibri"/>
              </a:rPr>
              <a:t>Future activities - Oslo Chairs meeting October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ntry information templ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ality assessment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 Lending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iaison with other BFUG Work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F424-4222-4582-9B99-A27292618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89E5-3391-488C-9006-80FE442FAE5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533520" y="287172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tilizator</dc:creator>
  <dc:description/>
  <dc:language>en-US</dc:language>
  <cp:lastModifiedBy>Irina Geanta</cp:lastModifiedBy>
  <dcterms:modified xsi:type="dcterms:W3CDTF">2012-01-16T12:19:04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