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850F-F2D1-4BC1-9D53-27BB7B54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8540-F399-47CF-83B3-E2A9A5FC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1609-CEDB-4683-BDAD-4A6A3246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9C59-E5B4-4241-9E22-C1382565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C013-221A-4695-B808-6940F70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B047-6312-4FEC-8E67-8BE8D30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B8DA-DDB7-476B-89FF-AA255E33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F966-4899-4467-A9E0-AC51EBB4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9FD9-9CEE-4309-B362-A2796F99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7D59-3833-4270-BB1F-2814384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E287-0474-4D6C-88CA-F05AFFF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2C16-5B0F-41B9-8EAA-732B71E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6"/>
          <p:cNvSpPr/>
          <p:nvPr/>
        </p:nvSpPr>
        <p:spPr>
          <a:xfrm>
            <a:off x="2819520" y="600120"/>
            <a:ext cx="5945040" cy="619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7"/>
          <p:cNvSpPr/>
          <p:nvPr/>
        </p:nvSpPr>
        <p:spPr>
          <a:xfrm>
            <a:off x="6019920" y="196920"/>
            <a:ext cx="2743200" cy="403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01F-BAA5-4A9B-8D0B-B1E3D677E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88D4-7903-4291-A63E-379EFF64234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14"/>
          <p:cNvSpPr/>
          <p:nvPr/>
        </p:nvSpPr>
        <p:spPr>
          <a:xfrm>
            <a:off x="457200" y="1219320"/>
            <a:ext cx="8307360" cy="510516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5257800" y="584280"/>
            <a:ext cx="3429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 Peter.Greisler@bmbf.bund.de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2819520" y="600120"/>
            <a:ext cx="5945040" cy="619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6019920" y="196920"/>
            <a:ext cx="2743200" cy="403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457200" y="1219320"/>
            <a:ext cx="8307360" cy="510516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Working Group Mo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FU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18 and 19 January, 2012 Copenha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ork undertaken by the Mobility WG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Update since the last BFUG mee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further meetings of the WG Mobility, ongoing consultations on drafts of the mobility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8 November 2011 in Berlin: Workshop "Exploring the possibilities of an internet-based admission system for studies in the EHEA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articipants: more than 20 experts from 13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im: discuss possible actions and ideas to facilitate application at HEIs in the EHE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ain results of the workshop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horten response times for international applic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up a national website providing information about study programmes (SP), link it to a common websi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FUG: needs analysis amongst students and HEIs, take stock of and map existing admission systems, collect examples of good practice and explo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otential of using common standards for the description of SP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ays to facilitate access to relevant informatio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universities involved in organising ERASMUS Mundus Masters classes could cooperate in setting up a joint internet-based admission syste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ays to assist member countries in developing their national internet-based admission syste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ossibility of enhancing cooperation in verifying foreign certific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lusions have been inserted in the updated draft mobility strategy for the EHE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HEA Mobility Strategy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The WG Mobility proposes that the mobility strategy be adopted by the Ministers in Bucha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vised draft strategy since the BFUG meeting in Crac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fundamental changes with regard to content (except: outcome of the worksho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dundancies and details of the strategy which may have seemed too technical during the BFUG discussions of the first draft have been rem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w: a more political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Thank you for your attention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tilizator</dc:creator>
  <dc:description/>
  <dc:language>en-US</dc:language>
  <cp:lastModifiedBy>Irina Geanta</cp:lastModifiedBy>
  <dcterms:modified xsi:type="dcterms:W3CDTF">2012-01-16T17:20:31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</Properties>
</file>