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E5F-F38B-41D9-9F53-EA99DED7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657960"/>
            <a:ext cx="820728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06F-CD81-40B8-B74A-D99CA92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6579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6579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22C-6F99-4852-9D1D-C284A33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6579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6579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657960"/>
            <a:ext cx="26424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613-2872-4172-8248-BAE927D3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6B5-B970-47CF-80B8-D2DBB4FC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3A9-0F23-4620-8B32-3C6256A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11D-E77C-44F8-8DD4-9359D35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961-1050-49BC-A259-E124219C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2BF-20BA-40CE-B48D-E09C4A2B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6579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A55-073B-4CB6-B02C-71F72987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6579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9C7-D5AF-4A31-95DB-5DDD9F6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657960"/>
            <a:ext cx="8207280" cy="19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E9B-CE09-42AD-BBFC-AA9E24E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5660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1CD-59B0-4F76-AA07-6223AC8C9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uropean RP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to BFUG in Copenhagen, Jan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erms of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etwork’s Terms of Reference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nd inform the effective use and practice of RPL across participating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a means for member countries to share and learn from policies and practice across Europe in relation to RP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links between European countries at various stages in RPL develo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ration and meeting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s of a Steering Group constitute the formal mechanism for planning the activities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s that involve the whole Network focus on sharing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twork is seeking links to other projects and initiatives of interest pan-Europe and within member countries to maximise benefit/information exchange for members and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reas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RPL Discussion Group on Linked-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table of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 of Exper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981080" y="1557360"/>
          <a:ext cx="518004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57360"/>
                    <a:ext cx="51800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mmendations for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twork should continue in order that interested practitioners, government representatives and others can share knowledge and practice on R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hould not be responsible to or report directly to EHEA Ministers but should feed in developments through a Bologna Working Group, the most relevant current one being that o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air of the network should be a member of the Working Group into which the network feed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twork should elect a new Chair before June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mmendations for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countries should be more active in encouraging practitioners to join the network and sha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twork should as a priority look to obtain information from a wider range of countries, populate the table of expertise and explore greater cooperation with the related development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twork should explore the possibility of organising a conference or seminar event to further promote information sharing and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57:55Z</dcterms:created>
  <dc:creator>Alex Young</dc:creator>
  <dc:description/>
  <dc:language>en-US</dc:language>
  <cp:lastModifiedBy>Irina Geanta</cp:lastModifiedBy>
  <dcterms:modified xsi:type="dcterms:W3CDTF">2012-01-16T12:17:1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  <property fmtid="{D5CDD505-2E9C-101B-9397-08002B2CF9AE}" pid="4" name="Objective-Caveats">
    <vt:lpwstr/>
  </property>
  <property fmtid="{D5CDD505-2E9C-101B-9397-08002B2CF9AE}" pid="5" name="Objective-Classification">
    <vt:lpwstr>[Inherited - Not Protectively Marked]</vt:lpwstr>
  </property>
  <property fmtid="{D5CDD505-2E9C-101B-9397-08002B2CF9AE}" pid="6" name="Objective-Comment">
    <vt:lpwstr/>
  </property>
  <property fmtid="{D5CDD505-2E9C-101B-9397-08002B2CF9AE}" pid="7" name="Objective-CreationStamp">
    <vt:filetime>2012-01-09T17:39:30Z</vt:filetime>
  </property>
  <property fmtid="{D5CDD505-2E9C-101B-9397-08002B2CF9AE}" pid="8" name="Objective-Date Received [system]">
    <vt:lpwstr/>
  </property>
  <property fmtid="{D5CDD505-2E9C-101B-9397-08002B2CF9AE}" pid="9" name="Objective-Date of Original [system]">
    <vt:lpwstr/>
  </property>
  <property fmtid="{D5CDD505-2E9C-101B-9397-08002B2CF9AE}" pid="10" name="Objective-DatePublished">
    <vt:filetime>2012-01-10T11:32:14Z</vt:filetime>
  </property>
  <property fmtid="{D5CDD505-2E9C-101B-9397-08002B2CF9AE}" pid="11" name="Objective-FileNumber">
    <vt:lpwstr>POL/14440</vt:lpwstr>
  </property>
  <property fmtid="{D5CDD505-2E9C-101B-9397-08002B2CF9AE}" pid="12" name="Objective-Id">
    <vt:lpwstr>A1900278</vt:lpwstr>
  </property>
  <property fmtid="{D5CDD505-2E9C-101B-9397-08002B2CF9AE}" pid="13" name="Objective-IsApproved">
    <vt:bool>0</vt:bool>
  </property>
  <property fmtid="{D5CDD505-2E9C-101B-9397-08002B2CF9AE}" pid="14" name="Objective-IsPublished">
    <vt:bool>1</vt:bool>
  </property>
  <property fmtid="{D5CDD505-2E9C-101B-9397-08002B2CF9AE}" pid="15" name="Objective-ModificationStamp">
    <vt:filetime>2012-01-10T11:32:16Z</vt:filetime>
  </property>
  <property fmtid="{D5CDD505-2E9C-101B-9397-08002B2CF9AE}" pid="16" name="Objective-Owner">
    <vt:lpwstr>Young, Alex A (u208158)</vt:lpwstr>
  </property>
  <property fmtid="{D5CDD505-2E9C-101B-9397-08002B2CF9AE}" pid="17" name="Objective-Parent">
    <vt:lpwstr>Bologna process: Advice and policy: Colleges and universities file part 4: 2011-</vt:lpwstr>
  </property>
  <property fmtid="{D5CDD505-2E9C-101B-9397-08002B2CF9AE}" pid="18" name="Objective-Path">
    <vt:lpwstr>Objective Global Folder:SG File Plan:Education, careers and employment:Education and skills:Colleges and universities:Advice and policy: Colleges and universities:Bologna process: Advice and policy: Colleges and universities file part 4: 2011-:</vt:lpwstr>
  </property>
  <property fmtid="{D5CDD505-2E9C-101B-9397-08002B2CF9AE}" pid="19" name="Objective-SG Web Publication - Category 2 Classification [system]">
    <vt:lpwstr/>
  </property>
  <property fmtid="{D5CDD505-2E9C-101B-9397-08002B2CF9AE}" pid="20" name="Objective-SG Web Publication - Category [system]">
    <vt:lpwstr/>
  </property>
  <property fmtid="{D5CDD505-2E9C-101B-9397-08002B2CF9AE}" pid="21" name="Objective-State">
    <vt:lpwstr>Published</vt:lpwstr>
  </property>
  <property fmtid="{D5CDD505-2E9C-101B-9397-08002B2CF9AE}" pid="22" name="Objective-Title">
    <vt:lpwstr>European RPL Network - presentation to BFUG - January 2012</vt:lpwstr>
  </property>
  <property fmtid="{D5CDD505-2E9C-101B-9397-08002B2CF9AE}" pid="23" name="Objective-Version">
    <vt:lpwstr>2.0</vt:lpwstr>
  </property>
  <property fmtid="{D5CDD505-2E9C-101B-9397-08002B2CF9AE}" pid="24" name="Objective-VersionComment">
    <vt:lpwstr/>
  </property>
  <property fmtid="{D5CDD505-2E9C-101B-9397-08002B2CF9AE}" pid="25" name="Objective-VersionNumber">
    <vt:r8>3</vt:r8>
  </property>
</Properties>
</file>