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99BC-14EA-464C-BD5C-0D01378189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B960-B34F-44B4-A8DC-A4FE0E74D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416A-469A-41F6-BB3A-45CA77A13E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D22C-0D8C-41AA-9D04-2196F4FE4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0D2C-814A-4B2E-AC1A-341AF4FD93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CC8F-AE4C-48A8-8AE7-99C375504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D071-AF11-436B-8AE0-851154C1C4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4F69-A64A-4F39-82F2-4AC395A02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1F78E-5CAA-493C-A073-6A204FD5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7649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52EDD-31D2-4D22-9E1B-5613F0CC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C50DA-6669-4B09-832D-2BE0350F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C6CE4-C7E0-4269-82C7-54E410FD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A0B20-30EB-4E19-BBF6-7B15166C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7649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94DA2-D0A2-4DB5-AF33-EF6571DF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267DB-73B3-46D3-BF1F-F3585BAE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9906B-2113-4148-BBE5-FC24D9B7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457AA-C9C8-4AB7-B57E-FF7E5FA5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3DAE2-6C69-475D-84CE-8DD2949E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065CC-15DC-4729-938A-692A0EC1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E7A79-0500-4D18-8D6A-D93985DB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stand_european.png"/>
          <p:cNvPicPr/>
          <p:nvPr/>
        </p:nvPicPr>
        <p:blipFill>
          <a:blip r:embed="rId2"/>
          <a:stretch/>
        </p:blipFill>
        <p:spPr>
          <a:xfrm>
            <a:off x="-592200" y="-228600"/>
            <a:ext cx="2725920" cy="2192400"/>
          </a:xfrm>
          <a:prstGeom prst="rect">
            <a:avLst/>
          </a:prstGeom>
          <a:ln w="0">
            <a:noFill/>
          </a:ln>
        </p:spPr>
      </p:pic>
      <p:sp>
        <p:nvSpPr>
          <p:cNvPr id="4" name="TextBox 9"/>
          <p:cNvSpPr/>
          <p:nvPr/>
        </p:nvSpPr>
        <p:spPr>
          <a:xfrm>
            <a:off x="6019920" y="584280"/>
            <a:ext cx="2666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E-mail:</a:t>
            </a:r>
            <a:br>
              <a:rPr sz="1500"/>
            </a:b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Website: www.ehea.in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>
            <a:off x="6019920" y="19512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Bologna Follow-Up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6"/>
          <p:cNvSpPr/>
          <p:nvPr/>
        </p:nvSpPr>
        <p:spPr>
          <a:xfrm>
            <a:off x="2819520" y="600120"/>
            <a:ext cx="5945040" cy="619200"/>
          </a:xfrm>
          <a:custGeom>
            <a:avLst/>
            <a:gdLst/>
            <a:ahLst/>
            <a:rect l="l" t="t" r="r" b="b"/>
            <a:pathLst>
              <a:path w="7162799" h="1066800">
                <a:moveTo>
                  <a:pt x="177804" y="0"/>
                </a:moveTo>
                <a:lnTo>
                  <a:pt x="7162799" y="0"/>
                </a:lnTo>
                <a:lnTo>
                  <a:pt x="7162799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77804"/>
                </a:lnTo>
                <a:cubicBezTo>
                  <a:pt x="0" y="130647"/>
                  <a:pt x="18733" y="85422"/>
                  <a:pt x="52078" y="52078"/>
                </a:cubicBezTo>
                <a:cubicBezTo>
                  <a:pt x="85423" y="18733"/>
                  <a:pt x="130648" y="1"/>
                  <a:pt x="177805" y="1"/>
                </a:cubicBezTo>
                <a:lnTo>
                  <a:pt x="177804" y="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17"/>
          <p:cNvSpPr/>
          <p:nvPr/>
        </p:nvSpPr>
        <p:spPr>
          <a:xfrm>
            <a:off x="6019920" y="196920"/>
            <a:ext cx="2743200" cy="403200"/>
          </a:xfrm>
          <a:custGeom>
            <a:avLst/>
            <a:gdLst/>
            <a:ahLst/>
            <a:rect l="l" t="t" r="r" b="b"/>
            <a:pathLst>
              <a:path w="7162799" h="1066800">
                <a:moveTo>
                  <a:pt x="177804" y="0"/>
                </a:moveTo>
                <a:lnTo>
                  <a:pt x="7162799" y="0"/>
                </a:lnTo>
                <a:lnTo>
                  <a:pt x="7162799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77804"/>
                </a:lnTo>
                <a:cubicBezTo>
                  <a:pt x="0" y="130647"/>
                  <a:pt x="18733" y="85422"/>
                  <a:pt x="52078" y="52078"/>
                </a:cubicBezTo>
                <a:cubicBezTo>
                  <a:pt x="85423" y="18733"/>
                  <a:pt x="130648" y="1"/>
                  <a:pt x="177805" y="1"/>
                </a:cubicBezTo>
                <a:lnTo>
                  <a:pt x="177804" y="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E46B-EC94-43DE-B9F4-057C9C956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BAA8-4039-4D7C-AE96-56156939123E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Freeform 14"/>
          <p:cNvSpPr/>
          <p:nvPr/>
        </p:nvSpPr>
        <p:spPr>
          <a:xfrm>
            <a:off x="457200" y="1219320"/>
            <a:ext cx="8307360" cy="5105160"/>
          </a:xfrm>
          <a:custGeom>
            <a:avLst/>
            <a:gdLst/>
            <a:ahLst/>
            <a:rect l="l" t="t" r="r" b="b"/>
            <a:pathLst>
              <a:path w="7162799" h="1066800">
                <a:moveTo>
                  <a:pt x="1" y="350293"/>
                </a:moveTo>
                <a:cubicBezTo>
                  <a:pt x="58882" y="168288"/>
                  <a:pt x="880680" y="20123"/>
                  <a:pt x="1642688" y="0"/>
                </a:cubicBezTo>
                <a:lnTo>
                  <a:pt x="7162799" y="0"/>
                </a:lnTo>
                <a:lnTo>
                  <a:pt x="7162799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066800"/>
                </a:lnTo>
                <a:cubicBezTo>
                  <a:pt x="0" y="827964"/>
                  <a:pt x="1" y="589129"/>
                  <a:pt x="1" y="350293"/>
                </a:cubicBez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stand_european.png"/>
          <p:cNvPicPr/>
          <p:nvPr/>
        </p:nvPicPr>
        <p:blipFill>
          <a:blip r:embed="rId2"/>
          <a:stretch/>
        </p:blipFill>
        <p:spPr>
          <a:xfrm>
            <a:off x="-592200" y="-228600"/>
            <a:ext cx="2725920" cy="219240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6019920" y="584280"/>
            <a:ext cx="2666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E-mail:</a:t>
            </a:r>
            <a:br>
              <a:rPr sz="1500"/>
            </a:b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Website: www.ehea.in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6019920" y="19512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Bologna Follow-Up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6"/>
          <p:cNvSpPr/>
          <p:nvPr/>
        </p:nvSpPr>
        <p:spPr>
          <a:xfrm>
            <a:off x="2819520" y="600120"/>
            <a:ext cx="5945040" cy="619200"/>
          </a:xfrm>
          <a:custGeom>
            <a:avLst/>
            <a:gdLst/>
            <a:ahLst/>
            <a:rect l="l" t="t" r="r" b="b"/>
            <a:pathLst>
              <a:path w="7162799" h="1066800">
                <a:moveTo>
                  <a:pt x="177804" y="0"/>
                </a:moveTo>
                <a:lnTo>
                  <a:pt x="7162799" y="0"/>
                </a:lnTo>
                <a:lnTo>
                  <a:pt x="7162799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77804"/>
                </a:lnTo>
                <a:cubicBezTo>
                  <a:pt x="0" y="130647"/>
                  <a:pt x="18733" y="85422"/>
                  <a:pt x="52078" y="52078"/>
                </a:cubicBezTo>
                <a:cubicBezTo>
                  <a:pt x="85423" y="18733"/>
                  <a:pt x="130648" y="1"/>
                  <a:pt x="177805" y="1"/>
                </a:cubicBezTo>
                <a:lnTo>
                  <a:pt x="177804" y="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7"/>
          <p:cNvSpPr/>
          <p:nvPr/>
        </p:nvSpPr>
        <p:spPr>
          <a:xfrm>
            <a:off x="6019920" y="196920"/>
            <a:ext cx="2743200" cy="403200"/>
          </a:xfrm>
          <a:custGeom>
            <a:avLst/>
            <a:gdLst/>
            <a:ahLst/>
            <a:rect l="l" t="t" r="r" b="b"/>
            <a:pathLst>
              <a:path w="7162799" h="1066800">
                <a:moveTo>
                  <a:pt x="177804" y="0"/>
                </a:moveTo>
                <a:lnTo>
                  <a:pt x="7162799" y="0"/>
                </a:lnTo>
                <a:lnTo>
                  <a:pt x="7162799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77804"/>
                </a:lnTo>
                <a:cubicBezTo>
                  <a:pt x="0" y="130647"/>
                  <a:pt x="18733" y="85422"/>
                  <a:pt x="52078" y="52078"/>
                </a:cubicBezTo>
                <a:cubicBezTo>
                  <a:pt x="85423" y="18733"/>
                  <a:pt x="130648" y="1"/>
                  <a:pt x="177805" y="1"/>
                </a:cubicBezTo>
                <a:lnTo>
                  <a:pt x="177804" y="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4"/>
          <p:cNvSpPr/>
          <p:nvPr/>
        </p:nvSpPr>
        <p:spPr>
          <a:xfrm>
            <a:off x="457200" y="1219320"/>
            <a:ext cx="8307360" cy="5105160"/>
          </a:xfrm>
          <a:custGeom>
            <a:avLst/>
            <a:gdLst/>
            <a:ahLst/>
            <a:rect l="l" t="t" r="r" b="b"/>
            <a:pathLst>
              <a:path w="7162799" h="1066800">
                <a:moveTo>
                  <a:pt x="1" y="350293"/>
                </a:moveTo>
                <a:cubicBezTo>
                  <a:pt x="58882" y="168288"/>
                  <a:pt x="880680" y="20123"/>
                  <a:pt x="1642688" y="0"/>
                </a:cubicBezTo>
                <a:lnTo>
                  <a:pt x="7162799" y="0"/>
                </a:lnTo>
                <a:lnTo>
                  <a:pt x="7162799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066800"/>
                </a:lnTo>
                <a:cubicBezTo>
                  <a:pt x="0" y="827964"/>
                  <a:pt x="1" y="589129"/>
                  <a:pt x="1" y="350293"/>
                </a:cubicBez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NATIONAL OPENNESS WORKING GROUP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240" y="3657240"/>
            <a:ext cx="6705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FUG meeting, Copenhage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8-19 January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Presented by Ligia Dec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Head of the BFUG Secretariat, on behalf of Ms. Luminita Nicolescu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International Openness WG Ch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national Openness WG revised repor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ew additions following the feedback received in the Cracow BFUG meet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commendations for the BFU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commendations for the 2012 Bucharest Ministerial Communiq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ther relevant internationalisation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11426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. Recommendations for the BFUG 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533520" y="2062080"/>
            <a:ext cx="8305560" cy="41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The BFUG is encouraged t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Calibri"/>
              </a:rPr>
              <a:t>include internationalisation as one of the areas covered by the 2012-2015 Reporting exerci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Calibri"/>
              </a:rPr>
              <a:t>, for a proper evaluation to be performed in view of the 2015 Ministerial Conferenc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Calibri"/>
              </a:rPr>
              <a:t>facilitate a closer cooperation of the IO WG with the BFUG various structures in the futur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Calibri"/>
              </a:rPr>
              <a:t>. The first step could be including mobility as a specific topic in the existing national internationalisation strategies at EHEA and national level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Calibri"/>
              </a:rPr>
              <a:t>support the EHEA countries to actively commit to a joint approach, by acting under a “Bologna hat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Calibri"/>
              </a:rPr>
              <a:t>, not solely at institutional or national level.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Calibri"/>
              </a:rPr>
              <a:t>The proposal for a project commissioned to design a possible EHEA Promotion Strategy should to be endorsed by the BFU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Calibri"/>
              </a:rPr>
              <a:t>explore the possibility of designing a different concept for the future editions of the Bologna Policy Foru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Calibri"/>
              </a:rPr>
              <a:t>, maximising its potential as a tool for policy dialogue across HE regions, based on the feedback received from the National Contact Pers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1294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I. Recommendations for the Ministerial Communiqué and the Third Bologna Policy Forum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533520" y="2895480"/>
            <a:ext cx="800100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63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Ministers should reinforce their commitments from the 2007 “EHEA in a global setting” strategy, while additionally including mobility as a key component of national internationalisation strateg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63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IO WG welcomes the development of the European Area of Recognition (EAR) Manual as an important step aimed at enhancing future cooperation in the field of recogni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1294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 relevant internationalisation project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activities identified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533520" y="2590920"/>
            <a:ext cx="8001000" cy="27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ademic Cooperation Association (ACA) -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Mapping mobility in European higher educ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ntre for Higher Education Development (CHE) Consult and ACA -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„Indicators for Mapping and Profiling Internationalisation (IMPI)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uropean University Association -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Mapping University Mobility of Staff and Students (MAUNIMO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AU 3rd Global Survey Report –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Internationalisation of Higher Education: Global Trends Regional Perspectiv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533520" y="2871720"/>
            <a:ext cx="8001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ANK YOU!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tilizator</dc:creator>
  <dc:description/>
  <dc:language>en-US</dc:language>
  <cp:lastModifiedBy>Ligia</cp:lastModifiedBy>
  <dcterms:modified xsi:type="dcterms:W3CDTF">2012-01-16T21:00:33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Endorsed by BFUG Chair">
    <vt:lpwstr>1</vt:lpwstr>
  </property>
</Properties>
</file>